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4B2F-11C9-4E10-826A-80B3661C9ED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P header - END Decimal 1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C - Decimal 2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aces data END with ESC-Dec 2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aces data ESC with ESC-Dec 3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s IP datagram followed by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DLC- High Level Data Link Control, ISO - 3309 also used in X.25, Frame Relay, and ISD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CP - Link Control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CS - Frame Check Sequence -16-bitC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 Quality Monitoring - Definable test of link fail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P - Network Control Protoc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CP and NCP negotiate Network Layer connection between the two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4201-2B17-41B1-ABA7-39024B05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E480-728E-44BC-8E6D-C5C0CF27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54EC-D652-4560-AFCF-226FB4463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DC0B-FB0B-4D53-9C08-EAF6E8DC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DEB2-D7B0-401E-A1D9-8B0A8066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6255-EB58-4B75-B17D-55562279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DBA2-B9D6-4F8C-8A0B-8E3E8335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7209-366C-4685-9D09-937013A6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F53C-C60B-4F06-BF21-21AC14A8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DD3C-60A6-4F8F-B2E7-E5F8B5DA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AB0F-A4CD-4617-9E82-06D23CC5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71FC-B9E6-41EE-8AA6-83808CD9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0F52-115A-44FD-95A7-E9883963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636A-3281-442D-AA70-95E66F35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02D8-D154-4D2D-B44C-4DCD6C24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9275-982A-4691-9EC9-24057D6CC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13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4144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85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13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4144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0AEB-3C74-4522-8F6A-DB960442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616D-FA00-4A65-BCBA-AA7235C3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C084-ED81-4F7F-9FDF-421B6444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E86D-3318-4A99-A761-73271610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264D-2114-486A-AE4C-3B875222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1444-F75C-4E44-B8B6-4567365E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5E8B-CEDC-465E-920E-FBB7B1D4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D3FD-E04E-48A0-9832-3A46D906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797440"/>
            <a:ext cx="9167760" cy="1076400"/>
            <a:chOff x="0" y="5797440"/>
            <a:chExt cx="9167760" cy="1076400"/>
          </a:xfrm>
        </p:grpSpPr>
        <p:sp>
          <p:nvSpPr>
            <p:cNvPr id="1" name=""/>
            <p:cNvSpPr/>
            <p:nvPr/>
          </p:nvSpPr>
          <p:spPr>
            <a:xfrm>
              <a:off x="0" y="5835600"/>
              <a:ext cx="9166320" cy="1020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5797440"/>
              <a:ext cx="9167760" cy="1076400"/>
              <a:chOff x="0" y="5797440"/>
              <a:chExt cx="9167760" cy="1076400"/>
            </a:xfrm>
          </p:grpSpPr>
          <p:sp>
            <p:nvSpPr>
              <p:cNvPr id="3" name=""/>
              <p:cNvSpPr/>
              <p:nvPr/>
            </p:nvSpPr>
            <p:spPr>
              <a:xfrm>
                <a:off x="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8904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395360" y="5797440"/>
                <a:ext cx="920880" cy="1076400"/>
              </a:xfrm>
              <a:custGeom>
                <a:avLst/>
                <a:gdLst/>
                <a:ahLst/>
                <a:rect l="l" t="t" r="r" b="b"/>
                <a:pathLst>
                  <a:path w="580" h="678">
                    <a:moveTo>
                      <a:pt x="0" y="677"/>
                    </a:moveTo>
                    <a:lnTo>
                      <a:pt x="482" y="0"/>
                    </a:lnTo>
                    <a:lnTo>
                      <a:pt x="579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10348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81160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517920" y="5797440"/>
                <a:ext cx="920880" cy="1076400"/>
              </a:xfrm>
              <a:custGeom>
                <a:avLst/>
                <a:gdLst/>
                <a:ahLst/>
                <a:rect l="l" t="t" r="r" b="b"/>
                <a:pathLst>
                  <a:path w="580" h="678">
                    <a:moveTo>
                      <a:pt x="0" y="677"/>
                    </a:moveTo>
                    <a:lnTo>
                      <a:pt x="482" y="0"/>
                    </a:lnTo>
                    <a:lnTo>
                      <a:pt x="579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20696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91508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4192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367320" y="5797440"/>
                <a:ext cx="91944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11360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840800" y="5797440"/>
                <a:ext cx="919080" cy="1076400"/>
              </a:xfrm>
              <a:custGeom>
                <a:avLst/>
                <a:gdLst/>
                <a:ahLst/>
                <a:rect l="l" t="t" r="r" b="b"/>
                <a:pathLst>
                  <a:path w="579" h="678">
                    <a:moveTo>
                      <a:pt x="0" y="677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677"/>
                    </a:lnTo>
                    <a:lnTo>
                      <a:pt x="0" y="67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593200" y="6072120"/>
                <a:ext cx="574560" cy="801720"/>
              </a:xfrm>
              <a:custGeom>
                <a:avLst/>
                <a:gdLst/>
                <a:ahLst/>
                <a:rect l="l" t="t" r="r" b="b"/>
                <a:pathLst>
                  <a:path w="362" h="505">
                    <a:moveTo>
                      <a:pt x="0" y="504"/>
                    </a:moveTo>
                    <a:lnTo>
                      <a:pt x="361" y="0"/>
                    </a:lnTo>
                    <a:lnTo>
                      <a:pt x="361" y="122"/>
                    </a:lnTo>
                    <a:lnTo>
                      <a:pt x="96" y="504"/>
                    </a:lnTo>
                    <a:lnTo>
                      <a:pt x="0" y="50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CD89-F52A-4615-8F4D-977FBE8FFA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760840"/>
            <a:ext cx="9151920" cy="4113000"/>
            <a:chOff x="0" y="2760840"/>
            <a:chExt cx="9151920" cy="4113000"/>
          </a:xfrm>
        </p:grpSpPr>
        <p:grpSp>
          <p:nvGrpSpPr>
            <p:cNvPr id="58" name=""/>
            <p:cNvGrpSpPr/>
            <p:nvPr/>
          </p:nvGrpSpPr>
          <p:grpSpPr>
            <a:xfrm>
              <a:off x="0" y="5797440"/>
              <a:ext cx="9151920" cy="1076400"/>
              <a:chOff x="0" y="5797440"/>
              <a:chExt cx="9151920" cy="1076400"/>
            </a:xfrm>
          </p:grpSpPr>
          <p:sp>
            <p:nvSpPr>
              <p:cNvPr id="59" name=""/>
              <p:cNvSpPr/>
              <p:nvPr/>
            </p:nvSpPr>
            <p:spPr>
              <a:xfrm>
                <a:off x="0" y="5835600"/>
                <a:ext cx="9150480" cy="10209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0" y="5797440"/>
                <a:ext cx="9151920" cy="1076400"/>
                <a:chOff x="0" y="5797440"/>
                <a:chExt cx="9151920" cy="107640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68724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39392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210024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80656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351324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20048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4905360" y="5797440"/>
                  <a:ext cx="919080" cy="1076400"/>
                </a:xfrm>
                <a:custGeom>
                  <a:avLst/>
                  <a:gdLst/>
                  <a:ahLst/>
                  <a:rect l="l" t="t" r="r" b="b"/>
                  <a:pathLst>
                    <a:path w="579" h="678">
                      <a:moveTo>
                        <a:pt x="0" y="677"/>
                      </a:moveTo>
                      <a:lnTo>
                        <a:pt x="481" y="0"/>
                      </a:lnTo>
                      <a:lnTo>
                        <a:pt x="578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5630760" y="5797440"/>
                  <a:ext cx="919440" cy="1076400"/>
                </a:xfrm>
                <a:custGeom>
                  <a:avLst/>
                  <a:gdLst/>
                  <a:ahLst/>
                  <a:rect l="l" t="t" r="r" b="b"/>
                  <a:pathLst>
                    <a:path w="579" h="678">
                      <a:moveTo>
                        <a:pt x="0" y="677"/>
                      </a:moveTo>
                      <a:lnTo>
                        <a:pt x="481" y="0"/>
                      </a:lnTo>
                      <a:lnTo>
                        <a:pt x="578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6356520" y="5797440"/>
                  <a:ext cx="919080" cy="1076400"/>
                </a:xfrm>
                <a:custGeom>
                  <a:avLst/>
                  <a:gdLst/>
                  <a:ahLst/>
                  <a:rect l="l" t="t" r="r" b="b"/>
                  <a:pathLst>
                    <a:path w="579" h="678">
                      <a:moveTo>
                        <a:pt x="0" y="677"/>
                      </a:moveTo>
                      <a:lnTo>
                        <a:pt x="481" y="0"/>
                      </a:lnTo>
                      <a:lnTo>
                        <a:pt x="578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01000" y="5797440"/>
                  <a:ext cx="919080" cy="1076400"/>
                </a:xfrm>
                <a:custGeom>
                  <a:avLst/>
                  <a:gdLst/>
                  <a:ahLst/>
                  <a:rect l="l" t="t" r="r" b="b"/>
                  <a:pathLst>
                    <a:path w="579" h="678">
                      <a:moveTo>
                        <a:pt x="0" y="677"/>
                      </a:moveTo>
                      <a:lnTo>
                        <a:pt x="481" y="0"/>
                      </a:lnTo>
                      <a:lnTo>
                        <a:pt x="578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82640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8577360" y="6072120"/>
                  <a:ext cx="574560" cy="801720"/>
                </a:xfrm>
                <a:custGeom>
                  <a:avLst/>
                  <a:gdLst/>
                  <a:ahLst/>
                  <a:rect l="l" t="t" r="r" b="b"/>
                  <a:pathLst>
                    <a:path w="362" h="505">
                      <a:moveTo>
                        <a:pt x="0" y="504"/>
                      </a:moveTo>
                      <a:lnTo>
                        <a:pt x="361" y="0"/>
                      </a:lnTo>
                      <a:lnTo>
                        <a:pt x="361" y="122"/>
                      </a:lnTo>
                      <a:lnTo>
                        <a:pt x="96" y="504"/>
                      </a:lnTo>
                      <a:lnTo>
                        <a:pt x="0" y="50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" name=""/>
            <p:cNvSpPr/>
            <p:nvPr/>
          </p:nvSpPr>
          <p:spPr>
            <a:xfrm>
              <a:off x="0" y="2760840"/>
              <a:ext cx="819000" cy="1449360"/>
            </a:xfrm>
            <a:custGeom>
              <a:avLst/>
              <a:gdLst/>
              <a:ahLst/>
              <a:rect l="l" t="t" r="r" b="b"/>
              <a:pathLst>
                <a:path w="516" h="913">
                  <a:moveTo>
                    <a:pt x="0" y="0"/>
                  </a:moveTo>
                  <a:lnTo>
                    <a:pt x="515" y="0"/>
                  </a:ln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F718-17D3-427F-A2F1-89B13DA6D6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Remote Network Server Access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chael P. Andr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ritech Electronic Comme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ior Technology Consult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 Services  - National Ope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ike.Andrews@Ameritech.COM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ke@MikeA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7F72-63B2-4B56-B6B7-F5E00F95FD1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TCP/IP on LAN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Network Layer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tscape  (Applicatio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TTP (Presentation/Sessio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CP (Transpor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P (Network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thernet (Data Link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wisted Pair (Physical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24CB-3CCE-40FC-8E39-342A8C6489A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TCP/IP on Dial-up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Network Layer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tscape  (Applicatio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TTP (Presentation/Sessio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CP (Transpor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P (Network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PP (Data Link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rial Modem (Physical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A086-DC53-40D7-BEB3-9D0FF3EDC44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Application</a:t>
            </a:r>
            <a:br>
              <a:rPr sz="4200"/>
            </a:b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 “doesn’t see a difference”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440" y="1714320"/>
            <a:ext cx="380988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tscape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TTP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C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P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Ethern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Twisted Pai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47960" y="1714320"/>
            <a:ext cx="380988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al-u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tscape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TTP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CP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PP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Serial Modem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7B26-6799-4A2D-9078-A16EC1D043D1}" type="slidenum">
              <a:t>1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SLIP vs. PPP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440" y="1714320"/>
            <a:ext cx="380988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LI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rial Link I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P with minimal hea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 error check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P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ONL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47960" y="1714320"/>
            <a:ext cx="380988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P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int to Protoco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DL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CP - Error check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QM - F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CP - Carries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Multiple Protocol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PCP  (I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PXCP (IP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CP (Appletal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BCP (NetBI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50B7-CED1-430F-9466-0CA78D5A2693}" type="slidenum">
              <a:t>1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PPP Node Authentication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ain text password sent across line during PPP negoti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A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ssword is MD5 digest key to random challenge, password never crosses the lin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hallenge periodically re-occurs during PPP conne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1752480" y="5018040"/>
          <a:ext cx="6096240" cy="16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5018040"/>
                    <a:ext cx="609624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5CF5-0931-4B5B-BCF9-0D3BFF94AEA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Out of Band Node Authentication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Username/Passwor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e script to answer promp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ssword may be expos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aller I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ject call if not from home number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esn’t support “Road Warrior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allbac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A345-6870-4167-8875-4093C913F58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More Secure Node Authentication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850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One time Passwor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/Ke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ftware freely availa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ke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ure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th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FCF8-6989-4398-9B0C-86E60F88CF7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Dial-up Link choices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alog Mode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ellular Mode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gital ISDN “Modem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gital ISDN Rout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Arial"/>
              </a:rPr>
              <a:t>Packet Servi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33"/>
                </a:solidFill>
                <a:latin typeface="Arial"/>
              </a:rPr>
              <a:t>ADS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F3A9-8374-4539-A0FC-F18173E25C1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Analog Modem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vailable in Internal/External/PC car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es existing POTS phone l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*67, to disable Call Wai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fting phone extension causes erro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st with separate phone l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apters available for use with Digital PBX lines (connects to handset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71E2-9A64-4676-A72A-EC03D837145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V.34bis Modem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p to 33.6Kbp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rror  correc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aptive link spe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wnshifts” for poor-quality l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ta Compres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p to 4X better throughpu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6D3B-49D0-41E8-A77C-F8BE7C4372E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-1951920" y="276120"/>
            <a:ext cx="12698640" cy="7071840"/>
            <a:chOff x="-1951920" y="276120"/>
            <a:chExt cx="12698640" cy="7071840"/>
          </a:xfrm>
        </p:grpSpPr>
        <p:graphicFrame>
          <p:nvGraphicFramePr>
            <p:cNvPr id="126" name=""/>
            <p:cNvGraphicFramePr/>
            <p:nvPr/>
          </p:nvGraphicFramePr>
          <p:xfrm>
            <a:off x="2209680" y="2362320"/>
            <a:ext cx="4800600" cy="2617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09680" y="2362320"/>
                      <a:ext cx="4800600" cy="261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8" name=""/>
            <p:cNvSpPr/>
            <p:nvPr/>
          </p:nvSpPr>
          <p:spPr>
            <a:xfrm>
              <a:off x="-1951920" y="2567160"/>
              <a:ext cx="5799600" cy="467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33cc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57800" y="2735280"/>
              <a:ext cx="5488920" cy="461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801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8011"/>
                </a:path>
              </a:pathLst>
            </a:custGeom>
            <a:noFill/>
            <a:ln cap="rnd" w="25560">
              <a:solidFill>
                <a:srgbClr val="ff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0" y="2068560"/>
              <a:ext cx="0" cy="2252520"/>
            </a:xfrm>
            <a:prstGeom prst="line">
              <a:avLst/>
            </a:prstGeom>
            <a:ln w="25560">
              <a:solidFill>
                <a:srgbClr val="ff33cc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31" name=""/>
            <p:cNvGraphicFramePr/>
            <p:nvPr/>
          </p:nvGraphicFramePr>
          <p:xfrm>
            <a:off x="255600" y="414360"/>
            <a:ext cx="2182680" cy="1001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5600" y="414360"/>
                      <a:ext cx="2182680" cy="100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" name=""/>
            <p:cNvSpPr/>
            <p:nvPr/>
          </p:nvSpPr>
          <p:spPr>
            <a:xfrm>
              <a:off x="133200" y="1722600"/>
              <a:ext cx="1870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14ffb"/>
                  </a:solidFill>
                  <a:latin typeface="Times New Roman"/>
                </a:rPr>
                <a:t>Work At Ho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47000" y="1722600"/>
              <a:ext cx="1876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14ffb"/>
                  </a:solidFill>
                  <a:latin typeface="Times New Roman"/>
                </a:rPr>
                <a:t>Intranet Acces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7397640" y="276120"/>
              <a:ext cx="1282680" cy="1271520"/>
              <a:chOff x="7397640" y="276120"/>
              <a:chExt cx="1282680" cy="1271520"/>
            </a:xfrm>
          </p:grpSpPr>
          <p:sp>
            <p:nvSpPr>
              <p:cNvPr id="136" name=""/>
              <p:cNvSpPr/>
              <p:nvPr/>
            </p:nvSpPr>
            <p:spPr>
              <a:xfrm>
                <a:off x="7397640" y="281160"/>
                <a:ext cx="1282680" cy="1266480"/>
              </a:xfrm>
              <a:prstGeom prst="ellipse">
                <a:avLst/>
              </a:prstGeom>
              <a:solidFill>
                <a:srgbClr val="c0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7626240" y="385920"/>
                <a:ext cx="498600" cy="1145880"/>
                <a:chOff x="7626240" y="385920"/>
                <a:chExt cx="498600" cy="1145880"/>
              </a:xfrm>
            </p:grpSpPr>
            <p:grpSp>
              <p:nvGrpSpPr>
                <p:cNvPr id="138" name=""/>
                <p:cNvGrpSpPr/>
                <p:nvPr/>
              </p:nvGrpSpPr>
              <p:grpSpPr>
                <a:xfrm>
                  <a:off x="7769160" y="1035000"/>
                  <a:ext cx="354240" cy="496800"/>
                  <a:chOff x="7769160" y="1035000"/>
                  <a:chExt cx="354240" cy="49680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7769160" y="1035000"/>
                    <a:ext cx="354240" cy="46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295">
                        <a:moveTo>
                          <a:pt x="26" y="9"/>
                        </a:moveTo>
                        <a:lnTo>
                          <a:pt x="39" y="0"/>
                        </a:lnTo>
                        <a:lnTo>
                          <a:pt x="50" y="0"/>
                        </a:lnTo>
                        <a:lnTo>
                          <a:pt x="53" y="1"/>
                        </a:lnTo>
                        <a:lnTo>
                          <a:pt x="53" y="3"/>
                        </a:lnTo>
                        <a:lnTo>
                          <a:pt x="53" y="7"/>
                        </a:lnTo>
                        <a:lnTo>
                          <a:pt x="56" y="9"/>
                        </a:lnTo>
                        <a:lnTo>
                          <a:pt x="58" y="5"/>
                        </a:lnTo>
                        <a:lnTo>
                          <a:pt x="59" y="1"/>
                        </a:lnTo>
                        <a:lnTo>
                          <a:pt x="62" y="1"/>
                        </a:lnTo>
                        <a:lnTo>
                          <a:pt x="63" y="3"/>
                        </a:lnTo>
                        <a:lnTo>
                          <a:pt x="67" y="6"/>
                        </a:lnTo>
                        <a:lnTo>
                          <a:pt x="71" y="9"/>
                        </a:lnTo>
                        <a:lnTo>
                          <a:pt x="81" y="9"/>
                        </a:lnTo>
                        <a:lnTo>
                          <a:pt x="86" y="10"/>
                        </a:lnTo>
                        <a:lnTo>
                          <a:pt x="89" y="10"/>
                        </a:lnTo>
                        <a:lnTo>
                          <a:pt x="91" y="10"/>
                        </a:lnTo>
                        <a:lnTo>
                          <a:pt x="96" y="12"/>
                        </a:lnTo>
                        <a:lnTo>
                          <a:pt x="97" y="15"/>
                        </a:lnTo>
                        <a:lnTo>
                          <a:pt x="97" y="18"/>
                        </a:lnTo>
                        <a:lnTo>
                          <a:pt x="104" y="20"/>
                        </a:lnTo>
                        <a:lnTo>
                          <a:pt x="109" y="25"/>
                        </a:lnTo>
                        <a:lnTo>
                          <a:pt x="115" y="30"/>
                        </a:lnTo>
                        <a:lnTo>
                          <a:pt x="119" y="33"/>
                        </a:lnTo>
                        <a:lnTo>
                          <a:pt x="121" y="33"/>
                        </a:lnTo>
                        <a:lnTo>
                          <a:pt x="128" y="33"/>
                        </a:lnTo>
                        <a:lnTo>
                          <a:pt x="132" y="35"/>
                        </a:lnTo>
                        <a:lnTo>
                          <a:pt x="137" y="40"/>
                        </a:lnTo>
                        <a:lnTo>
                          <a:pt x="144" y="44"/>
                        </a:lnTo>
                        <a:lnTo>
                          <a:pt x="148" y="48"/>
                        </a:lnTo>
                        <a:lnTo>
                          <a:pt x="149" y="54"/>
                        </a:lnTo>
                        <a:lnTo>
                          <a:pt x="147" y="57"/>
                        </a:lnTo>
                        <a:lnTo>
                          <a:pt x="144" y="63"/>
                        </a:lnTo>
                        <a:lnTo>
                          <a:pt x="148" y="67"/>
                        </a:lnTo>
                        <a:lnTo>
                          <a:pt x="150" y="68"/>
                        </a:lnTo>
                        <a:lnTo>
                          <a:pt x="154" y="65"/>
                        </a:lnTo>
                        <a:lnTo>
                          <a:pt x="161" y="63"/>
                        </a:lnTo>
                        <a:lnTo>
                          <a:pt x="166" y="65"/>
                        </a:lnTo>
                        <a:lnTo>
                          <a:pt x="171" y="65"/>
                        </a:lnTo>
                        <a:lnTo>
                          <a:pt x="177" y="67"/>
                        </a:lnTo>
                        <a:lnTo>
                          <a:pt x="183" y="71"/>
                        </a:lnTo>
                        <a:lnTo>
                          <a:pt x="190" y="71"/>
                        </a:lnTo>
                        <a:lnTo>
                          <a:pt x="197" y="71"/>
                        </a:lnTo>
                        <a:lnTo>
                          <a:pt x="205" y="77"/>
                        </a:lnTo>
                        <a:lnTo>
                          <a:pt x="213" y="79"/>
                        </a:lnTo>
                        <a:lnTo>
                          <a:pt x="219" y="81"/>
                        </a:lnTo>
                        <a:lnTo>
                          <a:pt x="222" y="86"/>
                        </a:lnTo>
                        <a:lnTo>
                          <a:pt x="221" y="93"/>
                        </a:lnTo>
                        <a:lnTo>
                          <a:pt x="217" y="98"/>
                        </a:lnTo>
                        <a:lnTo>
                          <a:pt x="213" y="103"/>
                        </a:lnTo>
                        <a:lnTo>
                          <a:pt x="208" y="109"/>
                        </a:lnTo>
                        <a:lnTo>
                          <a:pt x="206" y="116"/>
                        </a:lnTo>
                        <a:lnTo>
                          <a:pt x="200" y="120"/>
                        </a:lnTo>
                        <a:lnTo>
                          <a:pt x="204" y="127"/>
                        </a:lnTo>
                        <a:lnTo>
                          <a:pt x="204" y="136"/>
                        </a:lnTo>
                        <a:lnTo>
                          <a:pt x="200" y="142"/>
                        </a:lnTo>
                        <a:lnTo>
                          <a:pt x="200" y="149"/>
                        </a:lnTo>
                        <a:lnTo>
                          <a:pt x="196" y="155"/>
                        </a:lnTo>
                        <a:lnTo>
                          <a:pt x="192" y="158"/>
                        </a:lnTo>
                        <a:lnTo>
                          <a:pt x="187" y="160"/>
                        </a:lnTo>
                        <a:lnTo>
                          <a:pt x="180" y="160"/>
                        </a:lnTo>
                        <a:lnTo>
                          <a:pt x="171" y="162"/>
                        </a:lnTo>
                        <a:lnTo>
                          <a:pt x="163" y="167"/>
                        </a:lnTo>
                        <a:lnTo>
                          <a:pt x="159" y="173"/>
                        </a:lnTo>
                        <a:lnTo>
                          <a:pt x="157" y="176"/>
                        </a:lnTo>
                        <a:lnTo>
                          <a:pt x="161" y="179"/>
                        </a:lnTo>
                        <a:lnTo>
                          <a:pt x="161" y="184"/>
                        </a:lnTo>
                        <a:lnTo>
                          <a:pt x="150" y="192"/>
                        </a:lnTo>
                        <a:lnTo>
                          <a:pt x="144" y="204"/>
                        </a:lnTo>
                        <a:lnTo>
                          <a:pt x="135" y="211"/>
                        </a:lnTo>
                        <a:lnTo>
                          <a:pt x="128" y="211"/>
                        </a:lnTo>
                        <a:lnTo>
                          <a:pt x="119" y="205"/>
                        </a:lnTo>
                        <a:lnTo>
                          <a:pt x="119" y="214"/>
                        </a:lnTo>
                        <a:lnTo>
                          <a:pt x="123" y="218"/>
                        </a:lnTo>
                        <a:lnTo>
                          <a:pt x="122" y="226"/>
                        </a:lnTo>
                        <a:lnTo>
                          <a:pt x="109" y="233"/>
                        </a:lnTo>
                        <a:lnTo>
                          <a:pt x="104" y="232"/>
                        </a:lnTo>
                        <a:lnTo>
                          <a:pt x="98" y="242"/>
                        </a:lnTo>
                        <a:lnTo>
                          <a:pt x="93" y="243"/>
                        </a:lnTo>
                        <a:lnTo>
                          <a:pt x="90" y="248"/>
                        </a:lnTo>
                        <a:lnTo>
                          <a:pt x="93" y="252"/>
                        </a:lnTo>
                        <a:lnTo>
                          <a:pt x="87" y="259"/>
                        </a:lnTo>
                        <a:lnTo>
                          <a:pt x="92" y="270"/>
                        </a:lnTo>
                        <a:lnTo>
                          <a:pt x="87" y="278"/>
                        </a:lnTo>
                        <a:lnTo>
                          <a:pt x="83" y="285"/>
                        </a:lnTo>
                        <a:lnTo>
                          <a:pt x="87" y="291"/>
                        </a:lnTo>
                        <a:lnTo>
                          <a:pt x="78" y="291"/>
                        </a:lnTo>
                        <a:lnTo>
                          <a:pt x="70" y="294"/>
                        </a:lnTo>
                        <a:lnTo>
                          <a:pt x="61" y="280"/>
                        </a:lnTo>
                        <a:lnTo>
                          <a:pt x="59" y="269"/>
                        </a:lnTo>
                        <a:lnTo>
                          <a:pt x="59" y="245"/>
                        </a:lnTo>
                        <a:lnTo>
                          <a:pt x="50" y="235"/>
                        </a:lnTo>
                        <a:lnTo>
                          <a:pt x="51" y="219"/>
                        </a:lnTo>
                        <a:lnTo>
                          <a:pt x="55" y="209"/>
                        </a:lnTo>
                        <a:lnTo>
                          <a:pt x="53" y="199"/>
                        </a:lnTo>
                        <a:lnTo>
                          <a:pt x="53" y="187"/>
                        </a:lnTo>
                        <a:lnTo>
                          <a:pt x="53" y="158"/>
                        </a:lnTo>
                        <a:lnTo>
                          <a:pt x="56" y="144"/>
                        </a:lnTo>
                        <a:lnTo>
                          <a:pt x="51" y="136"/>
                        </a:lnTo>
                        <a:lnTo>
                          <a:pt x="45" y="131"/>
                        </a:lnTo>
                        <a:lnTo>
                          <a:pt x="40" y="128"/>
                        </a:lnTo>
                        <a:lnTo>
                          <a:pt x="39" y="123"/>
                        </a:lnTo>
                        <a:lnTo>
                          <a:pt x="36" y="124"/>
                        </a:lnTo>
                        <a:lnTo>
                          <a:pt x="30" y="125"/>
                        </a:lnTo>
                        <a:lnTo>
                          <a:pt x="29" y="123"/>
                        </a:lnTo>
                        <a:lnTo>
                          <a:pt x="25" y="119"/>
                        </a:lnTo>
                        <a:lnTo>
                          <a:pt x="22" y="114"/>
                        </a:lnTo>
                        <a:lnTo>
                          <a:pt x="23" y="111"/>
                        </a:lnTo>
                        <a:lnTo>
                          <a:pt x="21" y="105"/>
                        </a:lnTo>
                        <a:lnTo>
                          <a:pt x="18" y="99"/>
                        </a:lnTo>
                        <a:lnTo>
                          <a:pt x="17" y="98"/>
                        </a:lnTo>
                        <a:lnTo>
                          <a:pt x="17" y="96"/>
                        </a:lnTo>
                        <a:lnTo>
                          <a:pt x="15" y="94"/>
                        </a:lnTo>
                        <a:lnTo>
                          <a:pt x="11" y="87"/>
                        </a:lnTo>
                        <a:lnTo>
                          <a:pt x="11" y="85"/>
                        </a:lnTo>
                        <a:lnTo>
                          <a:pt x="6" y="82"/>
                        </a:lnTo>
                        <a:lnTo>
                          <a:pt x="6" y="76"/>
                        </a:lnTo>
                        <a:lnTo>
                          <a:pt x="3" y="72"/>
                        </a:lnTo>
                        <a:lnTo>
                          <a:pt x="0" y="67"/>
                        </a:lnTo>
                        <a:lnTo>
                          <a:pt x="6" y="63"/>
                        </a:lnTo>
                        <a:lnTo>
                          <a:pt x="10" y="60"/>
                        </a:lnTo>
                        <a:lnTo>
                          <a:pt x="6" y="58"/>
                        </a:lnTo>
                        <a:lnTo>
                          <a:pt x="4" y="52"/>
                        </a:lnTo>
                        <a:lnTo>
                          <a:pt x="5" y="47"/>
                        </a:lnTo>
                        <a:lnTo>
                          <a:pt x="10" y="43"/>
                        </a:lnTo>
                        <a:lnTo>
                          <a:pt x="16" y="41"/>
                        </a:lnTo>
                        <a:lnTo>
                          <a:pt x="21" y="34"/>
                        </a:lnTo>
                        <a:lnTo>
                          <a:pt x="23" y="30"/>
                        </a:lnTo>
                        <a:lnTo>
                          <a:pt x="22" y="25"/>
                        </a:lnTo>
                        <a:lnTo>
                          <a:pt x="22" y="20"/>
                        </a:lnTo>
                        <a:lnTo>
                          <a:pt x="26" y="9"/>
                        </a:lnTo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7893000" y="1504800"/>
                    <a:ext cx="41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7">
                        <a:moveTo>
                          <a:pt x="8" y="0"/>
                        </a:moveTo>
                        <a:lnTo>
                          <a:pt x="0" y="8"/>
                        </a:lnTo>
                        <a:lnTo>
                          <a:pt x="5" y="16"/>
                        </a:lnTo>
                        <a:lnTo>
                          <a:pt x="16" y="16"/>
                        </a:lnTo>
                        <a:lnTo>
                          <a:pt x="25" y="16"/>
                        </a:lnTo>
                        <a:lnTo>
                          <a:pt x="16" y="7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1" name=""/>
                <p:cNvGrpSpPr/>
                <p:nvPr/>
              </p:nvGrpSpPr>
              <p:grpSpPr>
                <a:xfrm>
                  <a:off x="7626240" y="431640"/>
                  <a:ext cx="498600" cy="635040"/>
                  <a:chOff x="7626240" y="431640"/>
                  <a:chExt cx="498600" cy="63504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>
                    <a:off x="7897680" y="6462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11"/>
                        </a:moveTo>
                        <a:lnTo>
                          <a:pt x="16" y="16"/>
                        </a:lnTo>
                        <a:lnTo>
                          <a:pt x="16" y="10"/>
                        </a:lnTo>
                        <a:lnTo>
                          <a:pt x="16" y="2"/>
                        </a:lnTo>
                        <a:lnTo>
                          <a:pt x="8" y="0"/>
                        </a:lnTo>
                        <a:lnTo>
                          <a:pt x="5" y="5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3" name=""/>
                  <p:cNvGrpSpPr/>
                  <p:nvPr/>
                </p:nvGrpSpPr>
                <p:grpSpPr>
                  <a:xfrm>
                    <a:off x="7626240" y="431640"/>
                    <a:ext cx="498600" cy="635040"/>
                    <a:chOff x="7626240" y="431640"/>
                    <a:chExt cx="498600" cy="635040"/>
                  </a:xfrm>
                </p:grpSpPr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7626240" y="431640"/>
                      <a:ext cx="357120" cy="63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5" h="400">
                          <a:moveTo>
                            <a:pt x="116" y="390"/>
                          </a:moveTo>
                          <a:lnTo>
                            <a:pt x="106" y="382"/>
                          </a:lnTo>
                          <a:lnTo>
                            <a:pt x="98" y="383"/>
                          </a:lnTo>
                          <a:lnTo>
                            <a:pt x="90" y="375"/>
                          </a:lnTo>
                          <a:lnTo>
                            <a:pt x="89" y="367"/>
                          </a:lnTo>
                          <a:lnTo>
                            <a:pt x="93" y="363"/>
                          </a:lnTo>
                          <a:lnTo>
                            <a:pt x="93" y="361"/>
                          </a:lnTo>
                          <a:lnTo>
                            <a:pt x="96" y="356"/>
                          </a:lnTo>
                          <a:lnTo>
                            <a:pt x="92" y="346"/>
                          </a:lnTo>
                          <a:lnTo>
                            <a:pt x="85" y="346"/>
                          </a:lnTo>
                          <a:lnTo>
                            <a:pt x="77" y="339"/>
                          </a:lnTo>
                          <a:lnTo>
                            <a:pt x="78" y="335"/>
                          </a:lnTo>
                          <a:lnTo>
                            <a:pt x="85" y="323"/>
                          </a:lnTo>
                          <a:lnTo>
                            <a:pt x="83" y="320"/>
                          </a:lnTo>
                          <a:lnTo>
                            <a:pt x="73" y="316"/>
                          </a:lnTo>
                          <a:lnTo>
                            <a:pt x="69" y="320"/>
                          </a:lnTo>
                          <a:lnTo>
                            <a:pt x="66" y="324"/>
                          </a:lnTo>
                          <a:lnTo>
                            <a:pt x="58" y="323"/>
                          </a:lnTo>
                          <a:lnTo>
                            <a:pt x="51" y="320"/>
                          </a:lnTo>
                          <a:lnTo>
                            <a:pt x="45" y="308"/>
                          </a:lnTo>
                          <a:lnTo>
                            <a:pt x="48" y="299"/>
                          </a:lnTo>
                          <a:lnTo>
                            <a:pt x="50" y="292"/>
                          </a:lnTo>
                          <a:lnTo>
                            <a:pt x="52" y="287"/>
                          </a:lnTo>
                          <a:lnTo>
                            <a:pt x="57" y="283"/>
                          </a:lnTo>
                          <a:lnTo>
                            <a:pt x="60" y="279"/>
                          </a:lnTo>
                          <a:lnTo>
                            <a:pt x="66" y="275"/>
                          </a:lnTo>
                          <a:lnTo>
                            <a:pt x="72" y="272"/>
                          </a:lnTo>
                          <a:lnTo>
                            <a:pt x="78" y="276"/>
                          </a:lnTo>
                          <a:lnTo>
                            <a:pt x="83" y="277"/>
                          </a:lnTo>
                          <a:lnTo>
                            <a:pt x="86" y="282"/>
                          </a:lnTo>
                          <a:lnTo>
                            <a:pt x="91" y="281"/>
                          </a:lnTo>
                          <a:lnTo>
                            <a:pt x="97" y="279"/>
                          </a:lnTo>
                          <a:lnTo>
                            <a:pt x="102" y="282"/>
                          </a:lnTo>
                          <a:lnTo>
                            <a:pt x="111" y="292"/>
                          </a:lnTo>
                          <a:lnTo>
                            <a:pt x="108" y="299"/>
                          </a:lnTo>
                          <a:lnTo>
                            <a:pt x="111" y="302"/>
                          </a:lnTo>
                          <a:lnTo>
                            <a:pt x="111" y="305"/>
                          </a:lnTo>
                          <a:lnTo>
                            <a:pt x="115" y="309"/>
                          </a:lnTo>
                          <a:lnTo>
                            <a:pt x="119" y="312"/>
                          </a:lnTo>
                          <a:lnTo>
                            <a:pt x="121" y="310"/>
                          </a:lnTo>
                          <a:lnTo>
                            <a:pt x="121" y="304"/>
                          </a:lnTo>
                          <a:lnTo>
                            <a:pt x="120" y="295"/>
                          </a:lnTo>
                          <a:lnTo>
                            <a:pt x="120" y="286"/>
                          </a:lnTo>
                          <a:lnTo>
                            <a:pt x="119" y="283"/>
                          </a:lnTo>
                          <a:lnTo>
                            <a:pt x="123" y="279"/>
                          </a:lnTo>
                          <a:lnTo>
                            <a:pt x="130" y="277"/>
                          </a:lnTo>
                          <a:lnTo>
                            <a:pt x="132" y="274"/>
                          </a:lnTo>
                          <a:lnTo>
                            <a:pt x="137" y="276"/>
                          </a:lnTo>
                          <a:lnTo>
                            <a:pt x="141" y="272"/>
                          </a:lnTo>
                          <a:lnTo>
                            <a:pt x="147" y="267"/>
                          </a:lnTo>
                          <a:lnTo>
                            <a:pt x="152" y="265"/>
                          </a:lnTo>
                          <a:lnTo>
                            <a:pt x="150" y="260"/>
                          </a:lnTo>
                          <a:lnTo>
                            <a:pt x="155" y="254"/>
                          </a:lnTo>
                          <a:lnTo>
                            <a:pt x="160" y="249"/>
                          </a:lnTo>
                          <a:lnTo>
                            <a:pt x="163" y="247"/>
                          </a:lnTo>
                          <a:lnTo>
                            <a:pt x="173" y="248"/>
                          </a:lnTo>
                          <a:lnTo>
                            <a:pt x="171" y="241"/>
                          </a:lnTo>
                          <a:lnTo>
                            <a:pt x="180" y="236"/>
                          </a:lnTo>
                          <a:lnTo>
                            <a:pt x="188" y="234"/>
                          </a:lnTo>
                          <a:lnTo>
                            <a:pt x="195" y="233"/>
                          </a:lnTo>
                          <a:lnTo>
                            <a:pt x="192" y="239"/>
                          </a:lnTo>
                          <a:lnTo>
                            <a:pt x="199" y="232"/>
                          </a:lnTo>
                          <a:lnTo>
                            <a:pt x="196" y="227"/>
                          </a:lnTo>
                          <a:lnTo>
                            <a:pt x="195" y="218"/>
                          </a:lnTo>
                          <a:lnTo>
                            <a:pt x="188" y="218"/>
                          </a:lnTo>
                          <a:lnTo>
                            <a:pt x="189" y="213"/>
                          </a:lnTo>
                          <a:lnTo>
                            <a:pt x="212" y="213"/>
                          </a:lnTo>
                          <a:lnTo>
                            <a:pt x="224" y="206"/>
                          </a:lnTo>
                          <a:lnTo>
                            <a:pt x="223" y="201"/>
                          </a:lnTo>
                          <a:lnTo>
                            <a:pt x="217" y="195"/>
                          </a:lnTo>
                          <a:lnTo>
                            <a:pt x="217" y="186"/>
                          </a:lnTo>
                          <a:lnTo>
                            <a:pt x="213" y="185"/>
                          </a:lnTo>
                          <a:lnTo>
                            <a:pt x="211" y="178"/>
                          </a:lnTo>
                          <a:lnTo>
                            <a:pt x="209" y="175"/>
                          </a:lnTo>
                          <a:lnTo>
                            <a:pt x="204" y="176"/>
                          </a:lnTo>
                          <a:lnTo>
                            <a:pt x="196" y="170"/>
                          </a:lnTo>
                          <a:lnTo>
                            <a:pt x="193" y="162"/>
                          </a:lnTo>
                          <a:lnTo>
                            <a:pt x="185" y="153"/>
                          </a:lnTo>
                          <a:lnTo>
                            <a:pt x="174" y="164"/>
                          </a:lnTo>
                          <a:lnTo>
                            <a:pt x="174" y="178"/>
                          </a:lnTo>
                          <a:lnTo>
                            <a:pt x="171" y="182"/>
                          </a:lnTo>
                          <a:lnTo>
                            <a:pt x="166" y="182"/>
                          </a:lnTo>
                          <a:lnTo>
                            <a:pt x="163" y="185"/>
                          </a:lnTo>
                          <a:lnTo>
                            <a:pt x="162" y="192"/>
                          </a:lnTo>
                          <a:lnTo>
                            <a:pt x="158" y="199"/>
                          </a:lnTo>
                          <a:lnTo>
                            <a:pt x="153" y="192"/>
                          </a:lnTo>
                          <a:lnTo>
                            <a:pt x="157" y="182"/>
                          </a:lnTo>
                          <a:lnTo>
                            <a:pt x="155" y="175"/>
                          </a:lnTo>
                          <a:lnTo>
                            <a:pt x="151" y="172"/>
                          </a:lnTo>
                          <a:lnTo>
                            <a:pt x="141" y="158"/>
                          </a:lnTo>
                          <a:lnTo>
                            <a:pt x="142" y="152"/>
                          </a:lnTo>
                          <a:lnTo>
                            <a:pt x="153" y="138"/>
                          </a:lnTo>
                          <a:lnTo>
                            <a:pt x="162" y="138"/>
                          </a:lnTo>
                          <a:lnTo>
                            <a:pt x="168" y="137"/>
                          </a:lnTo>
                          <a:lnTo>
                            <a:pt x="172" y="131"/>
                          </a:lnTo>
                          <a:lnTo>
                            <a:pt x="181" y="132"/>
                          </a:lnTo>
                          <a:lnTo>
                            <a:pt x="184" y="128"/>
                          </a:lnTo>
                          <a:lnTo>
                            <a:pt x="192" y="129"/>
                          </a:lnTo>
                          <a:lnTo>
                            <a:pt x="188" y="123"/>
                          </a:lnTo>
                          <a:lnTo>
                            <a:pt x="187" y="115"/>
                          </a:lnTo>
                          <a:lnTo>
                            <a:pt x="180" y="124"/>
                          </a:lnTo>
                          <a:lnTo>
                            <a:pt x="175" y="121"/>
                          </a:lnTo>
                          <a:lnTo>
                            <a:pt x="181" y="111"/>
                          </a:lnTo>
                          <a:lnTo>
                            <a:pt x="181" y="102"/>
                          </a:lnTo>
                          <a:lnTo>
                            <a:pt x="174" y="109"/>
                          </a:lnTo>
                          <a:lnTo>
                            <a:pt x="168" y="115"/>
                          </a:lnTo>
                          <a:lnTo>
                            <a:pt x="147" y="99"/>
                          </a:lnTo>
                          <a:lnTo>
                            <a:pt x="149" y="69"/>
                          </a:lnTo>
                          <a:lnTo>
                            <a:pt x="139" y="60"/>
                          </a:lnTo>
                          <a:lnTo>
                            <a:pt x="138" y="49"/>
                          </a:lnTo>
                          <a:lnTo>
                            <a:pt x="144" y="35"/>
                          </a:lnTo>
                          <a:lnTo>
                            <a:pt x="146" y="19"/>
                          </a:lnTo>
                          <a:lnTo>
                            <a:pt x="139" y="11"/>
                          </a:lnTo>
                          <a:lnTo>
                            <a:pt x="130" y="10"/>
                          </a:lnTo>
                          <a:lnTo>
                            <a:pt x="125" y="7"/>
                          </a:lnTo>
                          <a:lnTo>
                            <a:pt x="124" y="0"/>
                          </a:lnTo>
                          <a:lnTo>
                            <a:pt x="116" y="11"/>
                          </a:lnTo>
                          <a:lnTo>
                            <a:pt x="109" y="12"/>
                          </a:lnTo>
                          <a:lnTo>
                            <a:pt x="106" y="3"/>
                          </a:lnTo>
                          <a:lnTo>
                            <a:pt x="101" y="5"/>
                          </a:lnTo>
                          <a:lnTo>
                            <a:pt x="94" y="6"/>
                          </a:lnTo>
                          <a:lnTo>
                            <a:pt x="78" y="23"/>
                          </a:lnTo>
                          <a:lnTo>
                            <a:pt x="72" y="21"/>
                          </a:lnTo>
                          <a:lnTo>
                            <a:pt x="65" y="9"/>
                          </a:lnTo>
                          <a:lnTo>
                            <a:pt x="66" y="19"/>
                          </a:lnTo>
                          <a:lnTo>
                            <a:pt x="71" y="28"/>
                          </a:lnTo>
                          <a:lnTo>
                            <a:pt x="80" y="34"/>
                          </a:lnTo>
                          <a:lnTo>
                            <a:pt x="85" y="35"/>
                          </a:lnTo>
                          <a:lnTo>
                            <a:pt x="86" y="42"/>
                          </a:lnTo>
                          <a:lnTo>
                            <a:pt x="90" y="48"/>
                          </a:lnTo>
                          <a:lnTo>
                            <a:pt x="87" y="53"/>
                          </a:lnTo>
                          <a:lnTo>
                            <a:pt x="88" y="63"/>
                          </a:lnTo>
                          <a:lnTo>
                            <a:pt x="83" y="79"/>
                          </a:lnTo>
                          <a:lnTo>
                            <a:pt x="70" y="100"/>
                          </a:lnTo>
                          <a:lnTo>
                            <a:pt x="65" y="101"/>
                          </a:lnTo>
                          <a:lnTo>
                            <a:pt x="56" y="121"/>
                          </a:lnTo>
                          <a:lnTo>
                            <a:pt x="52" y="133"/>
                          </a:lnTo>
                          <a:lnTo>
                            <a:pt x="47" y="132"/>
                          </a:lnTo>
                          <a:lnTo>
                            <a:pt x="46" y="136"/>
                          </a:lnTo>
                          <a:lnTo>
                            <a:pt x="39" y="143"/>
                          </a:lnTo>
                          <a:lnTo>
                            <a:pt x="31" y="148"/>
                          </a:lnTo>
                          <a:lnTo>
                            <a:pt x="20" y="158"/>
                          </a:lnTo>
                          <a:lnTo>
                            <a:pt x="12" y="168"/>
                          </a:lnTo>
                          <a:lnTo>
                            <a:pt x="12" y="175"/>
                          </a:lnTo>
                          <a:lnTo>
                            <a:pt x="9" y="179"/>
                          </a:lnTo>
                          <a:lnTo>
                            <a:pt x="6" y="184"/>
                          </a:lnTo>
                          <a:lnTo>
                            <a:pt x="4" y="191"/>
                          </a:lnTo>
                          <a:lnTo>
                            <a:pt x="6" y="198"/>
                          </a:lnTo>
                          <a:lnTo>
                            <a:pt x="8" y="209"/>
                          </a:lnTo>
                          <a:lnTo>
                            <a:pt x="5" y="215"/>
                          </a:lnTo>
                          <a:lnTo>
                            <a:pt x="1" y="227"/>
                          </a:lnTo>
                          <a:lnTo>
                            <a:pt x="0" y="242"/>
                          </a:lnTo>
                          <a:lnTo>
                            <a:pt x="2" y="249"/>
                          </a:lnTo>
                          <a:lnTo>
                            <a:pt x="0" y="263"/>
                          </a:lnTo>
                          <a:lnTo>
                            <a:pt x="5" y="268"/>
                          </a:lnTo>
                          <a:lnTo>
                            <a:pt x="7" y="245"/>
                          </a:lnTo>
                          <a:lnTo>
                            <a:pt x="7" y="228"/>
                          </a:lnTo>
                          <a:lnTo>
                            <a:pt x="11" y="223"/>
                          </a:lnTo>
                          <a:lnTo>
                            <a:pt x="12" y="231"/>
                          </a:lnTo>
                          <a:lnTo>
                            <a:pt x="11" y="236"/>
                          </a:lnTo>
                          <a:lnTo>
                            <a:pt x="11" y="242"/>
                          </a:lnTo>
                          <a:lnTo>
                            <a:pt x="10" y="253"/>
                          </a:lnTo>
                          <a:lnTo>
                            <a:pt x="14" y="263"/>
                          </a:lnTo>
                          <a:lnTo>
                            <a:pt x="14" y="274"/>
                          </a:lnTo>
                          <a:lnTo>
                            <a:pt x="16" y="279"/>
                          </a:lnTo>
                          <a:lnTo>
                            <a:pt x="18" y="285"/>
                          </a:lnTo>
                          <a:lnTo>
                            <a:pt x="14" y="292"/>
                          </a:lnTo>
                          <a:lnTo>
                            <a:pt x="16" y="300"/>
                          </a:lnTo>
                          <a:lnTo>
                            <a:pt x="19" y="312"/>
                          </a:lnTo>
                          <a:lnTo>
                            <a:pt x="27" y="317"/>
                          </a:lnTo>
                          <a:lnTo>
                            <a:pt x="35" y="327"/>
                          </a:lnTo>
                          <a:lnTo>
                            <a:pt x="40" y="333"/>
                          </a:lnTo>
                          <a:lnTo>
                            <a:pt x="45" y="332"/>
                          </a:lnTo>
                          <a:lnTo>
                            <a:pt x="50" y="336"/>
                          </a:lnTo>
                          <a:lnTo>
                            <a:pt x="54" y="339"/>
                          </a:lnTo>
                          <a:lnTo>
                            <a:pt x="57" y="344"/>
                          </a:lnTo>
                          <a:lnTo>
                            <a:pt x="69" y="355"/>
                          </a:lnTo>
                          <a:lnTo>
                            <a:pt x="72" y="356"/>
                          </a:lnTo>
                          <a:lnTo>
                            <a:pt x="80" y="362"/>
                          </a:lnTo>
                          <a:lnTo>
                            <a:pt x="80" y="373"/>
                          </a:lnTo>
                          <a:lnTo>
                            <a:pt x="89" y="383"/>
                          </a:lnTo>
                          <a:lnTo>
                            <a:pt x="97" y="392"/>
                          </a:lnTo>
                          <a:lnTo>
                            <a:pt x="101" y="393"/>
                          </a:lnTo>
                          <a:lnTo>
                            <a:pt x="105" y="390"/>
                          </a:lnTo>
                          <a:lnTo>
                            <a:pt x="107" y="389"/>
                          </a:lnTo>
                          <a:lnTo>
                            <a:pt x="113" y="399"/>
                          </a:lnTo>
                          <a:lnTo>
                            <a:pt x="116" y="390"/>
                          </a:lnTo>
                        </a:path>
                      </a:pathLst>
                    </a:custGeom>
                    <a:solidFill>
                      <a:srgbClr val="c8fec8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7781760" y="933480"/>
                      <a:ext cx="6516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26">
                          <a:moveTo>
                            <a:pt x="1" y="0"/>
                          </a:moveTo>
                          <a:lnTo>
                            <a:pt x="12" y="2"/>
                          </a:lnTo>
                          <a:lnTo>
                            <a:pt x="18" y="7"/>
                          </a:lnTo>
                          <a:lnTo>
                            <a:pt x="23" y="11"/>
                          </a:lnTo>
                          <a:lnTo>
                            <a:pt x="26" y="12"/>
                          </a:lnTo>
                          <a:lnTo>
                            <a:pt x="32" y="16"/>
                          </a:lnTo>
                          <a:lnTo>
                            <a:pt x="36" y="22"/>
                          </a:lnTo>
                          <a:lnTo>
                            <a:pt x="40" y="25"/>
                          </a:lnTo>
                          <a:lnTo>
                            <a:pt x="31" y="25"/>
                          </a:lnTo>
                          <a:lnTo>
                            <a:pt x="25" y="19"/>
                          </a:lnTo>
                          <a:lnTo>
                            <a:pt x="17" y="17"/>
                          </a:lnTo>
                          <a:lnTo>
                            <a:pt x="13" y="12"/>
                          </a:lnTo>
                          <a:lnTo>
                            <a:pt x="5" y="9"/>
                          </a:lnTo>
                          <a:lnTo>
                            <a:pt x="0" y="6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solidFill>
                      <a:srgbClr val="c8fec8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7843680" y="974880"/>
                      <a:ext cx="3672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17">
                          <a:moveTo>
                            <a:pt x="0" y="8"/>
                          </a:moveTo>
                          <a:lnTo>
                            <a:pt x="7" y="0"/>
                          </a:lnTo>
                          <a:lnTo>
                            <a:pt x="15" y="1"/>
                          </a:lnTo>
                          <a:lnTo>
                            <a:pt x="22" y="11"/>
                          </a:lnTo>
                          <a:lnTo>
                            <a:pt x="22" y="14"/>
                          </a:lnTo>
                          <a:lnTo>
                            <a:pt x="17" y="16"/>
                          </a:lnTo>
                          <a:lnTo>
                            <a:pt x="13" y="13"/>
                          </a:lnTo>
                          <a:lnTo>
                            <a:pt x="7" y="13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c8fec8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7866000" y="549360"/>
                      <a:ext cx="3672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27">
                          <a:moveTo>
                            <a:pt x="5" y="0"/>
                          </a:moveTo>
                          <a:lnTo>
                            <a:pt x="11" y="4"/>
                          </a:lnTo>
                          <a:lnTo>
                            <a:pt x="13" y="4"/>
                          </a:lnTo>
                          <a:lnTo>
                            <a:pt x="21" y="11"/>
                          </a:lnTo>
                          <a:lnTo>
                            <a:pt x="22" y="15"/>
                          </a:lnTo>
                          <a:lnTo>
                            <a:pt x="19" y="17"/>
                          </a:lnTo>
                          <a:lnTo>
                            <a:pt x="19" y="18"/>
                          </a:lnTo>
                          <a:lnTo>
                            <a:pt x="16" y="20"/>
                          </a:lnTo>
                          <a:lnTo>
                            <a:pt x="16" y="21"/>
                          </a:lnTo>
                          <a:lnTo>
                            <a:pt x="13" y="26"/>
                          </a:lnTo>
                          <a:lnTo>
                            <a:pt x="9" y="23"/>
                          </a:lnTo>
                          <a:lnTo>
                            <a:pt x="7" y="25"/>
                          </a:lnTo>
                          <a:lnTo>
                            <a:pt x="0" y="16"/>
                          </a:lnTo>
                          <a:lnTo>
                            <a:pt x="4" y="9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c8fec8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7902720" y="54144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8"/>
                          </a:moveTo>
                          <a:lnTo>
                            <a:pt x="8" y="16"/>
                          </a:lnTo>
                          <a:lnTo>
                            <a:pt x="11" y="13"/>
                          </a:lnTo>
                          <a:lnTo>
                            <a:pt x="16" y="5"/>
                          </a:lnTo>
                          <a:lnTo>
                            <a:pt x="13" y="1"/>
                          </a:lnTo>
                          <a:lnTo>
                            <a:pt x="11" y="2"/>
                          </a:lnTo>
                          <a:lnTo>
                            <a:pt x="8" y="0"/>
                          </a:lnTo>
                          <a:lnTo>
                            <a:pt x="6" y="4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c8fec8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7872480" y="533520"/>
                      <a:ext cx="270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9" y="0"/>
                          </a:lnTo>
                          <a:lnTo>
                            <a:pt x="16" y="16"/>
                          </a:lnTo>
                          <a:lnTo>
                            <a:pt x="9" y="16"/>
                          </a:lnTo>
                          <a:lnTo>
                            <a:pt x="9" y="12"/>
                          </a:lnTo>
                          <a:lnTo>
                            <a:pt x="5" y="16"/>
                          </a:lnTo>
                          <a:lnTo>
                            <a:pt x="5" y="16"/>
                          </a:lnTo>
                          <a:lnTo>
                            <a:pt x="2" y="12"/>
                          </a:lnTo>
                          <a:lnTo>
                            <a:pt x="3" y="1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c8fec8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7923240" y="592200"/>
                      <a:ext cx="54000" cy="9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60">
                          <a:moveTo>
                            <a:pt x="14" y="33"/>
                          </a:moveTo>
                          <a:lnTo>
                            <a:pt x="9" y="40"/>
                          </a:lnTo>
                          <a:lnTo>
                            <a:pt x="7" y="40"/>
                          </a:lnTo>
                          <a:lnTo>
                            <a:pt x="4" y="41"/>
                          </a:lnTo>
                          <a:lnTo>
                            <a:pt x="2" y="42"/>
                          </a:lnTo>
                          <a:lnTo>
                            <a:pt x="1" y="44"/>
                          </a:lnTo>
                          <a:lnTo>
                            <a:pt x="5" y="44"/>
                          </a:lnTo>
                          <a:lnTo>
                            <a:pt x="7" y="45"/>
                          </a:lnTo>
                          <a:lnTo>
                            <a:pt x="9" y="48"/>
                          </a:lnTo>
                          <a:lnTo>
                            <a:pt x="9" y="49"/>
                          </a:lnTo>
                          <a:lnTo>
                            <a:pt x="12" y="52"/>
                          </a:lnTo>
                          <a:lnTo>
                            <a:pt x="12" y="54"/>
                          </a:lnTo>
                          <a:lnTo>
                            <a:pt x="14" y="54"/>
                          </a:lnTo>
                          <a:lnTo>
                            <a:pt x="21" y="59"/>
                          </a:lnTo>
                          <a:lnTo>
                            <a:pt x="19" y="55"/>
                          </a:lnTo>
                          <a:lnTo>
                            <a:pt x="19" y="52"/>
                          </a:lnTo>
                          <a:lnTo>
                            <a:pt x="21" y="52"/>
                          </a:lnTo>
                          <a:lnTo>
                            <a:pt x="23" y="53"/>
                          </a:lnTo>
                          <a:lnTo>
                            <a:pt x="24" y="53"/>
                          </a:lnTo>
                          <a:lnTo>
                            <a:pt x="25" y="54"/>
                          </a:lnTo>
                          <a:lnTo>
                            <a:pt x="26" y="53"/>
                          </a:lnTo>
                          <a:lnTo>
                            <a:pt x="26" y="50"/>
                          </a:lnTo>
                          <a:lnTo>
                            <a:pt x="24" y="48"/>
                          </a:lnTo>
                          <a:lnTo>
                            <a:pt x="23" y="44"/>
                          </a:lnTo>
                          <a:lnTo>
                            <a:pt x="25" y="40"/>
                          </a:lnTo>
                          <a:lnTo>
                            <a:pt x="31" y="47"/>
                          </a:lnTo>
                          <a:lnTo>
                            <a:pt x="31" y="43"/>
                          </a:lnTo>
                          <a:lnTo>
                            <a:pt x="33" y="38"/>
                          </a:lnTo>
                          <a:lnTo>
                            <a:pt x="28" y="33"/>
                          </a:lnTo>
                          <a:lnTo>
                            <a:pt x="28" y="30"/>
                          </a:lnTo>
                          <a:lnTo>
                            <a:pt x="28" y="22"/>
                          </a:lnTo>
                          <a:lnTo>
                            <a:pt x="22" y="14"/>
                          </a:lnTo>
                          <a:lnTo>
                            <a:pt x="15" y="9"/>
                          </a:lnTo>
                          <a:lnTo>
                            <a:pt x="17" y="6"/>
                          </a:lnTo>
                          <a:lnTo>
                            <a:pt x="14" y="5"/>
                          </a:lnTo>
                          <a:lnTo>
                            <a:pt x="14" y="2"/>
                          </a:lnTo>
                          <a:lnTo>
                            <a:pt x="9" y="6"/>
                          </a:lnTo>
                          <a:lnTo>
                            <a:pt x="7" y="5"/>
                          </a:lnTo>
                          <a:lnTo>
                            <a:pt x="9" y="3"/>
                          </a:lnTo>
                          <a:lnTo>
                            <a:pt x="9" y="0"/>
                          </a:lnTo>
                          <a:lnTo>
                            <a:pt x="7" y="0"/>
                          </a:lnTo>
                          <a:lnTo>
                            <a:pt x="4" y="1"/>
                          </a:lnTo>
                          <a:lnTo>
                            <a:pt x="0" y="2"/>
                          </a:lnTo>
                          <a:lnTo>
                            <a:pt x="0" y="5"/>
                          </a:lnTo>
                          <a:lnTo>
                            <a:pt x="0" y="8"/>
                          </a:lnTo>
                          <a:lnTo>
                            <a:pt x="1" y="10"/>
                          </a:lnTo>
                          <a:lnTo>
                            <a:pt x="5" y="12"/>
                          </a:lnTo>
                          <a:lnTo>
                            <a:pt x="4" y="15"/>
                          </a:lnTo>
                          <a:lnTo>
                            <a:pt x="6" y="17"/>
                          </a:lnTo>
                          <a:lnTo>
                            <a:pt x="8" y="18"/>
                          </a:lnTo>
                          <a:lnTo>
                            <a:pt x="11" y="18"/>
                          </a:lnTo>
                          <a:lnTo>
                            <a:pt x="14" y="20"/>
                          </a:lnTo>
                          <a:lnTo>
                            <a:pt x="14" y="24"/>
                          </a:lnTo>
                          <a:lnTo>
                            <a:pt x="14" y="29"/>
                          </a:lnTo>
                          <a:lnTo>
                            <a:pt x="14" y="33"/>
                          </a:lnTo>
                        </a:path>
                      </a:pathLst>
                    </a:custGeom>
                    <a:solidFill>
                      <a:srgbClr val="c8fec8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7950240" y="539640"/>
                      <a:ext cx="54000" cy="4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8">
                          <a:moveTo>
                            <a:pt x="0" y="20"/>
                          </a:moveTo>
                          <a:lnTo>
                            <a:pt x="8" y="27"/>
                          </a:lnTo>
                          <a:lnTo>
                            <a:pt x="12" y="23"/>
                          </a:lnTo>
                          <a:lnTo>
                            <a:pt x="15" y="23"/>
                          </a:lnTo>
                          <a:lnTo>
                            <a:pt x="22" y="14"/>
                          </a:lnTo>
                          <a:lnTo>
                            <a:pt x="26" y="14"/>
                          </a:lnTo>
                          <a:lnTo>
                            <a:pt x="31" y="8"/>
                          </a:lnTo>
                          <a:lnTo>
                            <a:pt x="30" y="6"/>
                          </a:lnTo>
                          <a:lnTo>
                            <a:pt x="33" y="4"/>
                          </a:lnTo>
                          <a:lnTo>
                            <a:pt x="31" y="3"/>
                          </a:lnTo>
                          <a:lnTo>
                            <a:pt x="26" y="3"/>
                          </a:lnTo>
                          <a:lnTo>
                            <a:pt x="22" y="2"/>
                          </a:lnTo>
                          <a:lnTo>
                            <a:pt x="19" y="0"/>
                          </a:lnTo>
                          <a:lnTo>
                            <a:pt x="15" y="1"/>
                          </a:lnTo>
                          <a:lnTo>
                            <a:pt x="14" y="3"/>
                          </a:lnTo>
                          <a:lnTo>
                            <a:pt x="14" y="5"/>
                          </a:lnTo>
                          <a:lnTo>
                            <a:pt x="14" y="10"/>
                          </a:lnTo>
                          <a:lnTo>
                            <a:pt x="11" y="11"/>
                          </a:lnTo>
                          <a:lnTo>
                            <a:pt x="10" y="13"/>
                          </a:lnTo>
                          <a:lnTo>
                            <a:pt x="4" y="19"/>
                          </a:lnTo>
                          <a:lnTo>
                            <a:pt x="0" y="20"/>
                          </a:lnTo>
                        </a:path>
                      </a:pathLst>
                    </a:custGeom>
                    <a:solidFill>
                      <a:srgbClr val="c8fec8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" bIns="-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8094600" y="644400"/>
                      <a:ext cx="302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7">
                          <a:moveTo>
                            <a:pt x="0" y="9"/>
                          </a:moveTo>
                          <a:lnTo>
                            <a:pt x="6" y="3"/>
                          </a:lnTo>
                          <a:lnTo>
                            <a:pt x="9" y="3"/>
                          </a:lnTo>
                          <a:lnTo>
                            <a:pt x="9" y="2"/>
                          </a:lnTo>
                          <a:lnTo>
                            <a:pt x="10" y="0"/>
                          </a:lnTo>
                          <a:lnTo>
                            <a:pt x="12" y="1"/>
                          </a:lnTo>
                          <a:lnTo>
                            <a:pt x="16" y="4"/>
                          </a:lnTo>
                          <a:lnTo>
                            <a:pt x="16" y="6"/>
                          </a:lnTo>
                          <a:lnTo>
                            <a:pt x="18" y="6"/>
                          </a:lnTo>
                          <a:lnTo>
                            <a:pt x="17" y="10"/>
                          </a:lnTo>
                          <a:lnTo>
                            <a:pt x="16" y="10"/>
                          </a:lnTo>
                          <a:lnTo>
                            <a:pt x="16" y="13"/>
                          </a:lnTo>
                          <a:lnTo>
                            <a:pt x="13" y="16"/>
                          </a:lnTo>
                          <a:lnTo>
                            <a:pt x="4" y="16"/>
                          </a:lnTo>
                          <a:lnTo>
                            <a:pt x="3" y="13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solidFill>
                      <a:srgbClr val="c8fec8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7986600" y="542880"/>
                      <a:ext cx="9684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100">
                          <a:moveTo>
                            <a:pt x="0" y="29"/>
                          </a:moveTo>
                          <a:lnTo>
                            <a:pt x="0" y="21"/>
                          </a:lnTo>
                          <a:lnTo>
                            <a:pt x="3" y="20"/>
                          </a:lnTo>
                          <a:lnTo>
                            <a:pt x="2" y="18"/>
                          </a:lnTo>
                          <a:lnTo>
                            <a:pt x="9" y="10"/>
                          </a:lnTo>
                          <a:lnTo>
                            <a:pt x="12" y="8"/>
                          </a:lnTo>
                          <a:lnTo>
                            <a:pt x="14" y="6"/>
                          </a:lnTo>
                          <a:lnTo>
                            <a:pt x="18" y="4"/>
                          </a:lnTo>
                          <a:lnTo>
                            <a:pt x="19" y="4"/>
                          </a:lnTo>
                          <a:lnTo>
                            <a:pt x="21" y="3"/>
                          </a:lnTo>
                          <a:lnTo>
                            <a:pt x="23" y="1"/>
                          </a:lnTo>
                          <a:lnTo>
                            <a:pt x="27" y="1"/>
                          </a:lnTo>
                          <a:lnTo>
                            <a:pt x="33" y="0"/>
                          </a:lnTo>
                          <a:lnTo>
                            <a:pt x="36" y="4"/>
                          </a:lnTo>
                          <a:lnTo>
                            <a:pt x="36" y="6"/>
                          </a:lnTo>
                          <a:lnTo>
                            <a:pt x="38" y="8"/>
                          </a:lnTo>
                          <a:lnTo>
                            <a:pt x="44" y="2"/>
                          </a:lnTo>
                          <a:lnTo>
                            <a:pt x="44" y="8"/>
                          </a:lnTo>
                          <a:lnTo>
                            <a:pt x="47" y="16"/>
                          </a:lnTo>
                          <a:lnTo>
                            <a:pt x="49" y="24"/>
                          </a:lnTo>
                          <a:lnTo>
                            <a:pt x="54" y="31"/>
                          </a:lnTo>
                          <a:lnTo>
                            <a:pt x="54" y="35"/>
                          </a:lnTo>
                          <a:lnTo>
                            <a:pt x="55" y="43"/>
                          </a:lnTo>
                          <a:lnTo>
                            <a:pt x="57" y="46"/>
                          </a:lnTo>
                          <a:lnTo>
                            <a:pt x="60" y="54"/>
                          </a:lnTo>
                          <a:lnTo>
                            <a:pt x="58" y="59"/>
                          </a:lnTo>
                          <a:lnTo>
                            <a:pt x="57" y="61"/>
                          </a:lnTo>
                          <a:lnTo>
                            <a:pt x="54" y="62"/>
                          </a:lnTo>
                          <a:lnTo>
                            <a:pt x="49" y="65"/>
                          </a:lnTo>
                          <a:lnTo>
                            <a:pt x="47" y="67"/>
                          </a:lnTo>
                          <a:lnTo>
                            <a:pt x="48" y="69"/>
                          </a:lnTo>
                          <a:lnTo>
                            <a:pt x="44" y="73"/>
                          </a:lnTo>
                          <a:lnTo>
                            <a:pt x="42" y="74"/>
                          </a:lnTo>
                          <a:lnTo>
                            <a:pt x="40" y="74"/>
                          </a:lnTo>
                          <a:lnTo>
                            <a:pt x="36" y="77"/>
                          </a:lnTo>
                          <a:lnTo>
                            <a:pt x="37" y="79"/>
                          </a:lnTo>
                          <a:lnTo>
                            <a:pt x="33" y="83"/>
                          </a:lnTo>
                          <a:lnTo>
                            <a:pt x="33" y="86"/>
                          </a:lnTo>
                          <a:lnTo>
                            <a:pt x="32" y="90"/>
                          </a:lnTo>
                          <a:lnTo>
                            <a:pt x="32" y="95"/>
                          </a:lnTo>
                          <a:lnTo>
                            <a:pt x="31" y="97"/>
                          </a:lnTo>
                          <a:lnTo>
                            <a:pt x="29" y="99"/>
                          </a:lnTo>
                          <a:lnTo>
                            <a:pt x="25" y="99"/>
                          </a:lnTo>
                          <a:lnTo>
                            <a:pt x="21" y="98"/>
                          </a:lnTo>
                          <a:lnTo>
                            <a:pt x="16" y="96"/>
                          </a:lnTo>
                          <a:lnTo>
                            <a:pt x="14" y="93"/>
                          </a:lnTo>
                          <a:lnTo>
                            <a:pt x="13" y="90"/>
                          </a:lnTo>
                          <a:lnTo>
                            <a:pt x="13" y="87"/>
                          </a:lnTo>
                          <a:lnTo>
                            <a:pt x="11" y="83"/>
                          </a:lnTo>
                          <a:lnTo>
                            <a:pt x="10" y="80"/>
                          </a:lnTo>
                          <a:lnTo>
                            <a:pt x="11" y="77"/>
                          </a:lnTo>
                          <a:lnTo>
                            <a:pt x="10" y="73"/>
                          </a:lnTo>
                          <a:lnTo>
                            <a:pt x="8" y="72"/>
                          </a:lnTo>
                          <a:lnTo>
                            <a:pt x="11" y="69"/>
                          </a:lnTo>
                          <a:lnTo>
                            <a:pt x="13" y="65"/>
                          </a:lnTo>
                          <a:lnTo>
                            <a:pt x="13" y="63"/>
                          </a:lnTo>
                          <a:lnTo>
                            <a:pt x="12" y="60"/>
                          </a:lnTo>
                          <a:lnTo>
                            <a:pt x="9" y="56"/>
                          </a:lnTo>
                          <a:lnTo>
                            <a:pt x="11" y="51"/>
                          </a:lnTo>
                          <a:lnTo>
                            <a:pt x="10" y="46"/>
                          </a:lnTo>
                          <a:lnTo>
                            <a:pt x="9" y="41"/>
                          </a:lnTo>
                          <a:lnTo>
                            <a:pt x="7" y="35"/>
                          </a:lnTo>
                          <a:lnTo>
                            <a:pt x="4" y="33"/>
                          </a:lnTo>
                          <a:lnTo>
                            <a:pt x="0" y="29"/>
                          </a:lnTo>
                        </a:path>
                      </a:pathLst>
                    </a:custGeom>
                    <a:solidFill>
                      <a:srgbClr val="c8fec8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7961400" y="768240"/>
                      <a:ext cx="331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21">
                          <a:moveTo>
                            <a:pt x="0" y="14"/>
                          </a:moveTo>
                          <a:lnTo>
                            <a:pt x="7" y="17"/>
                          </a:lnTo>
                          <a:lnTo>
                            <a:pt x="12" y="17"/>
                          </a:lnTo>
                          <a:lnTo>
                            <a:pt x="16" y="19"/>
                          </a:lnTo>
                          <a:lnTo>
                            <a:pt x="18" y="20"/>
                          </a:lnTo>
                          <a:lnTo>
                            <a:pt x="20" y="16"/>
                          </a:lnTo>
                          <a:lnTo>
                            <a:pt x="19" y="14"/>
                          </a:lnTo>
                          <a:lnTo>
                            <a:pt x="20" y="12"/>
                          </a:lnTo>
                          <a:lnTo>
                            <a:pt x="19" y="9"/>
                          </a:lnTo>
                          <a:lnTo>
                            <a:pt x="17" y="11"/>
                          </a:lnTo>
                          <a:lnTo>
                            <a:pt x="12" y="6"/>
                          </a:lnTo>
                          <a:lnTo>
                            <a:pt x="12" y="2"/>
                          </a:lnTo>
                          <a:lnTo>
                            <a:pt x="15" y="0"/>
                          </a:lnTo>
                          <a:lnTo>
                            <a:pt x="13" y="0"/>
                          </a:lnTo>
                          <a:lnTo>
                            <a:pt x="8" y="2"/>
                          </a:lnTo>
                          <a:lnTo>
                            <a:pt x="8" y="5"/>
                          </a:lnTo>
                          <a:lnTo>
                            <a:pt x="6" y="9"/>
                          </a:lnTo>
                          <a:lnTo>
                            <a:pt x="4" y="13"/>
                          </a:lnTo>
                          <a:lnTo>
                            <a:pt x="0" y="14"/>
                          </a:lnTo>
                        </a:path>
                      </a:pathLst>
                    </a:custGeom>
                    <a:solidFill>
                      <a:srgbClr val="c8fec8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5" name=""/>
                <p:cNvGrpSpPr/>
                <p:nvPr/>
              </p:nvGrpSpPr>
              <p:grpSpPr>
                <a:xfrm>
                  <a:off x="7808760" y="746280"/>
                  <a:ext cx="76320" cy="82440"/>
                  <a:chOff x="7808760" y="746280"/>
                  <a:chExt cx="76320" cy="8244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>
                    <a:off x="7808760" y="746280"/>
                    <a:ext cx="4608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2">
                        <a:moveTo>
                          <a:pt x="0" y="3"/>
                        </a:moveTo>
                        <a:lnTo>
                          <a:pt x="4" y="1"/>
                        </a:lnTo>
                        <a:lnTo>
                          <a:pt x="5" y="2"/>
                        </a:lnTo>
                        <a:lnTo>
                          <a:pt x="8" y="1"/>
                        </a:lnTo>
                        <a:lnTo>
                          <a:pt x="12" y="0"/>
                        </a:lnTo>
                        <a:lnTo>
                          <a:pt x="15" y="2"/>
                        </a:lnTo>
                        <a:lnTo>
                          <a:pt x="17" y="2"/>
                        </a:lnTo>
                        <a:lnTo>
                          <a:pt x="18" y="5"/>
                        </a:lnTo>
                        <a:lnTo>
                          <a:pt x="20" y="6"/>
                        </a:lnTo>
                        <a:lnTo>
                          <a:pt x="20" y="9"/>
                        </a:lnTo>
                        <a:lnTo>
                          <a:pt x="20" y="12"/>
                        </a:lnTo>
                        <a:lnTo>
                          <a:pt x="21" y="14"/>
                        </a:lnTo>
                        <a:lnTo>
                          <a:pt x="25" y="19"/>
                        </a:lnTo>
                        <a:lnTo>
                          <a:pt x="26" y="20"/>
                        </a:lnTo>
                        <a:lnTo>
                          <a:pt x="27" y="20"/>
                        </a:lnTo>
                        <a:lnTo>
                          <a:pt x="28" y="23"/>
                        </a:lnTo>
                        <a:lnTo>
                          <a:pt x="25" y="25"/>
                        </a:lnTo>
                        <a:lnTo>
                          <a:pt x="21" y="31"/>
                        </a:lnTo>
                        <a:lnTo>
                          <a:pt x="20" y="30"/>
                        </a:lnTo>
                        <a:lnTo>
                          <a:pt x="19" y="28"/>
                        </a:lnTo>
                        <a:lnTo>
                          <a:pt x="19" y="23"/>
                        </a:lnTo>
                        <a:lnTo>
                          <a:pt x="20" y="21"/>
                        </a:lnTo>
                        <a:lnTo>
                          <a:pt x="20" y="19"/>
                        </a:lnTo>
                        <a:lnTo>
                          <a:pt x="13" y="20"/>
                        </a:lnTo>
                        <a:lnTo>
                          <a:pt x="8" y="25"/>
                        </a:lnTo>
                        <a:lnTo>
                          <a:pt x="8" y="26"/>
                        </a:lnTo>
                        <a:lnTo>
                          <a:pt x="7" y="29"/>
                        </a:lnTo>
                        <a:lnTo>
                          <a:pt x="3" y="30"/>
                        </a:lnTo>
                        <a:lnTo>
                          <a:pt x="2" y="28"/>
                        </a:lnTo>
                        <a:lnTo>
                          <a:pt x="3" y="25"/>
                        </a:lnTo>
                        <a:lnTo>
                          <a:pt x="4" y="23"/>
                        </a:lnTo>
                        <a:lnTo>
                          <a:pt x="5" y="23"/>
                        </a:lnTo>
                        <a:lnTo>
                          <a:pt x="4" y="20"/>
                        </a:lnTo>
                        <a:lnTo>
                          <a:pt x="7" y="16"/>
                        </a:lnTo>
                        <a:lnTo>
                          <a:pt x="9" y="16"/>
                        </a:lnTo>
                        <a:lnTo>
                          <a:pt x="12" y="17"/>
                        </a:lnTo>
                        <a:lnTo>
                          <a:pt x="14" y="15"/>
                        </a:lnTo>
                        <a:lnTo>
                          <a:pt x="16" y="15"/>
                        </a:lnTo>
                        <a:lnTo>
                          <a:pt x="16" y="13"/>
                        </a:lnTo>
                        <a:lnTo>
                          <a:pt x="11" y="12"/>
                        </a:lnTo>
                        <a:lnTo>
                          <a:pt x="11" y="7"/>
                        </a:lnTo>
                        <a:lnTo>
                          <a:pt x="9" y="7"/>
                        </a:lnTo>
                        <a:lnTo>
                          <a:pt x="5" y="7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7834320" y="80172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12"/>
                        </a:moveTo>
                        <a:lnTo>
                          <a:pt x="8" y="16"/>
                        </a:lnTo>
                        <a:lnTo>
                          <a:pt x="16" y="4"/>
                        </a:lnTo>
                        <a:lnTo>
                          <a:pt x="8" y="0"/>
                        </a:lnTo>
                        <a:lnTo>
                          <a:pt x="5" y="4"/>
                        </a:lnTo>
                        <a:lnTo>
                          <a:pt x="0" y="12"/>
                        </a:lnTo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7858080" y="7984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10"/>
                        </a:moveTo>
                        <a:lnTo>
                          <a:pt x="8" y="16"/>
                        </a:lnTo>
                        <a:lnTo>
                          <a:pt x="16" y="0"/>
                        </a:lnTo>
                        <a:lnTo>
                          <a:pt x="11" y="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7994520" y="385920"/>
                  <a:ext cx="28800" cy="39600"/>
                  <a:chOff x="7994520" y="385920"/>
                  <a:chExt cx="28800" cy="3960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7994520" y="39852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11"/>
                        </a:moveTo>
                        <a:lnTo>
                          <a:pt x="16" y="16"/>
                        </a:lnTo>
                        <a:lnTo>
                          <a:pt x="14" y="6"/>
                        </a:lnTo>
                        <a:lnTo>
                          <a:pt x="14" y="0"/>
                        </a:lnTo>
                        <a:lnTo>
                          <a:pt x="8" y="4"/>
                        </a:lnTo>
                        <a:lnTo>
                          <a:pt x="0" y="11"/>
                        </a:lnTo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7996320" y="38592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8"/>
                        </a:moveTo>
                        <a:lnTo>
                          <a:pt x="16" y="0"/>
                        </a:lnTo>
                        <a:lnTo>
                          <a:pt x="16" y="16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2" name=""/>
              <p:cNvGrpSpPr/>
              <p:nvPr/>
            </p:nvGrpSpPr>
            <p:grpSpPr>
              <a:xfrm>
                <a:off x="7826400" y="276120"/>
                <a:ext cx="852480" cy="1046160"/>
                <a:chOff x="7826400" y="276120"/>
                <a:chExt cx="852480" cy="104616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8215200" y="736560"/>
                  <a:ext cx="463680" cy="585720"/>
                </a:xfrm>
                <a:custGeom>
                  <a:avLst/>
                  <a:gdLst/>
                  <a:ahLst/>
                  <a:rect l="l" t="t" r="r" b="b"/>
                  <a:pathLst>
                    <a:path w="292" h="369">
                      <a:moveTo>
                        <a:pt x="24" y="56"/>
                      </a:moveTo>
                      <a:lnTo>
                        <a:pt x="41" y="49"/>
                      </a:lnTo>
                      <a:lnTo>
                        <a:pt x="49" y="37"/>
                      </a:lnTo>
                      <a:lnTo>
                        <a:pt x="56" y="34"/>
                      </a:lnTo>
                      <a:lnTo>
                        <a:pt x="68" y="25"/>
                      </a:lnTo>
                      <a:lnTo>
                        <a:pt x="80" y="39"/>
                      </a:lnTo>
                      <a:lnTo>
                        <a:pt x="86" y="34"/>
                      </a:lnTo>
                      <a:lnTo>
                        <a:pt x="90" y="35"/>
                      </a:lnTo>
                      <a:lnTo>
                        <a:pt x="96" y="33"/>
                      </a:lnTo>
                      <a:lnTo>
                        <a:pt x="100" y="33"/>
                      </a:lnTo>
                      <a:lnTo>
                        <a:pt x="108" y="34"/>
                      </a:lnTo>
                      <a:lnTo>
                        <a:pt x="117" y="29"/>
                      </a:lnTo>
                      <a:lnTo>
                        <a:pt x="110" y="22"/>
                      </a:lnTo>
                      <a:lnTo>
                        <a:pt x="119" y="12"/>
                      </a:lnTo>
                      <a:lnTo>
                        <a:pt x="127" y="12"/>
                      </a:lnTo>
                      <a:lnTo>
                        <a:pt x="138" y="2"/>
                      </a:lnTo>
                      <a:lnTo>
                        <a:pt x="146" y="2"/>
                      </a:lnTo>
                      <a:lnTo>
                        <a:pt x="150" y="0"/>
                      </a:lnTo>
                      <a:lnTo>
                        <a:pt x="161" y="2"/>
                      </a:lnTo>
                      <a:lnTo>
                        <a:pt x="166" y="6"/>
                      </a:lnTo>
                      <a:lnTo>
                        <a:pt x="171" y="7"/>
                      </a:lnTo>
                      <a:lnTo>
                        <a:pt x="179" y="11"/>
                      </a:lnTo>
                      <a:lnTo>
                        <a:pt x="188" y="15"/>
                      </a:lnTo>
                      <a:lnTo>
                        <a:pt x="196" y="20"/>
                      </a:lnTo>
                      <a:lnTo>
                        <a:pt x="207" y="30"/>
                      </a:lnTo>
                      <a:lnTo>
                        <a:pt x="211" y="37"/>
                      </a:lnTo>
                      <a:lnTo>
                        <a:pt x="222" y="35"/>
                      </a:lnTo>
                      <a:lnTo>
                        <a:pt x="240" y="38"/>
                      </a:lnTo>
                      <a:lnTo>
                        <a:pt x="249" y="43"/>
                      </a:lnTo>
                      <a:lnTo>
                        <a:pt x="267" y="30"/>
                      </a:lnTo>
                      <a:lnTo>
                        <a:pt x="266" y="23"/>
                      </a:lnTo>
                      <a:lnTo>
                        <a:pt x="272" y="15"/>
                      </a:lnTo>
                      <a:lnTo>
                        <a:pt x="279" y="12"/>
                      </a:lnTo>
                      <a:lnTo>
                        <a:pt x="282" y="23"/>
                      </a:lnTo>
                      <a:lnTo>
                        <a:pt x="283" y="37"/>
                      </a:lnTo>
                      <a:lnTo>
                        <a:pt x="287" y="52"/>
                      </a:lnTo>
                      <a:lnTo>
                        <a:pt x="287" y="63"/>
                      </a:lnTo>
                      <a:lnTo>
                        <a:pt x="280" y="72"/>
                      </a:lnTo>
                      <a:lnTo>
                        <a:pt x="288" y="75"/>
                      </a:lnTo>
                      <a:lnTo>
                        <a:pt x="285" y="86"/>
                      </a:lnTo>
                      <a:lnTo>
                        <a:pt x="283" y="100"/>
                      </a:lnTo>
                      <a:lnTo>
                        <a:pt x="279" y="111"/>
                      </a:lnTo>
                      <a:lnTo>
                        <a:pt x="274" y="119"/>
                      </a:lnTo>
                      <a:lnTo>
                        <a:pt x="271" y="125"/>
                      </a:lnTo>
                      <a:lnTo>
                        <a:pt x="272" y="135"/>
                      </a:lnTo>
                      <a:lnTo>
                        <a:pt x="275" y="146"/>
                      </a:lnTo>
                      <a:lnTo>
                        <a:pt x="272" y="154"/>
                      </a:lnTo>
                      <a:lnTo>
                        <a:pt x="274" y="160"/>
                      </a:lnTo>
                      <a:lnTo>
                        <a:pt x="276" y="165"/>
                      </a:lnTo>
                      <a:lnTo>
                        <a:pt x="280" y="173"/>
                      </a:lnTo>
                      <a:lnTo>
                        <a:pt x="291" y="184"/>
                      </a:lnTo>
                      <a:lnTo>
                        <a:pt x="289" y="194"/>
                      </a:lnTo>
                      <a:lnTo>
                        <a:pt x="284" y="214"/>
                      </a:lnTo>
                      <a:lnTo>
                        <a:pt x="278" y="235"/>
                      </a:lnTo>
                      <a:lnTo>
                        <a:pt x="273" y="250"/>
                      </a:lnTo>
                      <a:lnTo>
                        <a:pt x="266" y="267"/>
                      </a:lnTo>
                      <a:lnTo>
                        <a:pt x="257" y="287"/>
                      </a:lnTo>
                      <a:lnTo>
                        <a:pt x="249" y="303"/>
                      </a:lnTo>
                      <a:lnTo>
                        <a:pt x="239" y="321"/>
                      </a:lnTo>
                      <a:lnTo>
                        <a:pt x="230" y="333"/>
                      </a:lnTo>
                      <a:lnTo>
                        <a:pt x="221" y="347"/>
                      </a:lnTo>
                      <a:lnTo>
                        <a:pt x="208" y="363"/>
                      </a:lnTo>
                      <a:lnTo>
                        <a:pt x="197" y="368"/>
                      </a:lnTo>
                      <a:lnTo>
                        <a:pt x="187" y="365"/>
                      </a:lnTo>
                      <a:lnTo>
                        <a:pt x="182" y="354"/>
                      </a:lnTo>
                      <a:lnTo>
                        <a:pt x="185" y="351"/>
                      </a:lnTo>
                      <a:lnTo>
                        <a:pt x="187" y="342"/>
                      </a:lnTo>
                      <a:lnTo>
                        <a:pt x="182" y="337"/>
                      </a:lnTo>
                      <a:lnTo>
                        <a:pt x="182" y="331"/>
                      </a:lnTo>
                      <a:lnTo>
                        <a:pt x="178" y="326"/>
                      </a:lnTo>
                      <a:lnTo>
                        <a:pt x="178" y="309"/>
                      </a:lnTo>
                      <a:lnTo>
                        <a:pt x="173" y="298"/>
                      </a:lnTo>
                      <a:lnTo>
                        <a:pt x="171" y="291"/>
                      </a:lnTo>
                      <a:lnTo>
                        <a:pt x="165" y="285"/>
                      </a:lnTo>
                      <a:lnTo>
                        <a:pt x="157" y="277"/>
                      </a:lnTo>
                      <a:lnTo>
                        <a:pt x="164" y="266"/>
                      </a:lnTo>
                      <a:lnTo>
                        <a:pt x="165" y="257"/>
                      </a:lnTo>
                      <a:lnTo>
                        <a:pt x="165" y="251"/>
                      </a:lnTo>
                      <a:lnTo>
                        <a:pt x="171" y="248"/>
                      </a:lnTo>
                      <a:lnTo>
                        <a:pt x="168" y="240"/>
                      </a:lnTo>
                      <a:lnTo>
                        <a:pt x="166" y="230"/>
                      </a:lnTo>
                      <a:lnTo>
                        <a:pt x="164" y="220"/>
                      </a:lnTo>
                      <a:lnTo>
                        <a:pt x="138" y="199"/>
                      </a:lnTo>
                      <a:lnTo>
                        <a:pt x="135" y="193"/>
                      </a:lnTo>
                      <a:lnTo>
                        <a:pt x="138" y="179"/>
                      </a:lnTo>
                      <a:lnTo>
                        <a:pt x="131" y="173"/>
                      </a:lnTo>
                      <a:lnTo>
                        <a:pt x="125" y="176"/>
                      </a:lnTo>
                      <a:lnTo>
                        <a:pt x="111" y="178"/>
                      </a:lnTo>
                      <a:lnTo>
                        <a:pt x="107" y="172"/>
                      </a:lnTo>
                      <a:lnTo>
                        <a:pt x="99" y="179"/>
                      </a:lnTo>
                      <a:lnTo>
                        <a:pt x="94" y="187"/>
                      </a:lnTo>
                      <a:lnTo>
                        <a:pt x="85" y="187"/>
                      </a:lnTo>
                      <a:lnTo>
                        <a:pt x="78" y="192"/>
                      </a:lnTo>
                      <a:lnTo>
                        <a:pt x="69" y="192"/>
                      </a:lnTo>
                      <a:lnTo>
                        <a:pt x="59" y="199"/>
                      </a:lnTo>
                      <a:lnTo>
                        <a:pt x="46" y="198"/>
                      </a:lnTo>
                      <a:lnTo>
                        <a:pt x="29" y="186"/>
                      </a:lnTo>
                      <a:lnTo>
                        <a:pt x="15" y="175"/>
                      </a:lnTo>
                      <a:lnTo>
                        <a:pt x="8" y="168"/>
                      </a:lnTo>
                      <a:lnTo>
                        <a:pt x="8" y="145"/>
                      </a:lnTo>
                      <a:lnTo>
                        <a:pt x="0" y="138"/>
                      </a:lnTo>
                      <a:lnTo>
                        <a:pt x="0" y="131"/>
                      </a:lnTo>
                      <a:lnTo>
                        <a:pt x="1" y="124"/>
                      </a:lnTo>
                      <a:lnTo>
                        <a:pt x="7" y="116"/>
                      </a:lnTo>
                      <a:lnTo>
                        <a:pt x="3" y="108"/>
                      </a:lnTo>
                      <a:lnTo>
                        <a:pt x="7" y="99"/>
                      </a:lnTo>
                      <a:lnTo>
                        <a:pt x="13" y="95"/>
                      </a:lnTo>
                      <a:lnTo>
                        <a:pt x="18" y="90"/>
                      </a:lnTo>
                      <a:lnTo>
                        <a:pt x="18" y="85"/>
                      </a:lnTo>
                      <a:lnTo>
                        <a:pt x="13" y="81"/>
                      </a:lnTo>
                      <a:lnTo>
                        <a:pt x="13" y="75"/>
                      </a:lnTo>
                      <a:lnTo>
                        <a:pt x="17" y="71"/>
                      </a:lnTo>
                      <a:lnTo>
                        <a:pt x="24" y="56"/>
                      </a:lnTo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4" name=""/>
                <p:cNvGrpSpPr/>
                <p:nvPr/>
              </p:nvGrpSpPr>
              <p:grpSpPr>
                <a:xfrm>
                  <a:off x="8583480" y="950760"/>
                  <a:ext cx="63720" cy="127080"/>
                  <a:chOff x="8583480" y="950760"/>
                  <a:chExt cx="63720" cy="12708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>
                    <a:off x="8583480" y="950760"/>
                    <a:ext cx="2700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3">
                        <a:moveTo>
                          <a:pt x="11" y="0"/>
                        </a:moveTo>
                        <a:lnTo>
                          <a:pt x="0" y="6"/>
                        </a:lnTo>
                        <a:lnTo>
                          <a:pt x="4" y="15"/>
                        </a:lnTo>
                        <a:lnTo>
                          <a:pt x="8" y="22"/>
                        </a:lnTo>
                        <a:lnTo>
                          <a:pt x="16" y="17"/>
                        </a:lnTo>
                        <a:lnTo>
                          <a:pt x="11" y="0"/>
                        </a:lnTo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8620200" y="1039680"/>
                    <a:ext cx="270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10" y="0"/>
                        </a:moveTo>
                        <a:lnTo>
                          <a:pt x="0" y="5"/>
                        </a:lnTo>
                        <a:lnTo>
                          <a:pt x="2" y="12"/>
                        </a:lnTo>
                        <a:lnTo>
                          <a:pt x="4" y="22"/>
                        </a:lnTo>
                        <a:lnTo>
                          <a:pt x="16" y="23"/>
                        </a:lnTo>
                        <a:lnTo>
                          <a:pt x="16" y="16"/>
                        </a:lnTo>
                        <a:lnTo>
                          <a:pt x="10" y="0"/>
                        </a:lnTo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7" name=""/>
                <p:cNvSpPr/>
                <p:nvPr/>
              </p:nvSpPr>
              <p:spPr>
                <a:xfrm>
                  <a:off x="7826400" y="276120"/>
                  <a:ext cx="799920" cy="554040"/>
                </a:xfrm>
                <a:custGeom>
                  <a:avLst/>
                  <a:gdLst/>
                  <a:ahLst/>
                  <a:rect l="l" t="t" r="r" b="b"/>
                  <a:pathLst>
                    <a:path w="504" h="349">
                      <a:moveTo>
                        <a:pt x="245" y="324"/>
                      </a:moveTo>
                      <a:lnTo>
                        <a:pt x="252" y="334"/>
                      </a:lnTo>
                      <a:lnTo>
                        <a:pt x="249" y="339"/>
                      </a:lnTo>
                      <a:lnTo>
                        <a:pt x="252" y="344"/>
                      </a:lnTo>
                      <a:lnTo>
                        <a:pt x="257" y="348"/>
                      </a:lnTo>
                      <a:lnTo>
                        <a:pt x="263" y="347"/>
                      </a:lnTo>
                      <a:lnTo>
                        <a:pt x="270" y="339"/>
                      </a:lnTo>
                      <a:lnTo>
                        <a:pt x="278" y="334"/>
                      </a:lnTo>
                      <a:lnTo>
                        <a:pt x="281" y="330"/>
                      </a:lnTo>
                      <a:lnTo>
                        <a:pt x="280" y="325"/>
                      </a:lnTo>
                      <a:lnTo>
                        <a:pt x="279" y="319"/>
                      </a:lnTo>
                      <a:lnTo>
                        <a:pt x="279" y="313"/>
                      </a:lnTo>
                      <a:lnTo>
                        <a:pt x="283" y="311"/>
                      </a:lnTo>
                      <a:lnTo>
                        <a:pt x="283" y="305"/>
                      </a:lnTo>
                      <a:lnTo>
                        <a:pt x="281" y="302"/>
                      </a:lnTo>
                      <a:lnTo>
                        <a:pt x="284" y="299"/>
                      </a:lnTo>
                      <a:lnTo>
                        <a:pt x="289" y="300"/>
                      </a:lnTo>
                      <a:lnTo>
                        <a:pt x="290" y="297"/>
                      </a:lnTo>
                      <a:lnTo>
                        <a:pt x="290" y="293"/>
                      </a:lnTo>
                      <a:lnTo>
                        <a:pt x="292" y="289"/>
                      </a:lnTo>
                      <a:lnTo>
                        <a:pt x="303" y="291"/>
                      </a:lnTo>
                      <a:lnTo>
                        <a:pt x="307" y="294"/>
                      </a:lnTo>
                      <a:lnTo>
                        <a:pt x="327" y="292"/>
                      </a:lnTo>
                      <a:lnTo>
                        <a:pt x="328" y="288"/>
                      </a:lnTo>
                      <a:lnTo>
                        <a:pt x="322" y="283"/>
                      </a:lnTo>
                      <a:lnTo>
                        <a:pt x="309" y="284"/>
                      </a:lnTo>
                      <a:lnTo>
                        <a:pt x="302" y="283"/>
                      </a:lnTo>
                      <a:lnTo>
                        <a:pt x="300" y="281"/>
                      </a:lnTo>
                      <a:lnTo>
                        <a:pt x="300" y="276"/>
                      </a:lnTo>
                      <a:lnTo>
                        <a:pt x="302" y="274"/>
                      </a:lnTo>
                      <a:lnTo>
                        <a:pt x="307" y="278"/>
                      </a:lnTo>
                      <a:lnTo>
                        <a:pt x="315" y="278"/>
                      </a:lnTo>
                      <a:lnTo>
                        <a:pt x="320" y="278"/>
                      </a:lnTo>
                      <a:lnTo>
                        <a:pt x="325" y="278"/>
                      </a:lnTo>
                      <a:lnTo>
                        <a:pt x="330" y="281"/>
                      </a:lnTo>
                      <a:lnTo>
                        <a:pt x="336" y="284"/>
                      </a:lnTo>
                      <a:lnTo>
                        <a:pt x="342" y="285"/>
                      </a:lnTo>
                      <a:lnTo>
                        <a:pt x="342" y="280"/>
                      </a:lnTo>
                      <a:lnTo>
                        <a:pt x="346" y="278"/>
                      </a:lnTo>
                      <a:lnTo>
                        <a:pt x="344" y="274"/>
                      </a:lnTo>
                      <a:lnTo>
                        <a:pt x="341" y="271"/>
                      </a:lnTo>
                      <a:lnTo>
                        <a:pt x="342" y="268"/>
                      </a:lnTo>
                      <a:lnTo>
                        <a:pt x="343" y="265"/>
                      </a:lnTo>
                      <a:lnTo>
                        <a:pt x="348" y="259"/>
                      </a:lnTo>
                      <a:lnTo>
                        <a:pt x="351" y="262"/>
                      </a:lnTo>
                      <a:lnTo>
                        <a:pt x="348" y="268"/>
                      </a:lnTo>
                      <a:lnTo>
                        <a:pt x="352" y="270"/>
                      </a:lnTo>
                      <a:lnTo>
                        <a:pt x="356" y="271"/>
                      </a:lnTo>
                      <a:lnTo>
                        <a:pt x="360" y="274"/>
                      </a:lnTo>
                      <a:lnTo>
                        <a:pt x="366" y="274"/>
                      </a:lnTo>
                      <a:lnTo>
                        <a:pt x="370" y="273"/>
                      </a:lnTo>
                      <a:lnTo>
                        <a:pt x="372" y="269"/>
                      </a:lnTo>
                      <a:lnTo>
                        <a:pt x="372" y="265"/>
                      </a:lnTo>
                      <a:lnTo>
                        <a:pt x="375" y="262"/>
                      </a:lnTo>
                      <a:lnTo>
                        <a:pt x="380" y="260"/>
                      </a:lnTo>
                      <a:lnTo>
                        <a:pt x="382" y="257"/>
                      </a:lnTo>
                      <a:lnTo>
                        <a:pt x="381" y="253"/>
                      </a:lnTo>
                      <a:lnTo>
                        <a:pt x="383" y="250"/>
                      </a:lnTo>
                      <a:lnTo>
                        <a:pt x="388" y="257"/>
                      </a:lnTo>
                      <a:lnTo>
                        <a:pt x="391" y="262"/>
                      </a:lnTo>
                      <a:lnTo>
                        <a:pt x="393" y="265"/>
                      </a:lnTo>
                      <a:lnTo>
                        <a:pt x="395" y="269"/>
                      </a:lnTo>
                      <a:lnTo>
                        <a:pt x="397" y="273"/>
                      </a:lnTo>
                      <a:lnTo>
                        <a:pt x="397" y="278"/>
                      </a:lnTo>
                      <a:lnTo>
                        <a:pt x="397" y="282"/>
                      </a:lnTo>
                      <a:lnTo>
                        <a:pt x="399" y="286"/>
                      </a:lnTo>
                      <a:lnTo>
                        <a:pt x="404" y="289"/>
                      </a:lnTo>
                      <a:lnTo>
                        <a:pt x="409" y="289"/>
                      </a:lnTo>
                      <a:lnTo>
                        <a:pt x="415" y="288"/>
                      </a:lnTo>
                      <a:lnTo>
                        <a:pt x="424" y="289"/>
                      </a:lnTo>
                      <a:lnTo>
                        <a:pt x="434" y="295"/>
                      </a:lnTo>
                      <a:lnTo>
                        <a:pt x="439" y="294"/>
                      </a:lnTo>
                      <a:lnTo>
                        <a:pt x="443" y="299"/>
                      </a:lnTo>
                      <a:lnTo>
                        <a:pt x="447" y="302"/>
                      </a:lnTo>
                      <a:lnTo>
                        <a:pt x="455" y="305"/>
                      </a:lnTo>
                      <a:lnTo>
                        <a:pt x="461" y="305"/>
                      </a:lnTo>
                      <a:lnTo>
                        <a:pt x="467" y="307"/>
                      </a:lnTo>
                      <a:lnTo>
                        <a:pt x="474" y="312"/>
                      </a:lnTo>
                      <a:lnTo>
                        <a:pt x="483" y="321"/>
                      </a:lnTo>
                      <a:lnTo>
                        <a:pt x="490" y="327"/>
                      </a:lnTo>
                      <a:lnTo>
                        <a:pt x="494" y="319"/>
                      </a:lnTo>
                      <a:lnTo>
                        <a:pt x="496" y="312"/>
                      </a:lnTo>
                      <a:lnTo>
                        <a:pt x="500" y="304"/>
                      </a:lnTo>
                      <a:lnTo>
                        <a:pt x="502" y="292"/>
                      </a:lnTo>
                      <a:lnTo>
                        <a:pt x="503" y="279"/>
                      </a:lnTo>
                      <a:lnTo>
                        <a:pt x="501" y="276"/>
                      </a:lnTo>
                      <a:lnTo>
                        <a:pt x="503" y="261"/>
                      </a:lnTo>
                      <a:lnTo>
                        <a:pt x="502" y="251"/>
                      </a:lnTo>
                      <a:lnTo>
                        <a:pt x="500" y="245"/>
                      </a:lnTo>
                      <a:lnTo>
                        <a:pt x="500" y="236"/>
                      </a:lnTo>
                      <a:lnTo>
                        <a:pt x="496" y="232"/>
                      </a:lnTo>
                      <a:lnTo>
                        <a:pt x="494" y="228"/>
                      </a:lnTo>
                      <a:lnTo>
                        <a:pt x="491" y="222"/>
                      </a:lnTo>
                      <a:lnTo>
                        <a:pt x="491" y="217"/>
                      </a:lnTo>
                      <a:lnTo>
                        <a:pt x="488" y="213"/>
                      </a:lnTo>
                      <a:lnTo>
                        <a:pt x="482" y="213"/>
                      </a:lnTo>
                      <a:lnTo>
                        <a:pt x="478" y="213"/>
                      </a:lnTo>
                      <a:lnTo>
                        <a:pt x="476" y="217"/>
                      </a:lnTo>
                      <a:lnTo>
                        <a:pt x="472" y="218"/>
                      </a:lnTo>
                      <a:lnTo>
                        <a:pt x="467" y="218"/>
                      </a:lnTo>
                      <a:lnTo>
                        <a:pt x="467" y="225"/>
                      </a:lnTo>
                      <a:lnTo>
                        <a:pt x="468" y="230"/>
                      </a:lnTo>
                      <a:lnTo>
                        <a:pt x="467" y="234"/>
                      </a:lnTo>
                      <a:lnTo>
                        <a:pt x="466" y="238"/>
                      </a:lnTo>
                      <a:lnTo>
                        <a:pt x="462" y="240"/>
                      </a:lnTo>
                      <a:lnTo>
                        <a:pt x="458" y="240"/>
                      </a:lnTo>
                      <a:lnTo>
                        <a:pt x="455" y="238"/>
                      </a:lnTo>
                      <a:lnTo>
                        <a:pt x="452" y="237"/>
                      </a:lnTo>
                      <a:lnTo>
                        <a:pt x="450" y="237"/>
                      </a:lnTo>
                      <a:lnTo>
                        <a:pt x="446" y="236"/>
                      </a:lnTo>
                      <a:lnTo>
                        <a:pt x="442" y="236"/>
                      </a:lnTo>
                      <a:lnTo>
                        <a:pt x="438" y="235"/>
                      </a:lnTo>
                      <a:lnTo>
                        <a:pt x="435" y="231"/>
                      </a:lnTo>
                      <a:lnTo>
                        <a:pt x="440" y="227"/>
                      </a:lnTo>
                      <a:lnTo>
                        <a:pt x="443" y="227"/>
                      </a:lnTo>
                      <a:lnTo>
                        <a:pt x="445" y="228"/>
                      </a:lnTo>
                      <a:lnTo>
                        <a:pt x="449" y="228"/>
                      </a:lnTo>
                      <a:lnTo>
                        <a:pt x="455" y="224"/>
                      </a:lnTo>
                      <a:lnTo>
                        <a:pt x="458" y="219"/>
                      </a:lnTo>
                      <a:lnTo>
                        <a:pt x="463" y="213"/>
                      </a:lnTo>
                      <a:lnTo>
                        <a:pt x="467" y="208"/>
                      </a:lnTo>
                      <a:lnTo>
                        <a:pt x="469" y="203"/>
                      </a:lnTo>
                      <a:lnTo>
                        <a:pt x="473" y="199"/>
                      </a:lnTo>
                      <a:lnTo>
                        <a:pt x="474" y="194"/>
                      </a:lnTo>
                      <a:lnTo>
                        <a:pt x="477" y="184"/>
                      </a:lnTo>
                      <a:lnTo>
                        <a:pt x="462" y="163"/>
                      </a:lnTo>
                      <a:lnTo>
                        <a:pt x="447" y="144"/>
                      </a:lnTo>
                      <a:lnTo>
                        <a:pt x="432" y="127"/>
                      </a:lnTo>
                      <a:lnTo>
                        <a:pt x="417" y="113"/>
                      </a:lnTo>
                      <a:lnTo>
                        <a:pt x="406" y="103"/>
                      </a:lnTo>
                      <a:lnTo>
                        <a:pt x="397" y="94"/>
                      </a:lnTo>
                      <a:lnTo>
                        <a:pt x="384" y="84"/>
                      </a:lnTo>
                      <a:lnTo>
                        <a:pt x="371" y="75"/>
                      </a:lnTo>
                      <a:lnTo>
                        <a:pt x="355" y="63"/>
                      </a:lnTo>
                      <a:lnTo>
                        <a:pt x="341" y="54"/>
                      </a:lnTo>
                      <a:lnTo>
                        <a:pt x="327" y="47"/>
                      </a:lnTo>
                      <a:lnTo>
                        <a:pt x="313" y="41"/>
                      </a:lnTo>
                      <a:lnTo>
                        <a:pt x="296" y="33"/>
                      </a:lnTo>
                      <a:lnTo>
                        <a:pt x="272" y="23"/>
                      </a:lnTo>
                      <a:lnTo>
                        <a:pt x="246" y="15"/>
                      </a:lnTo>
                      <a:lnTo>
                        <a:pt x="224" y="9"/>
                      </a:lnTo>
                      <a:lnTo>
                        <a:pt x="208" y="7"/>
                      </a:lnTo>
                      <a:lnTo>
                        <a:pt x="185" y="3"/>
                      </a:lnTo>
                      <a:lnTo>
                        <a:pt x="157" y="0"/>
                      </a:lnTo>
                      <a:lnTo>
                        <a:pt x="121" y="0"/>
                      </a:lnTo>
                      <a:lnTo>
                        <a:pt x="92" y="2"/>
                      </a:lnTo>
                      <a:lnTo>
                        <a:pt x="90" y="7"/>
                      </a:lnTo>
                      <a:lnTo>
                        <a:pt x="84" y="8"/>
                      </a:lnTo>
                      <a:lnTo>
                        <a:pt x="80" y="9"/>
                      </a:lnTo>
                      <a:lnTo>
                        <a:pt x="73" y="9"/>
                      </a:lnTo>
                      <a:lnTo>
                        <a:pt x="65" y="12"/>
                      </a:lnTo>
                      <a:lnTo>
                        <a:pt x="56" y="14"/>
                      </a:lnTo>
                      <a:lnTo>
                        <a:pt x="50" y="21"/>
                      </a:lnTo>
                      <a:lnTo>
                        <a:pt x="48" y="26"/>
                      </a:lnTo>
                      <a:lnTo>
                        <a:pt x="43" y="33"/>
                      </a:lnTo>
                      <a:lnTo>
                        <a:pt x="37" y="33"/>
                      </a:lnTo>
                      <a:lnTo>
                        <a:pt x="31" y="38"/>
                      </a:lnTo>
                      <a:lnTo>
                        <a:pt x="31" y="30"/>
                      </a:lnTo>
                      <a:lnTo>
                        <a:pt x="36" y="17"/>
                      </a:lnTo>
                      <a:lnTo>
                        <a:pt x="37" y="12"/>
                      </a:lnTo>
                      <a:lnTo>
                        <a:pt x="23" y="15"/>
                      </a:lnTo>
                      <a:lnTo>
                        <a:pt x="13" y="18"/>
                      </a:lnTo>
                      <a:lnTo>
                        <a:pt x="13" y="23"/>
                      </a:lnTo>
                      <a:lnTo>
                        <a:pt x="22" y="29"/>
                      </a:lnTo>
                      <a:lnTo>
                        <a:pt x="21" y="33"/>
                      </a:lnTo>
                      <a:lnTo>
                        <a:pt x="19" y="39"/>
                      </a:lnTo>
                      <a:lnTo>
                        <a:pt x="15" y="44"/>
                      </a:lnTo>
                      <a:lnTo>
                        <a:pt x="8" y="49"/>
                      </a:lnTo>
                      <a:lnTo>
                        <a:pt x="7" y="57"/>
                      </a:lnTo>
                      <a:lnTo>
                        <a:pt x="5" y="65"/>
                      </a:lnTo>
                      <a:lnTo>
                        <a:pt x="5" y="71"/>
                      </a:lnTo>
                      <a:lnTo>
                        <a:pt x="13" y="70"/>
                      </a:lnTo>
                      <a:lnTo>
                        <a:pt x="13" y="80"/>
                      </a:lnTo>
                      <a:lnTo>
                        <a:pt x="6" y="83"/>
                      </a:lnTo>
                      <a:lnTo>
                        <a:pt x="0" y="89"/>
                      </a:lnTo>
                      <a:lnTo>
                        <a:pt x="7" y="96"/>
                      </a:lnTo>
                      <a:lnTo>
                        <a:pt x="15" y="89"/>
                      </a:lnTo>
                      <a:lnTo>
                        <a:pt x="19" y="88"/>
                      </a:lnTo>
                      <a:lnTo>
                        <a:pt x="26" y="87"/>
                      </a:lnTo>
                      <a:lnTo>
                        <a:pt x="32" y="84"/>
                      </a:lnTo>
                      <a:lnTo>
                        <a:pt x="37" y="83"/>
                      </a:lnTo>
                      <a:lnTo>
                        <a:pt x="43" y="78"/>
                      </a:lnTo>
                      <a:lnTo>
                        <a:pt x="49" y="70"/>
                      </a:lnTo>
                      <a:lnTo>
                        <a:pt x="54" y="68"/>
                      </a:lnTo>
                      <a:lnTo>
                        <a:pt x="60" y="66"/>
                      </a:lnTo>
                      <a:lnTo>
                        <a:pt x="67" y="65"/>
                      </a:lnTo>
                      <a:lnTo>
                        <a:pt x="70" y="66"/>
                      </a:lnTo>
                      <a:lnTo>
                        <a:pt x="75" y="65"/>
                      </a:lnTo>
                      <a:lnTo>
                        <a:pt x="78" y="64"/>
                      </a:lnTo>
                      <a:lnTo>
                        <a:pt x="87" y="63"/>
                      </a:lnTo>
                      <a:lnTo>
                        <a:pt x="91" y="65"/>
                      </a:lnTo>
                      <a:lnTo>
                        <a:pt x="100" y="66"/>
                      </a:lnTo>
                      <a:lnTo>
                        <a:pt x="106" y="64"/>
                      </a:lnTo>
                      <a:lnTo>
                        <a:pt x="112" y="59"/>
                      </a:lnTo>
                      <a:lnTo>
                        <a:pt x="120" y="60"/>
                      </a:lnTo>
                      <a:lnTo>
                        <a:pt x="127" y="59"/>
                      </a:lnTo>
                      <a:lnTo>
                        <a:pt x="131" y="59"/>
                      </a:lnTo>
                      <a:lnTo>
                        <a:pt x="130" y="65"/>
                      </a:lnTo>
                      <a:lnTo>
                        <a:pt x="133" y="67"/>
                      </a:lnTo>
                      <a:lnTo>
                        <a:pt x="137" y="70"/>
                      </a:lnTo>
                      <a:lnTo>
                        <a:pt x="142" y="67"/>
                      </a:lnTo>
                      <a:lnTo>
                        <a:pt x="148" y="69"/>
                      </a:lnTo>
                      <a:lnTo>
                        <a:pt x="154" y="72"/>
                      </a:lnTo>
                      <a:lnTo>
                        <a:pt x="160" y="73"/>
                      </a:lnTo>
                      <a:lnTo>
                        <a:pt x="171" y="75"/>
                      </a:lnTo>
                      <a:lnTo>
                        <a:pt x="159" y="76"/>
                      </a:lnTo>
                      <a:lnTo>
                        <a:pt x="154" y="78"/>
                      </a:lnTo>
                      <a:lnTo>
                        <a:pt x="151" y="81"/>
                      </a:lnTo>
                      <a:lnTo>
                        <a:pt x="156" y="89"/>
                      </a:lnTo>
                      <a:lnTo>
                        <a:pt x="159" y="93"/>
                      </a:lnTo>
                      <a:lnTo>
                        <a:pt x="168" y="92"/>
                      </a:lnTo>
                      <a:lnTo>
                        <a:pt x="174" y="94"/>
                      </a:lnTo>
                      <a:lnTo>
                        <a:pt x="182" y="98"/>
                      </a:lnTo>
                      <a:lnTo>
                        <a:pt x="190" y="98"/>
                      </a:lnTo>
                      <a:lnTo>
                        <a:pt x="195" y="99"/>
                      </a:lnTo>
                      <a:lnTo>
                        <a:pt x="206" y="92"/>
                      </a:lnTo>
                      <a:lnTo>
                        <a:pt x="209" y="92"/>
                      </a:lnTo>
                      <a:lnTo>
                        <a:pt x="203" y="98"/>
                      </a:lnTo>
                      <a:lnTo>
                        <a:pt x="210" y="106"/>
                      </a:lnTo>
                      <a:lnTo>
                        <a:pt x="223" y="103"/>
                      </a:lnTo>
                      <a:lnTo>
                        <a:pt x="225" y="101"/>
                      </a:lnTo>
                      <a:lnTo>
                        <a:pt x="225" y="96"/>
                      </a:lnTo>
                      <a:lnTo>
                        <a:pt x="230" y="98"/>
                      </a:lnTo>
                      <a:lnTo>
                        <a:pt x="238" y="104"/>
                      </a:lnTo>
                      <a:lnTo>
                        <a:pt x="230" y="103"/>
                      </a:lnTo>
                      <a:lnTo>
                        <a:pt x="228" y="105"/>
                      </a:lnTo>
                      <a:lnTo>
                        <a:pt x="224" y="106"/>
                      </a:lnTo>
                      <a:lnTo>
                        <a:pt x="220" y="107"/>
                      </a:lnTo>
                      <a:lnTo>
                        <a:pt x="215" y="108"/>
                      </a:lnTo>
                      <a:lnTo>
                        <a:pt x="209" y="112"/>
                      </a:lnTo>
                      <a:lnTo>
                        <a:pt x="215" y="114"/>
                      </a:lnTo>
                      <a:lnTo>
                        <a:pt x="231" y="114"/>
                      </a:lnTo>
                      <a:lnTo>
                        <a:pt x="229" y="120"/>
                      </a:lnTo>
                      <a:lnTo>
                        <a:pt x="228" y="127"/>
                      </a:lnTo>
                      <a:lnTo>
                        <a:pt x="233" y="128"/>
                      </a:lnTo>
                      <a:lnTo>
                        <a:pt x="236" y="131"/>
                      </a:lnTo>
                      <a:lnTo>
                        <a:pt x="238" y="139"/>
                      </a:lnTo>
                      <a:lnTo>
                        <a:pt x="241" y="143"/>
                      </a:lnTo>
                      <a:lnTo>
                        <a:pt x="241" y="147"/>
                      </a:lnTo>
                      <a:lnTo>
                        <a:pt x="241" y="152"/>
                      </a:lnTo>
                      <a:lnTo>
                        <a:pt x="256" y="165"/>
                      </a:lnTo>
                      <a:lnTo>
                        <a:pt x="255" y="170"/>
                      </a:lnTo>
                      <a:lnTo>
                        <a:pt x="253" y="173"/>
                      </a:lnTo>
                      <a:lnTo>
                        <a:pt x="250" y="171"/>
                      </a:lnTo>
                      <a:lnTo>
                        <a:pt x="246" y="170"/>
                      </a:lnTo>
                      <a:lnTo>
                        <a:pt x="244" y="170"/>
                      </a:lnTo>
                      <a:lnTo>
                        <a:pt x="242" y="170"/>
                      </a:lnTo>
                      <a:lnTo>
                        <a:pt x="248" y="164"/>
                      </a:lnTo>
                      <a:lnTo>
                        <a:pt x="246" y="160"/>
                      </a:lnTo>
                      <a:lnTo>
                        <a:pt x="241" y="159"/>
                      </a:lnTo>
                      <a:lnTo>
                        <a:pt x="238" y="159"/>
                      </a:lnTo>
                      <a:lnTo>
                        <a:pt x="236" y="160"/>
                      </a:lnTo>
                      <a:lnTo>
                        <a:pt x="230" y="163"/>
                      </a:lnTo>
                      <a:lnTo>
                        <a:pt x="228" y="165"/>
                      </a:lnTo>
                      <a:lnTo>
                        <a:pt x="221" y="166"/>
                      </a:lnTo>
                      <a:lnTo>
                        <a:pt x="216" y="166"/>
                      </a:lnTo>
                      <a:lnTo>
                        <a:pt x="217" y="171"/>
                      </a:lnTo>
                      <a:lnTo>
                        <a:pt x="217" y="178"/>
                      </a:lnTo>
                      <a:lnTo>
                        <a:pt x="216" y="184"/>
                      </a:lnTo>
                      <a:lnTo>
                        <a:pt x="217" y="190"/>
                      </a:lnTo>
                      <a:lnTo>
                        <a:pt x="220" y="194"/>
                      </a:lnTo>
                      <a:lnTo>
                        <a:pt x="219" y="199"/>
                      </a:lnTo>
                      <a:lnTo>
                        <a:pt x="222" y="202"/>
                      </a:lnTo>
                      <a:lnTo>
                        <a:pt x="225" y="205"/>
                      </a:lnTo>
                      <a:lnTo>
                        <a:pt x="225" y="209"/>
                      </a:lnTo>
                      <a:lnTo>
                        <a:pt x="229" y="211"/>
                      </a:lnTo>
                      <a:lnTo>
                        <a:pt x="227" y="217"/>
                      </a:lnTo>
                      <a:lnTo>
                        <a:pt x="228" y="224"/>
                      </a:lnTo>
                      <a:lnTo>
                        <a:pt x="231" y="230"/>
                      </a:lnTo>
                      <a:lnTo>
                        <a:pt x="237" y="238"/>
                      </a:lnTo>
                      <a:lnTo>
                        <a:pt x="240" y="238"/>
                      </a:lnTo>
                      <a:lnTo>
                        <a:pt x="244" y="240"/>
                      </a:lnTo>
                      <a:lnTo>
                        <a:pt x="249" y="233"/>
                      </a:lnTo>
                      <a:lnTo>
                        <a:pt x="253" y="230"/>
                      </a:lnTo>
                      <a:lnTo>
                        <a:pt x="258" y="235"/>
                      </a:lnTo>
                      <a:lnTo>
                        <a:pt x="261" y="236"/>
                      </a:lnTo>
                      <a:lnTo>
                        <a:pt x="267" y="234"/>
                      </a:lnTo>
                      <a:lnTo>
                        <a:pt x="267" y="229"/>
                      </a:lnTo>
                      <a:lnTo>
                        <a:pt x="262" y="223"/>
                      </a:lnTo>
                      <a:lnTo>
                        <a:pt x="258" y="219"/>
                      </a:lnTo>
                      <a:lnTo>
                        <a:pt x="257" y="215"/>
                      </a:lnTo>
                      <a:lnTo>
                        <a:pt x="252" y="211"/>
                      </a:lnTo>
                      <a:lnTo>
                        <a:pt x="248" y="210"/>
                      </a:lnTo>
                      <a:lnTo>
                        <a:pt x="246" y="204"/>
                      </a:lnTo>
                      <a:lnTo>
                        <a:pt x="244" y="200"/>
                      </a:lnTo>
                      <a:lnTo>
                        <a:pt x="241" y="197"/>
                      </a:lnTo>
                      <a:lnTo>
                        <a:pt x="240" y="189"/>
                      </a:lnTo>
                      <a:lnTo>
                        <a:pt x="241" y="188"/>
                      </a:lnTo>
                      <a:lnTo>
                        <a:pt x="246" y="193"/>
                      </a:lnTo>
                      <a:lnTo>
                        <a:pt x="246" y="197"/>
                      </a:lnTo>
                      <a:lnTo>
                        <a:pt x="250" y="201"/>
                      </a:lnTo>
                      <a:lnTo>
                        <a:pt x="254" y="205"/>
                      </a:lnTo>
                      <a:lnTo>
                        <a:pt x="256" y="208"/>
                      </a:lnTo>
                      <a:lnTo>
                        <a:pt x="259" y="204"/>
                      </a:lnTo>
                      <a:lnTo>
                        <a:pt x="261" y="202"/>
                      </a:lnTo>
                      <a:lnTo>
                        <a:pt x="265" y="201"/>
                      </a:lnTo>
                      <a:lnTo>
                        <a:pt x="266" y="198"/>
                      </a:lnTo>
                      <a:lnTo>
                        <a:pt x="269" y="197"/>
                      </a:lnTo>
                      <a:lnTo>
                        <a:pt x="267" y="201"/>
                      </a:lnTo>
                      <a:lnTo>
                        <a:pt x="268" y="205"/>
                      </a:lnTo>
                      <a:lnTo>
                        <a:pt x="272" y="208"/>
                      </a:lnTo>
                      <a:lnTo>
                        <a:pt x="272" y="211"/>
                      </a:lnTo>
                      <a:lnTo>
                        <a:pt x="268" y="215"/>
                      </a:lnTo>
                      <a:lnTo>
                        <a:pt x="270" y="219"/>
                      </a:lnTo>
                      <a:lnTo>
                        <a:pt x="275" y="222"/>
                      </a:lnTo>
                      <a:lnTo>
                        <a:pt x="278" y="225"/>
                      </a:lnTo>
                      <a:lnTo>
                        <a:pt x="275" y="230"/>
                      </a:lnTo>
                      <a:lnTo>
                        <a:pt x="272" y="234"/>
                      </a:lnTo>
                      <a:lnTo>
                        <a:pt x="272" y="237"/>
                      </a:lnTo>
                      <a:lnTo>
                        <a:pt x="270" y="241"/>
                      </a:lnTo>
                      <a:lnTo>
                        <a:pt x="268" y="245"/>
                      </a:lnTo>
                      <a:lnTo>
                        <a:pt x="266" y="248"/>
                      </a:lnTo>
                      <a:lnTo>
                        <a:pt x="263" y="245"/>
                      </a:lnTo>
                      <a:lnTo>
                        <a:pt x="258" y="245"/>
                      </a:lnTo>
                      <a:lnTo>
                        <a:pt x="255" y="242"/>
                      </a:lnTo>
                      <a:lnTo>
                        <a:pt x="254" y="238"/>
                      </a:lnTo>
                      <a:lnTo>
                        <a:pt x="251" y="237"/>
                      </a:lnTo>
                      <a:lnTo>
                        <a:pt x="250" y="240"/>
                      </a:lnTo>
                      <a:lnTo>
                        <a:pt x="252" y="242"/>
                      </a:lnTo>
                      <a:lnTo>
                        <a:pt x="252" y="246"/>
                      </a:lnTo>
                      <a:lnTo>
                        <a:pt x="252" y="249"/>
                      </a:lnTo>
                      <a:lnTo>
                        <a:pt x="255" y="248"/>
                      </a:lnTo>
                      <a:lnTo>
                        <a:pt x="258" y="250"/>
                      </a:lnTo>
                      <a:lnTo>
                        <a:pt x="258" y="254"/>
                      </a:lnTo>
                      <a:lnTo>
                        <a:pt x="255" y="259"/>
                      </a:lnTo>
                      <a:lnTo>
                        <a:pt x="256" y="265"/>
                      </a:lnTo>
                      <a:lnTo>
                        <a:pt x="254" y="273"/>
                      </a:lnTo>
                      <a:lnTo>
                        <a:pt x="255" y="280"/>
                      </a:lnTo>
                      <a:lnTo>
                        <a:pt x="254" y="284"/>
                      </a:lnTo>
                      <a:lnTo>
                        <a:pt x="250" y="288"/>
                      </a:lnTo>
                      <a:lnTo>
                        <a:pt x="250" y="292"/>
                      </a:lnTo>
                      <a:lnTo>
                        <a:pt x="252" y="297"/>
                      </a:lnTo>
                      <a:lnTo>
                        <a:pt x="257" y="298"/>
                      </a:lnTo>
                      <a:lnTo>
                        <a:pt x="262" y="301"/>
                      </a:lnTo>
                      <a:lnTo>
                        <a:pt x="264" y="305"/>
                      </a:lnTo>
                      <a:lnTo>
                        <a:pt x="262" y="307"/>
                      </a:lnTo>
                      <a:lnTo>
                        <a:pt x="256" y="313"/>
                      </a:lnTo>
                      <a:lnTo>
                        <a:pt x="250" y="316"/>
                      </a:lnTo>
                      <a:lnTo>
                        <a:pt x="245" y="324"/>
                      </a:lnTo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8" name=""/>
                <p:cNvGrpSpPr/>
                <p:nvPr/>
              </p:nvGrpSpPr>
              <p:grpSpPr>
                <a:xfrm>
                  <a:off x="8123400" y="469800"/>
                  <a:ext cx="277560" cy="306360"/>
                  <a:chOff x="8123400" y="469800"/>
                  <a:chExt cx="277560" cy="30636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8175600" y="703440"/>
                    <a:ext cx="270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1" y="0"/>
                        </a:moveTo>
                        <a:lnTo>
                          <a:pt x="0" y="6"/>
                        </a:lnTo>
                        <a:lnTo>
                          <a:pt x="1" y="12"/>
                        </a:lnTo>
                        <a:lnTo>
                          <a:pt x="6" y="12"/>
                        </a:lnTo>
                        <a:lnTo>
                          <a:pt x="16" y="16"/>
                        </a:lnTo>
                        <a:lnTo>
                          <a:pt x="12" y="9"/>
                        </a:lnTo>
                        <a:lnTo>
                          <a:pt x="14" y="6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8177040" y="676440"/>
                    <a:ext cx="5112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7">
                        <a:moveTo>
                          <a:pt x="2" y="0"/>
                        </a:moveTo>
                        <a:lnTo>
                          <a:pt x="11" y="5"/>
                        </a:lnTo>
                        <a:lnTo>
                          <a:pt x="15" y="5"/>
                        </a:lnTo>
                        <a:lnTo>
                          <a:pt x="15" y="10"/>
                        </a:lnTo>
                        <a:lnTo>
                          <a:pt x="18" y="14"/>
                        </a:lnTo>
                        <a:lnTo>
                          <a:pt x="21" y="17"/>
                        </a:lnTo>
                        <a:lnTo>
                          <a:pt x="26" y="16"/>
                        </a:lnTo>
                        <a:lnTo>
                          <a:pt x="30" y="20"/>
                        </a:lnTo>
                        <a:lnTo>
                          <a:pt x="29" y="24"/>
                        </a:lnTo>
                        <a:lnTo>
                          <a:pt x="31" y="27"/>
                        </a:lnTo>
                        <a:lnTo>
                          <a:pt x="26" y="32"/>
                        </a:lnTo>
                        <a:lnTo>
                          <a:pt x="21" y="36"/>
                        </a:lnTo>
                        <a:lnTo>
                          <a:pt x="18" y="36"/>
                        </a:lnTo>
                        <a:lnTo>
                          <a:pt x="18" y="33"/>
                        </a:lnTo>
                        <a:lnTo>
                          <a:pt x="19" y="30"/>
                        </a:lnTo>
                        <a:lnTo>
                          <a:pt x="18" y="26"/>
                        </a:lnTo>
                        <a:lnTo>
                          <a:pt x="17" y="19"/>
                        </a:lnTo>
                        <a:lnTo>
                          <a:pt x="12" y="16"/>
                        </a:lnTo>
                        <a:lnTo>
                          <a:pt x="7" y="15"/>
                        </a:lnTo>
                        <a:lnTo>
                          <a:pt x="6" y="13"/>
                        </a:lnTo>
                        <a:lnTo>
                          <a:pt x="4" y="10"/>
                        </a:lnTo>
                        <a:lnTo>
                          <a:pt x="0" y="8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8298000" y="74628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0"/>
                        </a:moveTo>
                        <a:lnTo>
                          <a:pt x="2" y="14"/>
                        </a:lnTo>
                        <a:lnTo>
                          <a:pt x="16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8332920" y="74916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14"/>
                        </a:moveTo>
                        <a:lnTo>
                          <a:pt x="8" y="0"/>
                        </a:lnTo>
                        <a:lnTo>
                          <a:pt x="16" y="4"/>
                        </a:lnTo>
                        <a:lnTo>
                          <a:pt x="10" y="16"/>
                        </a:lnTo>
                        <a:lnTo>
                          <a:pt x="0" y="14"/>
                        </a:lnTo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8373960" y="725400"/>
                    <a:ext cx="27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7">
                        <a:moveTo>
                          <a:pt x="0" y="10"/>
                        </a:moveTo>
                        <a:lnTo>
                          <a:pt x="16" y="16"/>
                        </a:lnTo>
                        <a:lnTo>
                          <a:pt x="7" y="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8123400" y="469800"/>
                    <a:ext cx="601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17">
                        <a:moveTo>
                          <a:pt x="0" y="10"/>
                        </a:moveTo>
                        <a:lnTo>
                          <a:pt x="17" y="11"/>
                        </a:lnTo>
                        <a:lnTo>
                          <a:pt x="22" y="15"/>
                        </a:lnTo>
                        <a:lnTo>
                          <a:pt x="28" y="16"/>
                        </a:lnTo>
                        <a:lnTo>
                          <a:pt x="37" y="12"/>
                        </a:lnTo>
                        <a:lnTo>
                          <a:pt x="32" y="8"/>
                        </a:lnTo>
                        <a:lnTo>
                          <a:pt x="24" y="8"/>
                        </a:lnTo>
                        <a:lnTo>
                          <a:pt x="21" y="0"/>
                        </a:lnTo>
                        <a:lnTo>
                          <a:pt x="15" y="1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c8fec8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5" name=""/>
                <p:cNvSpPr/>
                <p:nvPr/>
              </p:nvSpPr>
              <p:spPr>
                <a:xfrm>
                  <a:off x="8383680" y="536400"/>
                  <a:ext cx="93600" cy="65160"/>
                </a:xfrm>
                <a:custGeom>
                  <a:avLst/>
                  <a:gdLst/>
                  <a:ahLst/>
                  <a:rect l="l" t="t" r="r" b="b"/>
                  <a:pathLst>
                    <a:path w="59" h="41">
                      <a:moveTo>
                        <a:pt x="56" y="25"/>
                      </a:moveTo>
                      <a:lnTo>
                        <a:pt x="58" y="36"/>
                      </a:lnTo>
                      <a:lnTo>
                        <a:pt x="52" y="39"/>
                      </a:lnTo>
                      <a:lnTo>
                        <a:pt x="44" y="40"/>
                      </a:lnTo>
                      <a:lnTo>
                        <a:pt x="38" y="36"/>
                      </a:lnTo>
                      <a:lnTo>
                        <a:pt x="34" y="31"/>
                      </a:lnTo>
                      <a:lnTo>
                        <a:pt x="32" y="28"/>
                      </a:lnTo>
                      <a:lnTo>
                        <a:pt x="24" y="29"/>
                      </a:lnTo>
                      <a:lnTo>
                        <a:pt x="16" y="30"/>
                      </a:lnTo>
                      <a:lnTo>
                        <a:pt x="11" y="28"/>
                      </a:lnTo>
                      <a:lnTo>
                        <a:pt x="8" y="23"/>
                      </a:lnTo>
                      <a:lnTo>
                        <a:pt x="0" y="23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0" y="10"/>
                      </a:lnTo>
                      <a:lnTo>
                        <a:pt x="1" y="6"/>
                      </a:ln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13" y="1"/>
                      </a:lnTo>
                      <a:lnTo>
                        <a:pt x="13" y="6"/>
                      </a:lnTo>
                      <a:lnTo>
                        <a:pt x="13" y="10"/>
                      </a:lnTo>
                      <a:lnTo>
                        <a:pt x="15" y="12"/>
                      </a:lnTo>
                      <a:lnTo>
                        <a:pt x="19" y="13"/>
                      </a:lnTo>
                      <a:lnTo>
                        <a:pt x="21" y="14"/>
                      </a:lnTo>
                      <a:lnTo>
                        <a:pt x="25" y="12"/>
                      </a:lnTo>
                      <a:lnTo>
                        <a:pt x="28" y="12"/>
                      </a:lnTo>
                      <a:lnTo>
                        <a:pt x="30" y="9"/>
                      </a:lnTo>
                      <a:lnTo>
                        <a:pt x="33" y="10"/>
                      </a:lnTo>
                      <a:lnTo>
                        <a:pt x="36" y="14"/>
                      </a:lnTo>
                      <a:lnTo>
                        <a:pt x="35" y="17"/>
                      </a:lnTo>
                      <a:lnTo>
                        <a:pt x="41" y="17"/>
                      </a:lnTo>
                      <a:lnTo>
                        <a:pt x="47" y="15"/>
                      </a:lnTo>
                      <a:lnTo>
                        <a:pt x="50" y="18"/>
                      </a:lnTo>
                      <a:lnTo>
                        <a:pt x="56" y="25"/>
                      </a:lnTo>
                    </a:path>
                  </a:pathLst>
                </a:custGeom>
                <a:solidFill>
                  <a:srgbClr val="c8fec8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6" name=""/>
            <p:cNvGrpSpPr/>
            <p:nvPr/>
          </p:nvGrpSpPr>
          <p:grpSpPr>
            <a:xfrm>
              <a:off x="3929040" y="352440"/>
              <a:ext cx="1289160" cy="1125360"/>
              <a:chOff x="3929040" y="352440"/>
              <a:chExt cx="1289160" cy="112536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4179960" y="955800"/>
                <a:ext cx="819000" cy="345960"/>
                <a:chOff x="4179960" y="955800"/>
                <a:chExt cx="819000" cy="34596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4179960" y="955800"/>
                  <a:ext cx="819000" cy="345960"/>
                  <a:chOff x="4179960" y="955800"/>
                  <a:chExt cx="819000" cy="345960"/>
                </a:xfrm>
              </p:grpSpPr>
              <p:grpSp>
                <p:nvGrpSpPr>
                  <p:cNvPr id="179" name=""/>
                  <p:cNvGrpSpPr/>
                  <p:nvPr/>
                </p:nvGrpSpPr>
                <p:grpSpPr>
                  <a:xfrm>
                    <a:off x="4179960" y="955800"/>
                    <a:ext cx="819000" cy="345960"/>
                    <a:chOff x="4179960" y="955800"/>
                    <a:chExt cx="819000" cy="345960"/>
                  </a:xfrm>
                </p:grpSpPr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4179960" y="955800"/>
                      <a:ext cx="819000" cy="345960"/>
                      <a:chOff x="4179960" y="955800"/>
                      <a:chExt cx="819000" cy="345960"/>
                    </a:xfrm>
                  </p:grpSpPr>
                  <p:grpSp>
                    <p:nvGrpSpPr>
                      <p:cNvPr id="181" name=""/>
                      <p:cNvGrpSpPr/>
                      <p:nvPr/>
                    </p:nvGrpSpPr>
                    <p:grpSpPr>
                      <a:xfrm>
                        <a:off x="4179960" y="955800"/>
                        <a:ext cx="819000" cy="345960"/>
                        <a:chOff x="4179960" y="955800"/>
                        <a:chExt cx="819000" cy="345960"/>
                      </a:xfrm>
                    </p:grpSpPr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>
                          <a:off x="4183200" y="1044720"/>
                          <a:ext cx="799920" cy="25704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>
                          <a:off x="4179960" y="955800"/>
                          <a:ext cx="819000" cy="83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16" h="53">
                              <a:moveTo>
                                <a:pt x="0" y="52"/>
                              </a:moveTo>
                              <a:lnTo>
                                <a:pt x="515" y="52"/>
                              </a:lnTo>
                              <a:lnTo>
                                <a:pt x="466" y="0"/>
                              </a:lnTo>
                              <a:lnTo>
                                <a:pt x="54" y="0"/>
                              </a:lnTo>
                              <a:lnTo>
                                <a:pt x="0" y="52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7080" bIns="37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84" name=""/>
                      <p:cNvSpPr/>
                      <p:nvPr/>
                    </p:nvSpPr>
                    <p:spPr>
                      <a:xfrm>
                        <a:off x="4194000" y="1023840"/>
                        <a:ext cx="792360" cy="18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5" name=""/>
                    <p:cNvGrpSpPr/>
                    <p:nvPr/>
                  </p:nvGrpSpPr>
                  <p:grpSpPr>
                    <a:xfrm>
                      <a:off x="4208400" y="1243080"/>
                      <a:ext cx="789120" cy="54000"/>
                      <a:chOff x="4208400" y="1243080"/>
                      <a:chExt cx="789120" cy="54000"/>
                    </a:xfrm>
                  </p:grpSpPr>
                  <p:grpSp>
                    <p:nvGrpSpPr>
                      <p:cNvPr id="186" name=""/>
                      <p:cNvGrpSpPr/>
                      <p:nvPr/>
                    </p:nvGrpSpPr>
                    <p:grpSpPr>
                      <a:xfrm>
                        <a:off x="4208400" y="1243080"/>
                        <a:ext cx="403200" cy="54000"/>
                        <a:chOff x="4208400" y="1243080"/>
                        <a:chExt cx="403200" cy="54000"/>
                      </a:xfrm>
                    </p:grpSpPr>
                    <p:grpSp>
                      <p:nvGrpSpPr>
                        <p:cNvPr id="187" name=""/>
                        <p:cNvGrpSpPr/>
                        <p:nvPr/>
                      </p:nvGrpSpPr>
                      <p:grpSpPr>
                        <a:xfrm>
                          <a:off x="4208400" y="1244520"/>
                          <a:ext cx="208080" cy="52560"/>
                          <a:chOff x="4208400" y="1244520"/>
                          <a:chExt cx="208080" cy="52560"/>
                        </a:xfrm>
                      </p:grpSpPr>
                      <p:grpSp>
                        <p:nvGrpSpPr>
                          <p:cNvPr id="188" name=""/>
                          <p:cNvGrpSpPr/>
                          <p:nvPr/>
                        </p:nvGrpSpPr>
                        <p:grpSpPr>
                          <a:xfrm>
                            <a:off x="4208400" y="1244520"/>
                            <a:ext cx="111240" cy="52560"/>
                            <a:chOff x="4208400" y="1244520"/>
                            <a:chExt cx="111240" cy="52560"/>
                          </a:xfrm>
                        </p:grpSpPr>
                        <p:grpSp>
                          <p:nvGrpSpPr>
                            <p:cNvPr id="189" name=""/>
                            <p:cNvGrpSpPr/>
                            <p:nvPr/>
                          </p:nvGrpSpPr>
                          <p:grpSpPr>
                            <a:xfrm>
                              <a:off x="4208400" y="1244520"/>
                              <a:ext cx="61920" cy="52560"/>
                              <a:chOff x="4208400" y="1244520"/>
                              <a:chExt cx="61920" cy="52560"/>
                            </a:xfrm>
                          </p:grpSpPr>
                          <p:grpSp>
                            <p:nvGrpSpPr>
                              <p:cNvPr id="190" name=""/>
                              <p:cNvGrpSpPr/>
                              <p:nvPr/>
                            </p:nvGrpSpPr>
                            <p:grpSpPr>
                              <a:xfrm>
                                <a:off x="4208400" y="1244520"/>
                                <a:ext cx="39600" cy="52560"/>
                                <a:chOff x="4208400" y="1244520"/>
                                <a:chExt cx="39600" cy="52560"/>
                              </a:xfrm>
                            </p:grpSpPr>
                            <p:sp>
                              <p:nvSpPr>
                                <p:cNvPr id="191" name=""/>
                                <p:cNvSpPr/>
                                <p:nvPr/>
                              </p:nvSpPr>
                              <p:spPr>
                                <a:xfrm>
                                  <a:off x="4208400" y="1244520"/>
                                  <a:ext cx="27000" cy="525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3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2"/>
                                      </a:lnTo>
                                      <a:lnTo>
                                        <a:pt x="16" y="32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5760" bIns="57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92" name=""/>
                                <p:cNvSpPr/>
                                <p:nvPr/>
                              </p:nvSpPr>
                              <p:spPr>
                                <a:xfrm>
                                  <a:off x="4221000" y="1244520"/>
                                  <a:ext cx="27000" cy="525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3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2"/>
                                      </a:lnTo>
                                      <a:lnTo>
                                        <a:pt x="16" y="32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5760" bIns="57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93" name=""/>
                              <p:cNvGrpSpPr/>
                              <p:nvPr/>
                            </p:nvGrpSpPr>
                            <p:grpSpPr>
                              <a:xfrm>
                                <a:off x="4232160" y="1244520"/>
                                <a:ext cx="38160" cy="52560"/>
                                <a:chOff x="4232160" y="1244520"/>
                                <a:chExt cx="38160" cy="52560"/>
                              </a:xfrm>
                            </p:grpSpPr>
                            <p:sp>
                              <p:nvSpPr>
                                <p:cNvPr id="194" name=""/>
                                <p:cNvSpPr/>
                                <p:nvPr/>
                              </p:nvSpPr>
                              <p:spPr>
                                <a:xfrm>
                                  <a:off x="4232160" y="1244520"/>
                                  <a:ext cx="27000" cy="525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3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2"/>
                                      </a:lnTo>
                                      <a:lnTo>
                                        <a:pt x="16" y="32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5760" bIns="57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95" name=""/>
                                <p:cNvSpPr/>
                                <p:nvPr/>
                              </p:nvSpPr>
                              <p:spPr>
                                <a:xfrm>
                                  <a:off x="4243320" y="1244520"/>
                                  <a:ext cx="27000" cy="525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3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2"/>
                                      </a:lnTo>
                                      <a:lnTo>
                                        <a:pt x="16" y="32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5760" bIns="57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196" name=""/>
                            <p:cNvGrpSpPr/>
                            <p:nvPr/>
                          </p:nvGrpSpPr>
                          <p:grpSpPr>
                            <a:xfrm>
                              <a:off x="4255920" y="1244520"/>
                              <a:ext cx="63720" cy="52560"/>
                              <a:chOff x="4255920" y="1244520"/>
                              <a:chExt cx="63720" cy="52560"/>
                            </a:xfrm>
                          </p:grpSpPr>
                          <p:grpSp>
                            <p:nvGrpSpPr>
                              <p:cNvPr id="197" name=""/>
                              <p:cNvGrpSpPr/>
                              <p:nvPr/>
                            </p:nvGrpSpPr>
                            <p:grpSpPr>
                              <a:xfrm>
                                <a:off x="4255920" y="1244520"/>
                                <a:ext cx="39960" cy="52560"/>
                                <a:chOff x="4255920" y="1244520"/>
                                <a:chExt cx="39960" cy="52560"/>
                              </a:xfrm>
                            </p:grpSpPr>
                            <p:sp>
                              <p:nvSpPr>
                                <p:cNvPr id="198" name=""/>
                                <p:cNvSpPr/>
                                <p:nvPr/>
                              </p:nvSpPr>
                              <p:spPr>
                                <a:xfrm>
                                  <a:off x="4255920" y="1244520"/>
                                  <a:ext cx="27000" cy="525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3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2"/>
                                      </a:lnTo>
                                      <a:lnTo>
                                        <a:pt x="16" y="32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5760" bIns="57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99" name=""/>
                                <p:cNvSpPr/>
                                <p:nvPr/>
                              </p:nvSpPr>
                              <p:spPr>
                                <a:xfrm>
                                  <a:off x="4268880" y="1244520"/>
                                  <a:ext cx="27000" cy="525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3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2"/>
                                      </a:lnTo>
                                      <a:lnTo>
                                        <a:pt x="16" y="32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5760" bIns="57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00" name=""/>
                              <p:cNvGrpSpPr/>
                              <p:nvPr/>
                            </p:nvGrpSpPr>
                            <p:grpSpPr>
                              <a:xfrm>
                                <a:off x="4280040" y="1244520"/>
                                <a:ext cx="39600" cy="52560"/>
                                <a:chOff x="4280040" y="1244520"/>
                                <a:chExt cx="39600" cy="52560"/>
                              </a:xfrm>
                            </p:grpSpPr>
                            <p:sp>
                              <p:nvSpPr>
                                <p:cNvPr id="201" name=""/>
                                <p:cNvSpPr/>
                                <p:nvPr/>
                              </p:nvSpPr>
                              <p:spPr>
                                <a:xfrm>
                                  <a:off x="4280040" y="1244520"/>
                                  <a:ext cx="27000" cy="525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3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2"/>
                                      </a:lnTo>
                                      <a:lnTo>
                                        <a:pt x="16" y="32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5760" bIns="57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02" name=""/>
                                <p:cNvSpPr/>
                                <p:nvPr/>
                              </p:nvSpPr>
                              <p:spPr>
                                <a:xfrm>
                                  <a:off x="4292640" y="1244520"/>
                                  <a:ext cx="27000" cy="525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3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2"/>
                                      </a:lnTo>
                                      <a:lnTo>
                                        <a:pt x="16" y="32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5760" bIns="57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203" name=""/>
                          <p:cNvGrpSpPr/>
                          <p:nvPr/>
                        </p:nvGrpSpPr>
                        <p:grpSpPr>
                          <a:xfrm>
                            <a:off x="4305240" y="1244520"/>
                            <a:ext cx="111240" cy="52560"/>
                            <a:chOff x="4305240" y="1244520"/>
                            <a:chExt cx="111240" cy="52560"/>
                          </a:xfrm>
                        </p:grpSpPr>
                        <p:grpSp>
                          <p:nvGrpSpPr>
                            <p:cNvPr id="204" name=""/>
                            <p:cNvGrpSpPr/>
                            <p:nvPr/>
                          </p:nvGrpSpPr>
                          <p:grpSpPr>
                            <a:xfrm>
                              <a:off x="4305240" y="1244520"/>
                              <a:ext cx="63720" cy="52560"/>
                              <a:chOff x="4305240" y="1244520"/>
                              <a:chExt cx="63720" cy="52560"/>
                            </a:xfrm>
                          </p:grpSpPr>
                          <p:grpSp>
                            <p:nvGrpSpPr>
                              <p:cNvPr id="205" name=""/>
                              <p:cNvGrpSpPr/>
                              <p:nvPr/>
                            </p:nvGrpSpPr>
                            <p:grpSpPr>
                              <a:xfrm>
                                <a:off x="4305240" y="1244520"/>
                                <a:ext cx="38160" cy="52560"/>
                                <a:chOff x="4305240" y="1244520"/>
                                <a:chExt cx="38160" cy="52560"/>
                              </a:xfrm>
                            </p:grpSpPr>
                            <p:sp>
                              <p:nvSpPr>
                                <p:cNvPr id="206" name=""/>
                                <p:cNvSpPr/>
                                <p:nvPr/>
                              </p:nvSpPr>
                              <p:spPr>
                                <a:xfrm>
                                  <a:off x="4305240" y="1244520"/>
                                  <a:ext cx="27000" cy="525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3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2"/>
                                      </a:lnTo>
                                      <a:lnTo>
                                        <a:pt x="16" y="32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5760" bIns="57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07" name=""/>
                                <p:cNvSpPr/>
                                <p:nvPr/>
                              </p:nvSpPr>
                              <p:spPr>
                                <a:xfrm>
                                  <a:off x="4316400" y="1244520"/>
                                  <a:ext cx="27000" cy="525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3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2"/>
                                      </a:lnTo>
                                      <a:lnTo>
                                        <a:pt x="16" y="32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5760" bIns="57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08" name=""/>
                              <p:cNvGrpSpPr/>
                              <p:nvPr/>
                            </p:nvGrpSpPr>
                            <p:grpSpPr>
                              <a:xfrm>
                                <a:off x="4329000" y="1244520"/>
                                <a:ext cx="39960" cy="52560"/>
                                <a:chOff x="4329000" y="1244520"/>
                                <a:chExt cx="39960" cy="52560"/>
                              </a:xfrm>
                            </p:grpSpPr>
                            <p:sp>
                              <p:nvSpPr>
                                <p:cNvPr id="209" name=""/>
                                <p:cNvSpPr/>
                                <p:nvPr/>
                              </p:nvSpPr>
                              <p:spPr>
                                <a:xfrm>
                                  <a:off x="4329000" y="1244520"/>
                                  <a:ext cx="27000" cy="525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3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2"/>
                                      </a:lnTo>
                                      <a:lnTo>
                                        <a:pt x="16" y="32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5760" bIns="57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0" name=""/>
                                <p:cNvSpPr/>
                                <p:nvPr/>
                              </p:nvSpPr>
                              <p:spPr>
                                <a:xfrm>
                                  <a:off x="4341960" y="1244520"/>
                                  <a:ext cx="27000" cy="525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3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2"/>
                                      </a:lnTo>
                                      <a:lnTo>
                                        <a:pt x="16" y="32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5760" bIns="57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211" name=""/>
                            <p:cNvGrpSpPr/>
                            <p:nvPr/>
                          </p:nvGrpSpPr>
                          <p:grpSpPr>
                            <a:xfrm>
                              <a:off x="4352760" y="1244520"/>
                              <a:ext cx="63720" cy="52560"/>
                              <a:chOff x="4352760" y="1244520"/>
                              <a:chExt cx="63720" cy="52560"/>
                            </a:xfrm>
                          </p:grpSpPr>
                          <p:grpSp>
                            <p:nvGrpSpPr>
                              <p:cNvPr id="212" name=""/>
                              <p:cNvGrpSpPr/>
                              <p:nvPr/>
                            </p:nvGrpSpPr>
                            <p:grpSpPr>
                              <a:xfrm>
                                <a:off x="4352760" y="1244520"/>
                                <a:ext cx="39960" cy="52560"/>
                                <a:chOff x="4352760" y="1244520"/>
                                <a:chExt cx="39960" cy="52560"/>
                              </a:xfrm>
                            </p:grpSpPr>
                            <p:sp>
                              <p:nvSpPr>
                                <p:cNvPr id="213" name=""/>
                                <p:cNvSpPr/>
                                <p:nvPr/>
                              </p:nvSpPr>
                              <p:spPr>
                                <a:xfrm>
                                  <a:off x="4352760" y="1244520"/>
                                  <a:ext cx="27000" cy="525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3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2"/>
                                      </a:lnTo>
                                      <a:lnTo>
                                        <a:pt x="16" y="32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5760" bIns="57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4" name=""/>
                                <p:cNvSpPr/>
                                <p:nvPr/>
                              </p:nvSpPr>
                              <p:spPr>
                                <a:xfrm>
                                  <a:off x="4365720" y="1244520"/>
                                  <a:ext cx="27000" cy="525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3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2"/>
                                      </a:lnTo>
                                      <a:lnTo>
                                        <a:pt x="16" y="32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5760" bIns="57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15" name=""/>
                              <p:cNvGrpSpPr/>
                              <p:nvPr/>
                            </p:nvGrpSpPr>
                            <p:grpSpPr>
                              <a:xfrm>
                                <a:off x="4378320" y="1244520"/>
                                <a:ext cx="38160" cy="52560"/>
                                <a:chOff x="4378320" y="1244520"/>
                                <a:chExt cx="38160" cy="52560"/>
                              </a:xfrm>
                            </p:grpSpPr>
                            <p:sp>
                              <p:nvSpPr>
                                <p:cNvPr id="216" name=""/>
                                <p:cNvSpPr/>
                                <p:nvPr/>
                              </p:nvSpPr>
                              <p:spPr>
                                <a:xfrm>
                                  <a:off x="4378320" y="1244520"/>
                                  <a:ext cx="27000" cy="525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3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2"/>
                                      </a:lnTo>
                                      <a:lnTo>
                                        <a:pt x="16" y="32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5760" bIns="57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17" name=""/>
                                <p:cNvSpPr/>
                                <p:nvPr/>
                              </p:nvSpPr>
                              <p:spPr>
                                <a:xfrm>
                                  <a:off x="4389480" y="1244520"/>
                                  <a:ext cx="27000" cy="5256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3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2"/>
                                      </a:lnTo>
                                      <a:lnTo>
                                        <a:pt x="16" y="32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5760" bIns="57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  <p:grpSp>
                      <p:nvGrpSpPr>
                        <p:cNvPr id="218" name=""/>
                        <p:cNvGrpSpPr/>
                        <p:nvPr/>
                      </p:nvGrpSpPr>
                      <p:grpSpPr>
                        <a:xfrm>
                          <a:off x="4402080" y="1243080"/>
                          <a:ext cx="209520" cy="54000"/>
                          <a:chOff x="4402080" y="1243080"/>
                          <a:chExt cx="209520" cy="54000"/>
                        </a:xfrm>
                      </p:grpSpPr>
                      <p:grpSp>
                        <p:nvGrpSpPr>
                          <p:cNvPr id="219" name=""/>
                          <p:cNvGrpSpPr/>
                          <p:nvPr/>
                        </p:nvGrpSpPr>
                        <p:grpSpPr>
                          <a:xfrm>
                            <a:off x="4402080" y="1243080"/>
                            <a:ext cx="111240" cy="54000"/>
                            <a:chOff x="4402080" y="1243080"/>
                            <a:chExt cx="111240" cy="54000"/>
                          </a:xfrm>
                        </p:grpSpPr>
                        <p:grpSp>
                          <p:nvGrpSpPr>
                            <p:cNvPr id="220" name=""/>
                            <p:cNvGrpSpPr/>
                            <p:nvPr/>
                          </p:nvGrpSpPr>
                          <p:grpSpPr>
                            <a:xfrm>
                              <a:off x="4402080" y="1243080"/>
                              <a:ext cx="63720" cy="54000"/>
                              <a:chOff x="4402080" y="1243080"/>
                              <a:chExt cx="63720" cy="54000"/>
                            </a:xfrm>
                          </p:grpSpPr>
                          <p:grpSp>
                            <p:nvGrpSpPr>
                              <p:cNvPr id="221" name=""/>
                              <p:cNvGrpSpPr/>
                              <p:nvPr/>
                            </p:nvGrpSpPr>
                            <p:grpSpPr>
                              <a:xfrm>
                                <a:off x="4402080" y="1243080"/>
                                <a:ext cx="38160" cy="54000"/>
                                <a:chOff x="4402080" y="1243080"/>
                                <a:chExt cx="38160" cy="54000"/>
                              </a:xfrm>
                            </p:grpSpPr>
                            <p:sp>
                              <p:nvSpPr>
                                <p:cNvPr id="222" name=""/>
                                <p:cNvSpPr/>
                                <p:nvPr/>
                              </p:nvSpPr>
                              <p:spPr>
                                <a:xfrm>
                                  <a:off x="440208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3" name=""/>
                                <p:cNvSpPr/>
                                <p:nvPr/>
                              </p:nvSpPr>
                              <p:spPr>
                                <a:xfrm>
                                  <a:off x="441324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24" name=""/>
                              <p:cNvGrpSpPr/>
                              <p:nvPr/>
                            </p:nvGrpSpPr>
                            <p:grpSpPr>
                              <a:xfrm>
                                <a:off x="4425840" y="1243080"/>
                                <a:ext cx="39960" cy="54000"/>
                                <a:chOff x="4425840" y="1243080"/>
                                <a:chExt cx="39960" cy="54000"/>
                              </a:xfrm>
                            </p:grpSpPr>
                            <p:sp>
                              <p:nvSpPr>
                                <p:cNvPr id="225" name=""/>
                                <p:cNvSpPr/>
                                <p:nvPr/>
                              </p:nvSpPr>
                              <p:spPr>
                                <a:xfrm>
                                  <a:off x="442584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6" name=""/>
                                <p:cNvSpPr/>
                                <p:nvPr/>
                              </p:nvSpPr>
                              <p:spPr>
                                <a:xfrm>
                                  <a:off x="443880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227" name=""/>
                            <p:cNvGrpSpPr/>
                            <p:nvPr/>
                          </p:nvGrpSpPr>
                          <p:grpSpPr>
                            <a:xfrm>
                              <a:off x="4449600" y="1243080"/>
                              <a:ext cx="63720" cy="54000"/>
                              <a:chOff x="4449600" y="1243080"/>
                              <a:chExt cx="63720" cy="54000"/>
                            </a:xfrm>
                          </p:grpSpPr>
                          <p:grpSp>
                            <p:nvGrpSpPr>
                              <p:cNvPr id="228" name=""/>
                              <p:cNvGrpSpPr/>
                              <p:nvPr/>
                            </p:nvGrpSpPr>
                            <p:grpSpPr>
                              <a:xfrm>
                                <a:off x="4449600" y="1243080"/>
                                <a:ext cx="39960" cy="54000"/>
                                <a:chOff x="4449600" y="1243080"/>
                                <a:chExt cx="39960" cy="54000"/>
                              </a:xfrm>
                            </p:grpSpPr>
                            <p:sp>
                              <p:nvSpPr>
                                <p:cNvPr id="229" name=""/>
                                <p:cNvSpPr/>
                                <p:nvPr/>
                              </p:nvSpPr>
                              <p:spPr>
                                <a:xfrm>
                                  <a:off x="444960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0" name=""/>
                                <p:cNvSpPr/>
                                <p:nvPr/>
                              </p:nvSpPr>
                              <p:spPr>
                                <a:xfrm>
                                  <a:off x="446256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31" name=""/>
                              <p:cNvGrpSpPr/>
                              <p:nvPr/>
                            </p:nvGrpSpPr>
                            <p:grpSpPr>
                              <a:xfrm>
                                <a:off x="4475160" y="1243080"/>
                                <a:ext cx="38160" cy="54000"/>
                                <a:chOff x="4475160" y="1243080"/>
                                <a:chExt cx="38160" cy="54000"/>
                              </a:xfrm>
                            </p:grpSpPr>
                            <p:sp>
                              <p:nvSpPr>
                                <p:cNvPr id="232" name=""/>
                                <p:cNvSpPr/>
                                <p:nvPr/>
                              </p:nvSpPr>
                              <p:spPr>
                                <a:xfrm>
                                  <a:off x="447516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3" name=""/>
                                <p:cNvSpPr/>
                                <p:nvPr/>
                              </p:nvSpPr>
                              <p:spPr>
                                <a:xfrm>
                                  <a:off x="448632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234" name=""/>
                          <p:cNvGrpSpPr/>
                          <p:nvPr/>
                        </p:nvGrpSpPr>
                        <p:grpSpPr>
                          <a:xfrm>
                            <a:off x="4498920" y="1243080"/>
                            <a:ext cx="112680" cy="54000"/>
                            <a:chOff x="4498920" y="1243080"/>
                            <a:chExt cx="112680" cy="54000"/>
                          </a:xfrm>
                        </p:grpSpPr>
                        <p:grpSp>
                          <p:nvGrpSpPr>
                            <p:cNvPr id="235" name=""/>
                            <p:cNvGrpSpPr/>
                            <p:nvPr/>
                          </p:nvGrpSpPr>
                          <p:grpSpPr>
                            <a:xfrm>
                              <a:off x="4498920" y="1243080"/>
                              <a:ext cx="63720" cy="54000"/>
                              <a:chOff x="4498920" y="1243080"/>
                              <a:chExt cx="63720" cy="54000"/>
                            </a:xfrm>
                          </p:grpSpPr>
                          <p:grpSp>
                            <p:nvGrpSpPr>
                              <p:cNvPr id="236" name=""/>
                              <p:cNvGrpSpPr/>
                              <p:nvPr/>
                            </p:nvGrpSpPr>
                            <p:grpSpPr>
                              <a:xfrm>
                                <a:off x="4498920" y="1243080"/>
                                <a:ext cx="39600" cy="54000"/>
                                <a:chOff x="4498920" y="1243080"/>
                                <a:chExt cx="39600" cy="54000"/>
                              </a:xfrm>
                            </p:grpSpPr>
                            <p:sp>
                              <p:nvSpPr>
                                <p:cNvPr id="237" name=""/>
                                <p:cNvSpPr/>
                                <p:nvPr/>
                              </p:nvSpPr>
                              <p:spPr>
                                <a:xfrm>
                                  <a:off x="449892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38" name=""/>
                                <p:cNvSpPr/>
                                <p:nvPr/>
                              </p:nvSpPr>
                              <p:spPr>
                                <a:xfrm>
                                  <a:off x="451152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39" name=""/>
                              <p:cNvGrpSpPr/>
                              <p:nvPr/>
                            </p:nvGrpSpPr>
                            <p:grpSpPr>
                              <a:xfrm>
                                <a:off x="4522680" y="1243080"/>
                                <a:ext cx="39960" cy="54000"/>
                                <a:chOff x="4522680" y="1243080"/>
                                <a:chExt cx="39960" cy="54000"/>
                              </a:xfrm>
                            </p:grpSpPr>
                            <p:sp>
                              <p:nvSpPr>
                                <p:cNvPr id="240" name=""/>
                                <p:cNvSpPr/>
                                <p:nvPr/>
                              </p:nvSpPr>
                              <p:spPr>
                                <a:xfrm>
                                  <a:off x="452268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1" name=""/>
                                <p:cNvSpPr/>
                                <p:nvPr/>
                              </p:nvSpPr>
                              <p:spPr>
                                <a:xfrm>
                                  <a:off x="453564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242" name=""/>
                            <p:cNvGrpSpPr/>
                            <p:nvPr/>
                          </p:nvGrpSpPr>
                          <p:grpSpPr>
                            <a:xfrm>
                              <a:off x="4548240" y="1243080"/>
                              <a:ext cx="63360" cy="54000"/>
                              <a:chOff x="4548240" y="1243080"/>
                              <a:chExt cx="63360" cy="54000"/>
                            </a:xfrm>
                          </p:grpSpPr>
                          <p:grpSp>
                            <p:nvGrpSpPr>
                              <p:cNvPr id="243" name=""/>
                              <p:cNvGrpSpPr/>
                              <p:nvPr/>
                            </p:nvGrpSpPr>
                            <p:grpSpPr>
                              <a:xfrm>
                                <a:off x="4548240" y="1243080"/>
                                <a:ext cx="38160" cy="54000"/>
                                <a:chOff x="4548240" y="1243080"/>
                                <a:chExt cx="38160" cy="54000"/>
                              </a:xfrm>
                            </p:grpSpPr>
                            <p:sp>
                              <p:nvSpPr>
                                <p:cNvPr id="244" name=""/>
                                <p:cNvSpPr/>
                                <p:nvPr/>
                              </p:nvSpPr>
                              <p:spPr>
                                <a:xfrm>
                                  <a:off x="454824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5" name=""/>
                                <p:cNvSpPr/>
                                <p:nvPr/>
                              </p:nvSpPr>
                              <p:spPr>
                                <a:xfrm>
                                  <a:off x="455940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46" name=""/>
                              <p:cNvGrpSpPr/>
                              <p:nvPr/>
                            </p:nvGrpSpPr>
                            <p:grpSpPr>
                              <a:xfrm>
                                <a:off x="4570560" y="1243080"/>
                                <a:ext cx="41040" cy="54000"/>
                                <a:chOff x="4570560" y="1243080"/>
                                <a:chExt cx="41040" cy="54000"/>
                              </a:xfrm>
                            </p:grpSpPr>
                            <p:sp>
                              <p:nvSpPr>
                                <p:cNvPr id="247" name=""/>
                                <p:cNvSpPr/>
                                <p:nvPr/>
                              </p:nvSpPr>
                              <p:spPr>
                                <a:xfrm>
                                  <a:off x="457056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48" name=""/>
                                <p:cNvSpPr/>
                                <p:nvPr/>
                              </p:nvSpPr>
                              <p:spPr>
                                <a:xfrm>
                                  <a:off x="458460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  <p:grpSp>
                    <p:nvGrpSpPr>
                      <p:cNvPr id="249" name=""/>
                      <p:cNvGrpSpPr/>
                      <p:nvPr/>
                    </p:nvGrpSpPr>
                    <p:grpSpPr>
                      <a:xfrm>
                        <a:off x="4595760" y="1243080"/>
                        <a:ext cx="401760" cy="54000"/>
                        <a:chOff x="4595760" y="1243080"/>
                        <a:chExt cx="401760" cy="54000"/>
                      </a:xfrm>
                    </p:grpSpPr>
                    <p:grpSp>
                      <p:nvGrpSpPr>
                        <p:cNvPr id="250" name=""/>
                        <p:cNvGrpSpPr/>
                        <p:nvPr/>
                      </p:nvGrpSpPr>
                      <p:grpSpPr>
                        <a:xfrm>
                          <a:off x="4595760" y="1243080"/>
                          <a:ext cx="208080" cy="54000"/>
                          <a:chOff x="4595760" y="1243080"/>
                          <a:chExt cx="208080" cy="54000"/>
                        </a:xfrm>
                      </p:grpSpPr>
                      <p:grpSp>
                        <p:nvGrpSpPr>
                          <p:cNvPr id="251" name=""/>
                          <p:cNvGrpSpPr/>
                          <p:nvPr/>
                        </p:nvGrpSpPr>
                        <p:grpSpPr>
                          <a:xfrm>
                            <a:off x="4595760" y="1243080"/>
                            <a:ext cx="111240" cy="54000"/>
                            <a:chOff x="4595760" y="1243080"/>
                            <a:chExt cx="111240" cy="54000"/>
                          </a:xfrm>
                        </p:grpSpPr>
                        <p:grpSp>
                          <p:nvGrpSpPr>
                            <p:cNvPr id="252" name=""/>
                            <p:cNvGrpSpPr/>
                            <p:nvPr/>
                          </p:nvGrpSpPr>
                          <p:grpSpPr>
                            <a:xfrm>
                              <a:off x="4595760" y="1243080"/>
                              <a:ext cx="63720" cy="54000"/>
                              <a:chOff x="4595760" y="1243080"/>
                              <a:chExt cx="63720" cy="54000"/>
                            </a:xfrm>
                          </p:grpSpPr>
                          <p:grpSp>
                            <p:nvGrpSpPr>
                              <p:cNvPr id="253" name=""/>
                              <p:cNvGrpSpPr/>
                              <p:nvPr/>
                            </p:nvGrpSpPr>
                            <p:grpSpPr>
                              <a:xfrm>
                                <a:off x="4595760" y="1243080"/>
                                <a:ext cx="38160" cy="54000"/>
                                <a:chOff x="4595760" y="1243080"/>
                                <a:chExt cx="38160" cy="54000"/>
                              </a:xfrm>
                            </p:grpSpPr>
                            <p:sp>
                              <p:nvSpPr>
                                <p:cNvPr id="254" name=""/>
                                <p:cNvSpPr/>
                                <p:nvPr/>
                              </p:nvSpPr>
                              <p:spPr>
                                <a:xfrm>
                                  <a:off x="459576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5" name=""/>
                                <p:cNvSpPr/>
                                <p:nvPr/>
                              </p:nvSpPr>
                              <p:spPr>
                                <a:xfrm>
                                  <a:off x="460692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56" name=""/>
                              <p:cNvGrpSpPr/>
                              <p:nvPr/>
                            </p:nvGrpSpPr>
                            <p:grpSpPr>
                              <a:xfrm>
                                <a:off x="4619520" y="1243080"/>
                                <a:ext cx="39960" cy="54000"/>
                                <a:chOff x="4619520" y="1243080"/>
                                <a:chExt cx="39960" cy="54000"/>
                              </a:xfrm>
                            </p:grpSpPr>
                            <p:sp>
                              <p:nvSpPr>
                                <p:cNvPr id="257" name=""/>
                                <p:cNvSpPr/>
                                <p:nvPr/>
                              </p:nvSpPr>
                              <p:spPr>
                                <a:xfrm>
                                  <a:off x="461952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58" name=""/>
                                <p:cNvSpPr/>
                                <p:nvPr/>
                              </p:nvSpPr>
                              <p:spPr>
                                <a:xfrm>
                                  <a:off x="463248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259" name=""/>
                            <p:cNvGrpSpPr/>
                            <p:nvPr/>
                          </p:nvGrpSpPr>
                          <p:grpSpPr>
                            <a:xfrm>
                              <a:off x="4643280" y="1243080"/>
                              <a:ext cx="63720" cy="54000"/>
                              <a:chOff x="4643280" y="1243080"/>
                              <a:chExt cx="63720" cy="54000"/>
                            </a:xfrm>
                          </p:grpSpPr>
                          <p:grpSp>
                            <p:nvGrpSpPr>
                              <p:cNvPr id="260" name=""/>
                              <p:cNvGrpSpPr/>
                              <p:nvPr/>
                            </p:nvGrpSpPr>
                            <p:grpSpPr>
                              <a:xfrm>
                                <a:off x="4643280" y="1243080"/>
                                <a:ext cx="39960" cy="54000"/>
                                <a:chOff x="4643280" y="1243080"/>
                                <a:chExt cx="39960" cy="54000"/>
                              </a:xfrm>
                            </p:grpSpPr>
                            <p:sp>
                              <p:nvSpPr>
                                <p:cNvPr id="261" name=""/>
                                <p:cNvSpPr/>
                                <p:nvPr/>
                              </p:nvSpPr>
                              <p:spPr>
                                <a:xfrm>
                                  <a:off x="464328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2" name=""/>
                                <p:cNvSpPr/>
                                <p:nvPr/>
                              </p:nvSpPr>
                              <p:spPr>
                                <a:xfrm>
                                  <a:off x="465624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63" name=""/>
                              <p:cNvGrpSpPr/>
                              <p:nvPr/>
                            </p:nvGrpSpPr>
                            <p:grpSpPr>
                              <a:xfrm>
                                <a:off x="4668840" y="1243080"/>
                                <a:ext cx="38160" cy="54000"/>
                                <a:chOff x="4668840" y="1243080"/>
                                <a:chExt cx="38160" cy="54000"/>
                              </a:xfrm>
                            </p:grpSpPr>
                            <p:sp>
                              <p:nvSpPr>
                                <p:cNvPr id="264" name=""/>
                                <p:cNvSpPr/>
                                <p:nvPr/>
                              </p:nvSpPr>
                              <p:spPr>
                                <a:xfrm>
                                  <a:off x="466884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65" name=""/>
                                <p:cNvSpPr/>
                                <p:nvPr/>
                              </p:nvSpPr>
                              <p:spPr>
                                <a:xfrm>
                                  <a:off x="468000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266" name=""/>
                          <p:cNvGrpSpPr/>
                          <p:nvPr/>
                        </p:nvGrpSpPr>
                        <p:grpSpPr>
                          <a:xfrm>
                            <a:off x="4692600" y="1243080"/>
                            <a:ext cx="111240" cy="54000"/>
                            <a:chOff x="4692600" y="1243080"/>
                            <a:chExt cx="111240" cy="54000"/>
                          </a:xfrm>
                        </p:grpSpPr>
                        <p:grpSp>
                          <p:nvGrpSpPr>
                            <p:cNvPr id="267" name=""/>
                            <p:cNvGrpSpPr/>
                            <p:nvPr/>
                          </p:nvGrpSpPr>
                          <p:grpSpPr>
                            <a:xfrm>
                              <a:off x="4692600" y="1243080"/>
                              <a:ext cx="63720" cy="54000"/>
                              <a:chOff x="4692600" y="1243080"/>
                              <a:chExt cx="63720" cy="54000"/>
                            </a:xfrm>
                          </p:grpSpPr>
                          <p:grpSp>
                            <p:nvGrpSpPr>
                              <p:cNvPr id="268" name=""/>
                              <p:cNvGrpSpPr/>
                              <p:nvPr/>
                            </p:nvGrpSpPr>
                            <p:grpSpPr>
                              <a:xfrm>
                                <a:off x="4692600" y="1243080"/>
                                <a:ext cx="38160" cy="54000"/>
                                <a:chOff x="4692600" y="1243080"/>
                                <a:chExt cx="38160" cy="54000"/>
                              </a:xfrm>
                            </p:grpSpPr>
                            <p:sp>
                              <p:nvSpPr>
                                <p:cNvPr id="269" name=""/>
                                <p:cNvSpPr/>
                                <p:nvPr/>
                              </p:nvSpPr>
                              <p:spPr>
                                <a:xfrm>
                                  <a:off x="469260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0" name=""/>
                                <p:cNvSpPr/>
                                <p:nvPr/>
                              </p:nvSpPr>
                              <p:spPr>
                                <a:xfrm>
                                  <a:off x="470376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71" name=""/>
                              <p:cNvGrpSpPr/>
                              <p:nvPr/>
                            </p:nvGrpSpPr>
                            <p:grpSpPr>
                              <a:xfrm>
                                <a:off x="4716360" y="1243080"/>
                                <a:ext cx="39960" cy="54000"/>
                                <a:chOff x="4716360" y="1243080"/>
                                <a:chExt cx="39960" cy="54000"/>
                              </a:xfrm>
                            </p:grpSpPr>
                            <p:sp>
                              <p:nvSpPr>
                                <p:cNvPr id="272" name=""/>
                                <p:cNvSpPr/>
                                <p:nvPr/>
                              </p:nvSpPr>
                              <p:spPr>
                                <a:xfrm>
                                  <a:off x="471636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3" name=""/>
                                <p:cNvSpPr/>
                                <p:nvPr/>
                              </p:nvSpPr>
                              <p:spPr>
                                <a:xfrm>
                                  <a:off x="472932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274" name=""/>
                            <p:cNvGrpSpPr/>
                            <p:nvPr/>
                          </p:nvGrpSpPr>
                          <p:grpSpPr>
                            <a:xfrm>
                              <a:off x="4741920" y="1243080"/>
                              <a:ext cx="61920" cy="54000"/>
                              <a:chOff x="4741920" y="1243080"/>
                              <a:chExt cx="61920" cy="54000"/>
                            </a:xfrm>
                          </p:grpSpPr>
                          <p:grpSp>
                            <p:nvGrpSpPr>
                              <p:cNvPr id="275" name=""/>
                              <p:cNvGrpSpPr/>
                              <p:nvPr/>
                            </p:nvGrpSpPr>
                            <p:grpSpPr>
                              <a:xfrm>
                                <a:off x="4741920" y="1243080"/>
                                <a:ext cx="38160" cy="54000"/>
                                <a:chOff x="4741920" y="1243080"/>
                                <a:chExt cx="38160" cy="54000"/>
                              </a:xfrm>
                            </p:grpSpPr>
                            <p:sp>
                              <p:nvSpPr>
                                <p:cNvPr id="276" name=""/>
                                <p:cNvSpPr/>
                                <p:nvPr/>
                              </p:nvSpPr>
                              <p:spPr>
                                <a:xfrm>
                                  <a:off x="474192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7" name=""/>
                                <p:cNvSpPr/>
                                <p:nvPr/>
                              </p:nvSpPr>
                              <p:spPr>
                                <a:xfrm>
                                  <a:off x="475308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78" name=""/>
                              <p:cNvGrpSpPr/>
                              <p:nvPr/>
                            </p:nvGrpSpPr>
                            <p:grpSpPr>
                              <a:xfrm>
                                <a:off x="4765680" y="1243080"/>
                                <a:ext cx="38160" cy="54000"/>
                                <a:chOff x="4765680" y="1243080"/>
                                <a:chExt cx="38160" cy="54000"/>
                              </a:xfrm>
                            </p:grpSpPr>
                            <p:sp>
                              <p:nvSpPr>
                                <p:cNvPr id="279" name=""/>
                                <p:cNvSpPr/>
                                <p:nvPr/>
                              </p:nvSpPr>
                              <p:spPr>
                                <a:xfrm>
                                  <a:off x="476568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80" name=""/>
                                <p:cNvSpPr/>
                                <p:nvPr/>
                              </p:nvSpPr>
                              <p:spPr>
                                <a:xfrm>
                                  <a:off x="477684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  <p:grpSp>
                      <p:nvGrpSpPr>
                        <p:cNvPr id="281" name=""/>
                        <p:cNvGrpSpPr/>
                        <p:nvPr/>
                      </p:nvGrpSpPr>
                      <p:grpSpPr>
                        <a:xfrm>
                          <a:off x="4789440" y="1243080"/>
                          <a:ext cx="208080" cy="54000"/>
                          <a:chOff x="4789440" y="1243080"/>
                          <a:chExt cx="208080" cy="54000"/>
                        </a:xfrm>
                      </p:grpSpPr>
                      <p:grpSp>
                        <p:nvGrpSpPr>
                          <p:cNvPr id="282" name=""/>
                          <p:cNvGrpSpPr/>
                          <p:nvPr/>
                        </p:nvGrpSpPr>
                        <p:grpSpPr>
                          <a:xfrm>
                            <a:off x="4789440" y="1243080"/>
                            <a:ext cx="111240" cy="54000"/>
                            <a:chOff x="4789440" y="1243080"/>
                            <a:chExt cx="111240" cy="54000"/>
                          </a:xfrm>
                        </p:grpSpPr>
                        <p:grpSp>
                          <p:nvGrpSpPr>
                            <p:cNvPr id="283" name=""/>
                            <p:cNvGrpSpPr/>
                            <p:nvPr/>
                          </p:nvGrpSpPr>
                          <p:grpSpPr>
                            <a:xfrm>
                              <a:off x="4789440" y="1243080"/>
                              <a:ext cx="63720" cy="54000"/>
                              <a:chOff x="4789440" y="1243080"/>
                              <a:chExt cx="63720" cy="54000"/>
                            </a:xfrm>
                          </p:grpSpPr>
                          <p:grpSp>
                            <p:nvGrpSpPr>
                              <p:cNvPr id="284" name=""/>
                              <p:cNvGrpSpPr/>
                              <p:nvPr/>
                            </p:nvGrpSpPr>
                            <p:grpSpPr>
                              <a:xfrm>
                                <a:off x="4789440" y="1243080"/>
                                <a:ext cx="39600" cy="54000"/>
                                <a:chOff x="4789440" y="1243080"/>
                                <a:chExt cx="39600" cy="54000"/>
                              </a:xfrm>
                            </p:grpSpPr>
                            <p:sp>
                              <p:nvSpPr>
                                <p:cNvPr id="285" name=""/>
                                <p:cNvSpPr/>
                                <p:nvPr/>
                              </p:nvSpPr>
                              <p:spPr>
                                <a:xfrm>
                                  <a:off x="478944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86" name=""/>
                                <p:cNvSpPr/>
                                <p:nvPr/>
                              </p:nvSpPr>
                              <p:spPr>
                                <a:xfrm>
                                  <a:off x="480204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87" name=""/>
                              <p:cNvGrpSpPr/>
                              <p:nvPr/>
                            </p:nvGrpSpPr>
                            <p:grpSpPr>
                              <a:xfrm>
                                <a:off x="4813200" y="1243080"/>
                                <a:ext cx="39960" cy="54000"/>
                                <a:chOff x="4813200" y="1243080"/>
                                <a:chExt cx="39960" cy="54000"/>
                              </a:xfrm>
                            </p:grpSpPr>
                            <p:sp>
                              <p:nvSpPr>
                                <p:cNvPr id="288" name=""/>
                                <p:cNvSpPr/>
                                <p:nvPr/>
                              </p:nvSpPr>
                              <p:spPr>
                                <a:xfrm>
                                  <a:off x="481320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89" name=""/>
                                <p:cNvSpPr/>
                                <p:nvPr/>
                              </p:nvSpPr>
                              <p:spPr>
                                <a:xfrm>
                                  <a:off x="482616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290" name=""/>
                            <p:cNvGrpSpPr/>
                            <p:nvPr/>
                          </p:nvGrpSpPr>
                          <p:grpSpPr>
                            <a:xfrm>
                              <a:off x="4838760" y="1243080"/>
                              <a:ext cx="61920" cy="54000"/>
                              <a:chOff x="4838760" y="1243080"/>
                              <a:chExt cx="61920" cy="54000"/>
                            </a:xfrm>
                          </p:grpSpPr>
                          <p:grpSp>
                            <p:nvGrpSpPr>
                              <p:cNvPr id="291" name=""/>
                              <p:cNvGrpSpPr/>
                              <p:nvPr/>
                            </p:nvGrpSpPr>
                            <p:grpSpPr>
                              <a:xfrm>
                                <a:off x="4838760" y="1243080"/>
                                <a:ext cx="38160" cy="54000"/>
                                <a:chOff x="4838760" y="1243080"/>
                                <a:chExt cx="38160" cy="54000"/>
                              </a:xfrm>
                            </p:grpSpPr>
                            <p:sp>
                              <p:nvSpPr>
                                <p:cNvPr id="292" name=""/>
                                <p:cNvSpPr/>
                                <p:nvPr/>
                              </p:nvSpPr>
                              <p:spPr>
                                <a:xfrm>
                                  <a:off x="483876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3" name=""/>
                                <p:cNvSpPr/>
                                <p:nvPr/>
                              </p:nvSpPr>
                              <p:spPr>
                                <a:xfrm>
                                  <a:off x="484992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94" name=""/>
                              <p:cNvGrpSpPr/>
                              <p:nvPr/>
                            </p:nvGrpSpPr>
                            <p:grpSpPr>
                              <a:xfrm>
                                <a:off x="4862520" y="1243080"/>
                                <a:ext cx="38160" cy="54000"/>
                                <a:chOff x="4862520" y="1243080"/>
                                <a:chExt cx="38160" cy="54000"/>
                              </a:xfrm>
                            </p:grpSpPr>
                            <p:sp>
                              <p:nvSpPr>
                                <p:cNvPr id="295" name=""/>
                                <p:cNvSpPr/>
                                <p:nvPr/>
                              </p:nvSpPr>
                              <p:spPr>
                                <a:xfrm>
                                  <a:off x="486252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96" name=""/>
                                <p:cNvSpPr/>
                                <p:nvPr/>
                              </p:nvSpPr>
                              <p:spPr>
                                <a:xfrm>
                                  <a:off x="487368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297" name=""/>
                          <p:cNvGrpSpPr/>
                          <p:nvPr/>
                        </p:nvGrpSpPr>
                        <p:grpSpPr>
                          <a:xfrm>
                            <a:off x="4886280" y="1243080"/>
                            <a:ext cx="111240" cy="54000"/>
                            <a:chOff x="4886280" y="1243080"/>
                            <a:chExt cx="111240" cy="54000"/>
                          </a:xfrm>
                        </p:grpSpPr>
                        <p:grpSp>
                          <p:nvGrpSpPr>
                            <p:cNvPr id="298" name=""/>
                            <p:cNvGrpSpPr/>
                            <p:nvPr/>
                          </p:nvGrpSpPr>
                          <p:grpSpPr>
                            <a:xfrm>
                              <a:off x="4886280" y="1243080"/>
                              <a:ext cx="63720" cy="54000"/>
                              <a:chOff x="4886280" y="1243080"/>
                              <a:chExt cx="63720" cy="54000"/>
                            </a:xfrm>
                          </p:grpSpPr>
                          <p:grpSp>
                            <p:nvGrpSpPr>
                              <p:cNvPr id="299" name=""/>
                              <p:cNvGrpSpPr/>
                              <p:nvPr/>
                            </p:nvGrpSpPr>
                            <p:grpSpPr>
                              <a:xfrm>
                                <a:off x="4886280" y="1243080"/>
                                <a:ext cx="38160" cy="54000"/>
                                <a:chOff x="4886280" y="1243080"/>
                                <a:chExt cx="38160" cy="54000"/>
                              </a:xfrm>
                            </p:grpSpPr>
                            <p:sp>
                              <p:nvSpPr>
                                <p:cNvPr id="300" name=""/>
                                <p:cNvSpPr/>
                                <p:nvPr/>
                              </p:nvSpPr>
                              <p:spPr>
                                <a:xfrm>
                                  <a:off x="488628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1" name=""/>
                                <p:cNvSpPr/>
                                <p:nvPr/>
                              </p:nvSpPr>
                              <p:spPr>
                                <a:xfrm>
                                  <a:off x="489744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02" name=""/>
                              <p:cNvGrpSpPr/>
                              <p:nvPr/>
                            </p:nvGrpSpPr>
                            <p:grpSpPr>
                              <a:xfrm>
                                <a:off x="4910040" y="1243080"/>
                                <a:ext cx="39960" cy="54000"/>
                                <a:chOff x="4910040" y="1243080"/>
                                <a:chExt cx="39960" cy="54000"/>
                              </a:xfrm>
                            </p:grpSpPr>
                            <p:sp>
                              <p:nvSpPr>
                                <p:cNvPr id="303" name=""/>
                                <p:cNvSpPr/>
                                <p:nvPr/>
                              </p:nvSpPr>
                              <p:spPr>
                                <a:xfrm>
                                  <a:off x="491004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4" name=""/>
                                <p:cNvSpPr/>
                                <p:nvPr/>
                              </p:nvSpPr>
                              <p:spPr>
                                <a:xfrm>
                                  <a:off x="492300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305" name=""/>
                            <p:cNvGrpSpPr/>
                            <p:nvPr/>
                          </p:nvGrpSpPr>
                          <p:grpSpPr>
                            <a:xfrm>
                              <a:off x="4933800" y="1243080"/>
                              <a:ext cx="63720" cy="54000"/>
                              <a:chOff x="4933800" y="1243080"/>
                              <a:chExt cx="63720" cy="54000"/>
                            </a:xfrm>
                          </p:grpSpPr>
                          <p:grpSp>
                            <p:nvGrpSpPr>
                              <p:cNvPr id="306" name=""/>
                              <p:cNvGrpSpPr/>
                              <p:nvPr/>
                            </p:nvGrpSpPr>
                            <p:grpSpPr>
                              <a:xfrm>
                                <a:off x="4933800" y="1243080"/>
                                <a:ext cx="39960" cy="54000"/>
                                <a:chOff x="4933800" y="1243080"/>
                                <a:chExt cx="39960" cy="54000"/>
                              </a:xfrm>
                            </p:grpSpPr>
                            <p:sp>
                              <p:nvSpPr>
                                <p:cNvPr id="307" name=""/>
                                <p:cNvSpPr/>
                                <p:nvPr/>
                              </p:nvSpPr>
                              <p:spPr>
                                <a:xfrm>
                                  <a:off x="493380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08" name=""/>
                                <p:cNvSpPr/>
                                <p:nvPr/>
                              </p:nvSpPr>
                              <p:spPr>
                                <a:xfrm>
                                  <a:off x="494676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309" name=""/>
                              <p:cNvGrpSpPr/>
                              <p:nvPr/>
                            </p:nvGrpSpPr>
                            <p:grpSpPr>
                              <a:xfrm>
                                <a:off x="4959360" y="1243080"/>
                                <a:ext cx="38160" cy="54000"/>
                                <a:chOff x="4959360" y="1243080"/>
                                <a:chExt cx="38160" cy="54000"/>
                              </a:xfrm>
                            </p:grpSpPr>
                            <p:sp>
                              <p:nvSpPr>
                                <p:cNvPr id="310" name=""/>
                                <p:cNvSpPr/>
                                <p:nvPr/>
                              </p:nvSpPr>
                              <p:spPr>
                                <a:xfrm>
                                  <a:off x="495936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11" name=""/>
                                <p:cNvSpPr/>
                                <p:nvPr/>
                              </p:nvSpPr>
                              <p:spPr>
                                <a:xfrm>
                                  <a:off x="4970520" y="1243080"/>
                                  <a:ext cx="27000" cy="540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" h="34">
                                      <a:moveTo>
                                        <a:pt x="16" y="0"/>
                                      </a:moveTo>
                                      <a:lnTo>
                                        <a:pt x="0" y="0"/>
                                      </a:lnTo>
                                      <a:lnTo>
                                        <a:pt x="0" y="33"/>
                                      </a:lnTo>
                                      <a:lnTo>
                                        <a:pt x="16" y="33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ffffff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</p:grpSp>
              </p:grp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4205160" y="1065240"/>
                    <a:ext cx="757440" cy="123840"/>
                    <a:chOff x="4205160" y="1065240"/>
                    <a:chExt cx="757440" cy="12384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4205160" y="1065240"/>
                      <a:ext cx="150840" cy="12384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4373640" y="1065240"/>
                      <a:ext cx="220680" cy="12384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4611600" y="1065240"/>
                      <a:ext cx="239760" cy="12384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4870440" y="1065240"/>
                      <a:ext cx="92160" cy="12384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4881600" y="1076040"/>
                  <a:ext cx="58680" cy="55800"/>
                  <a:chOff x="4881600" y="1076040"/>
                  <a:chExt cx="58680" cy="5580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4916520" y="1081080"/>
                    <a:ext cx="23760" cy="5076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V="1">
                    <a:off x="4921200" y="1096200"/>
                    <a:ext cx="14400" cy="468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20" name=""/>
                  <p:cNvGrpSpPr/>
                  <p:nvPr/>
                </p:nvGrpSpPr>
                <p:grpSpPr>
                  <a:xfrm>
                    <a:off x="4881600" y="1076040"/>
                    <a:ext cx="360" cy="50760"/>
                    <a:chOff x="4881600" y="1076040"/>
                    <a:chExt cx="360" cy="50760"/>
                  </a:xfrm>
                </p:grpSpPr>
                <p:sp>
                  <p:nvSpPr>
                    <p:cNvPr id="321" name=""/>
                    <p:cNvSpPr/>
                    <p:nvPr/>
                  </p:nvSpPr>
                  <p:spPr>
                    <a:xfrm flipV="1">
                      <a:off x="4881600" y="1075680"/>
                      <a:ext cx="360" cy="1260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 flipV="1">
                      <a:off x="4881600" y="1115280"/>
                      <a:ext cx="360" cy="11160"/>
                    </a:xfrm>
                    <a:prstGeom prst="rect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4381560" y="1076040"/>
                  <a:ext cx="203040" cy="84600"/>
                  <a:chOff x="4381560" y="1076040"/>
                  <a:chExt cx="203040" cy="84600"/>
                </a:xfrm>
              </p:grpSpPr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4384800" y="1085760"/>
                    <a:ext cx="199800" cy="33480"/>
                    <a:chOff x="4384800" y="1085760"/>
                    <a:chExt cx="199800" cy="3348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4451400" y="1085760"/>
                      <a:ext cx="65160" cy="334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3320" bIns="-13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4451400" y="1108080"/>
                      <a:ext cx="65160" cy="11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4384800" y="1103400"/>
                      <a:ext cx="19980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8" name=""/>
                  <p:cNvSpPr/>
                  <p:nvPr/>
                </p:nvSpPr>
                <p:spPr>
                  <a:xfrm flipV="1">
                    <a:off x="4381560" y="1075680"/>
                    <a:ext cx="1440" cy="11160"/>
                  </a:xfrm>
                  <a:prstGeom prst="rect">
                    <a:avLst/>
                  </a:prstGeom>
                  <a:solidFill>
                    <a:srgbClr val="008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4557600" y="1152360"/>
                    <a:ext cx="7920" cy="828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520" bIns="-38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0" name=""/>
                <p:cNvGrpSpPr/>
                <p:nvPr/>
              </p:nvGrpSpPr>
              <p:grpSpPr>
                <a:xfrm>
                  <a:off x="4208400" y="1163520"/>
                  <a:ext cx="165240" cy="27000"/>
                  <a:chOff x="4208400" y="1163520"/>
                  <a:chExt cx="165240" cy="27000"/>
                </a:xfrm>
              </p:grpSpPr>
              <p:grpSp>
                <p:nvGrpSpPr>
                  <p:cNvPr id="331" name=""/>
                  <p:cNvGrpSpPr/>
                  <p:nvPr/>
                </p:nvGrpSpPr>
                <p:grpSpPr>
                  <a:xfrm>
                    <a:off x="4208400" y="1163520"/>
                    <a:ext cx="90720" cy="27000"/>
                    <a:chOff x="4208400" y="1163520"/>
                    <a:chExt cx="90720" cy="27000"/>
                  </a:xfrm>
                </p:grpSpPr>
                <p:grpSp>
                  <p:nvGrpSpPr>
                    <p:cNvPr id="332" name=""/>
                    <p:cNvGrpSpPr/>
                    <p:nvPr/>
                  </p:nvGrpSpPr>
                  <p:grpSpPr>
                    <a:xfrm>
                      <a:off x="4208400" y="1163520"/>
                      <a:ext cx="54000" cy="27000"/>
                      <a:chOff x="4208400" y="1163520"/>
                      <a:chExt cx="54000" cy="27000"/>
                    </a:xfrm>
                  </p:grpSpPr>
                  <p:grpSp>
                    <p:nvGrpSpPr>
                      <p:cNvPr id="333" name=""/>
                      <p:cNvGrpSpPr/>
                      <p:nvPr/>
                    </p:nvGrpSpPr>
                    <p:grpSpPr>
                      <a:xfrm>
                        <a:off x="4208400" y="1163520"/>
                        <a:ext cx="34920" cy="27000"/>
                        <a:chOff x="4208400" y="1163520"/>
                        <a:chExt cx="34920" cy="27000"/>
                      </a:xfrm>
                    </p:grpSpPr>
                    <p:sp>
                      <p:nvSpPr>
                        <p:cNvPr id="334" name=""/>
                        <p:cNvSpPr/>
                        <p:nvPr/>
                      </p:nvSpPr>
                      <p:spPr>
                        <a:xfrm>
                          <a:off x="4208400" y="116352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5" name=""/>
                        <p:cNvSpPr/>
                        <p:nvPr/>
                      </p:nvSpPr>
                      <p:spPr>
                        <a:xfrm>
                          <a:off x="4216320" y="116352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6" name=""/>
                      <p:cNvGrpSpPr/>
                      <p:nvPr/>
                    </p:nvGrpSpPr>
                    <p:grpSpPr>
                      <a:xfrm>
                        <a:off x="4226040" y="1163520"/>
                        <a:ext cx="36360" cy="27000"/>
                        <a:chOff x="4226040" y="1163520"/>
                        <a:chExt cx="36360" cy="27000"/>
                      </a:xfrm>
                    </p:grpSpPr>
                    <p:sp>
                      <p:nvSpPr>
                        <p:cNvPr id="337" name=""/>
                        <p:cNvSpPr/>
                        <p:nvPr/>
                      </p:nvSpPr>
                      <p:spPr>
                        <a:xfrm>
                          <a:off x="4226040" y="116352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8" name=""/>
                        <p:cNvSpPr/>
                        <p:nvPr/>
                      </p:nvSpPr>
                      <p:spPr>
                        <a:xfrm>
                          <a:off x="4235400" y="116352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39" name=""/>
                    <p:cNvGrpSpPr/>
                    <p:nvPr/>
                  </p:nvGrpSpPr>
                  <p:grpSpPr>
                    <a:xfrm>
                      <a:off x="4245120" y="1163520"/>
                      <a:ext cx="54000" cy="27000"/>
                      <a:chOff x="4245120" y="1163520"/>
                      <a:chExt cx="54000" cy="27000"/>
                    </a:xfrm>
                  </p:grpSpPr>
                  <p:grpSp>
                    <p:nvGrpSpPr>
                      <p:cNvPr id="340" name=""/>
                      <p:cNvGrpSpPr/>
                      <p:nvPr/>
                    </p:nvGrpSpPr>
                    <p:grpSpPr>
                      <a:xfrm>
                        <a:off x="4245120" y="1163520"/>
                        <a:ext cx="36360" cy="27000"/>
                        <a:chOff x="4245120" y="1163520"/>
                        <a:chExt cx="36360" cy="27000"/>
                      </a:xfrm>
                    </p:grpSpPr>
                    <p:sp>
                      <p:nvSpPr>
                        <p:cNvPr id="341" name=""/>
                        <p:cNvSpPr/>
                        <p:nvPr/>
                      </p:nvSpPr>
                      <p:spPr>
                        <a:xfrm>
                          <a:off x="4245120" y="116352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2" name=""/>
                        <p:cNvSpPr/>
                        <p:nvPr/>
                      </p:nvSpPr>
                      <p:spPr>
                        <a:xfrm>
                          <a:off x="4254480" y="116352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43" name=""/>
                      <p:cNvGrpSpPr/>
                      <p:nvPr/>
                    </p:nvGrpSpPr>
                    <p:grpSpPr>
                      <a:xfrm>
                        <a:off x="4264200" y="1163520"/>
                        <a:ext cx="34920" cy="27000"/>
                        <a:chOff x="4264200" y="1163520"/>
                        <a:chExt cx="34920" cy="27000"/>
                      </a:xfrm>
                    </p:grpSpPr>
                    <p:sp>
                      <p:nvSpPr>
                        <p:cNvPr id="344" name=""/>
                        <p:cNvSpPr/>
                        <p:nvPr/>
                      </p:nvSpPr>
                      <p:spPr>
                        <a:xfrm>
                          <a:off x="4264200" y="1163520"/>
                          <a:ext cx="2664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5" name=""/>
                        <p:cNvSpPr/>
                        <p:nvPr/>
                      </p:nvSpPr>
                      <p:spPr>
                        <a:xfrm>
                          <a:off x="4272120" y="116352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346" name=""/>
                  <p:cNvGrpSpPr/>
                  <p:nvPr/>
                </p:nvGrpSpPr>
                <p:grpSpPr>
                  <a:xfrm>
                    <a:off x="4281480" y="1163520"/>
                    <a:ext cx="92160" cy="27000"/>
                    <a:chOff x="4281480" y="1163520"/>
                    <a:chExt cx="92160" cy="27000"/>
                  </a:xfrm>
                </p:grpSpPr>
                <p:grpSp>
                  <p:nvGrpSpPr>
                    <p:cNvPr id="347" name=""/>
                    <p:cNvGrpSpPr/>
                    <p:nvPr/>
                  </p:nvGrpSpPr>
                  <p:grpSpPr>
                    <a:xfrm>
                      <a:off x="4281480" y="1163520"/>
                      <a:ext cx="54000" cy="27000"/>
                      <a:chOff x="4281480" y="1163520"/>
                      <a:chExt cx="54000" cy="27000"/>
                    </a:xfrm>
                  </p:grpSpPr>
                  <p:grpSp>
                    <p:nvGrpSpPr>
                      <p:cNvPr id="348" name=""/>
                      <p:cNvGrpSpPr/>
                      <p:nvPr/>
                    </p:nvGrpSpPr>
                    <p:grpSpPr>
                      <a:xfrm>
                        <a:off x="4281480" y="1163520"/>
                        <a:ext cx="36360" cy="27000"/>
                        <a:chOff x="4281480" y="1163520"/>
                        <a:chExt cx="36360" cy="27000"/>
                      </a:xfrm>
                    </p:grpSpPr>
                    <p:sp>
                      <p:nvSpPr>
                        <p:cNvPr id="349" name=""/>
                        <p:cNvSpPr/>
                        <p:nvPr/>
                      </p:nvSpPr>
                      <p:spPr>
                        <a:xfrm>
                          <a:off x="4281480" y="116352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0" name=""/>
                        <p:cNvSpPr/>
                        <p:nvPr/>
                      </p:nvSpPr>
                      <p:spPr>
                        <a:xfrm>
                          <a:off x="4290840" y="116352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51" name=""/>
                      <p:cNvGrpSpPr/>
                      <p:nvPr/>
                    </p:nvGrpSpPr>
                    <p:grpSpPr>
                      <a:xfrm>
                        <a:off x="4300560" y="1163520"/>
                        <a:ext cx="34920" cy="27000"/>
                        <a:chOff x="4300560" y="1163520"/>
                        <a:chExt cx="34920" cy="27000"/>
                      </a:xfrm>
                    </p:grpSpPr>
                    <p:sp>
                      <p:nvSpPr>
                        <p:cNvPr id="352" name=""/>
                        <p:cNvSpPr/>
                        <p:nvPr/>
                      </p:nvSpPr>
                      <p:spPr>
                        <a:xfrm>
                          <a:off x="4300560" y="116352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3" name=""/>
                        <p:cNvSpPr/>
                        <p:nvPr/>
                      </p:nvSpPr>
                      <p:spPr>
                        <a:xfrm>
                          <a:off x="4308480" y="116352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54" name=""/>
                    <p:cNvGrpSpPr/>
                    <p:nvPr/>
                  </p:nvGrpSpPr>
                  <p:grpSpPr>
                    <a:xfrm>
                      <a:off x="4317840" y="1163520"/>
                      <a:ext cx="55800" cy="27000"/>
                      <a:chOff x="4317840" y="1163520"/>
                      <a:chExt cx="55800" cy="27000"/>
                    </a:xfrm>
                  </p:grpSpPr>
                  <p:grpSp>
                    <p:nvGrpSpPr>
                      <p:cNvPr id="355" name=""/>
                      <p:cNvGrpSpPr/>
                      <p:nvPr/>
                    </p:nvGrpSpPr>
                    <p:grpSpPr>
                      <a:xfrm>
                        <a:off x="4317840" y="1163520"/>
                        <a:ext cx="36720" cy="27000"/>
                        <a:chOff x="4317840" y="1163520"/>
                        <a:chExt cx="36720" cy="27000"/>
                      </a:xfrm>
                    </p:grpSpPr>
                    <p:sp>
                      <p:nvSpPr>
                        <p:cNvPr id="356" name=""/>
                        <p:cNvSpPr/>
                        <p:nvPr/>
                      </p:nvSpPr>
                      <p:spPr>
                        <a:xfrm>
                          <a:off x="4317840" y="116352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7" name=""/>
                        <p:cNvSpPr/>
                        <p:nvPr/>
                      </p:nvSpPr>
                      <p:spPr>
                        <a:xfrm>
                          <a:off x="4327560" y="116352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58" name=""/>
                      <p:cNvGrpSpPr/>
                      <p:nvPr/>
                    </p:nvGrpSpPr>
                    <p:grpSpPr>
                      <a:xfrm>
                        <a:off x="4336920" y="1163520"/>
                        <a:ext cx="36720" cy="27000"/>
                        <a:chOff x="4336920" y="1163520"/>
                        <a:chExt cx="36720" cy="27000"/>
                      </a:xfrm>
                    </p:grpSpPr>
                    <p:sp>
                      <p:nvSpPr>
                        <p:cNvPr id="359" name=""/>
                        <p:cNvSpPr/>
                        <p:nvPr/>
                      </p:nvSpPr>
                      <p:spPr>
                        <a:xfrm>
                          <a:off x="4336920" y="116352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0" name=""/>
                        <p:cNvSpPr/>
                        <p:nvPr/>
                      </p:nvSpPr>
                      <p:spPr>
                        <a:xfrm>
                          <a:off x="4346640" y="1163520"/>
                          <a:ext cx="27000" cy="2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0" y="0"/>
                              </a:lnTo>
                              <a:lnTo>
                                <a:pt x="0" y="16"/>
                              </a:lnTo>
                              <a:lnTo>
                                <a:pt x="16" y="16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361" name=""/>
                <p:cNvSpPr/>
                <p:nvPr/>
              </p:nvSpPr>
              <p:spPr>
                <a:xfrm>
                  <a:off x="4200480" y="1139760"/>
                  <a:ext cx="777960" cy="27000"/>
                </a:xfrm>
                <a:custGeom>
                  <a:avLst/>
                  <a:gdLst/>
                  <a:ahLst/>
                  <a:rect l="l" t="t" r="r" b="b"/>
                  <a:pathLst>
                    <a:path w="490" h="17">
                      <a:moveTo>
                        <a:pt x="0" y="11"/>
                      </a:moveTo>
                      <a:lnTo>
                        <a:pt x="215" y="11"/>
                      </a:lnTo>
                      <a:lnTo>
                        <a:pt x="215" y="0"/>
                      </a:lnTo>
                      <a:lnTo>
                        <a:pt x="249" y="0"/>
                      </a:lnTo>
                      <a:lnTo>
                        <a:pt x="249" y="16"/>
                      </a:lnTo>
                      <a:lnTo>
                        <a:pt x="489" y="1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3929040" y="1293840"/>
                <a:ext cx="1289160" cy="183960"/>
                <a:chOff x="3929040" y="1293840"/>
                <a:chExt cx="1289160" cy="183960"/>
              </a:xfrm>
            </p:grpSpPr>
            <p:grpSp>
              <p:nvGrpSpPr>
                <p:cNvPr id="363" name=""/>
                <p:cNvGrpSpPr/>
                <p:nvPr/>
              </p:nvGrpSpPr>
              <p:grpSpPr>
                <a:xfrm>
                  <a:off x="3929040" y="1293840"/>
                  <a:ext cx="1289160" cy="183960"/>
                  <a:chOff x="3929040" y="1293840"/>
                  <a:chExt cx="1289160" cy="18396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>
                    <a:off x="3935520" y="1457280"/>
                    <a:ext cx="1268280" cy="205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3929040" y="1293840"/>
                    <a:ext cx="1289160" cy="16200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102">
                        <a:moveTo>
                          <a:pt x="0" y="101"/>
                        </a:moveTo>
                        <a:lnTo>
                          <a:pt x="811" y="101"/>
                        </a:lnTo>
                        <a:lnTo>
                          <a:pt x="764" y="1"/>
                        </a:lnTo>
                        <a:lnTo>
                          <a:pt x="59" y="0"/>
                        </a:lnTo>
                        <a:lnTo>
                          <a:pt x="0" y="101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3967200" y="1311120"/>
                    <a:ext cx="120816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1" h="79">
                        <a:moveTo>
                          <a:pt x="44" y="0"/>
                        </a:moveTo>
                        <a:lnTo>
                          <a:pt x="0" y="78"/>
                        </a:lnTo>
                        <a:lnTo>
                          <a:pt x="760" y="78"/>
                        </a:lnTo>
                        <a:lnTo>
                          <a:pt x="72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4071960" y="1309680"/>
                  <a:ext cx="1014480" cy="39600"/>
                  <a:chOff x="4071960" y="1309680"/>
                  <a:chExt cx="1014480" cy="3960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>
                    <a:off x="4071960" y="1309680"/>
                    <a:ext cx="41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7">
                        <a:moveTo>
                          <a:pt x="7" y="0"/>
                        </a:moveTo>
                        <a:lnTo>
                          <a:pt x="25" y="0"/>
                        </a:lnTo>
                        <a:lnTo>
                          <a:pt x="19" y="16"/>
                        </a:lnTo>
                        <a:lnTo>
                          <a:pt x="0" y="16"/>
                        </a:lnTo>
                        <a:lnTo>
                          <a:pt x="7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4168800" y="1309680"/>
                    <a:ext cx="162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17">
                        <a:moveTo>
                          <a:pt x="5" y="0"/>
                        </a:moveTo>
                        <a:lnTo>
                          <a:pt x="101" y="0"/>
                        </a:lnTo>
                        <a:lnTo>
                          <a:pt x="97" y="16"/>
                        </a:lnTo>
                        <a:lnTo>
                          <a:pt x="0" y="16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4375080" y="1309680"/>
                    <a:ext cx="1540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7">
                        <a:moveTo>
                          <a:pt x="3" y="0"/>
                        </a:moveTo>
                        <a:lnTo>
                          <a:pt x="96" y="0"/>
                        </a:lnTo>
                        <a:lnTo>
                          <a:pt x="95" y="16"/>
                        </a:lnTo>
                        <a:lnTo>
                          <a:pt x="0" y="16"/>
                        </a:lnTo>
                        <a:lnTo>
                          <a:pt x="3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4557600" y="1309680"/>
                    <a:ext cx="1573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7">
                        <a:moveTo>
                          <a:pt x="1" y="0"/>
                        </a:moveTo>
                        <a:lnTo>
                          <a:pt x="98" y="0"/>
                        </a:lnTo>
                        <a:lnTo>
                          <a:pt x="98" y="16"/>
                        </a:lnTo>
                        <a:lnTo>
                          <a:pt x="0" y="16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4746600" y="1309680"/>
                    <a:ext cx="13824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17">
                        <a:moveTo>
                          <a:pt x="0" y="0"/>
                        </a:moveTo>
                        <a:lnTo>
                          <a:pt x="84" y="0"/>
                        </a:lnTo>
                        <a:lnTo>
                          <a:pt x="86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915080" y="1322280"/>
                    <a:ext cx="1713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7">
                        <a:moveTo>
                          <a:pt x="0" y="0"/>
                        </a:moveTo>
                        <a:lnTo>
                          <a:pt x="97" y="0"/>
                        </a:lnTo>
                        <a:lnTo>
                          <a:pt x="107" y="16"/>
                        </a:lnTo>
                        <a:lnTo>
                          <a:pt x="4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4032360" y="1351080"/>
                  <a:ext cx="1065240" cy="64800"/>
                  <a:chOff x="4032360" y="1351080"/>
                  <a:chExt cx="1065240" cy="64800"/>
                </a:xfrm>
              </p:grpSpPr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4124160" y="1353960"/>
                    <a:ext cx="527040" cy="55800"/>
                    <a:chOff x="4124160" y="1353960"/>
                    <a:chExt cx="527040" cy="5580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4124160" y="1353960"/>
                      <a:ext cx="4986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>
                      <a:off x="4145040" y="1373040"/>
                      <a:ext cx="506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>
                      <a:off x="4149720" y="1390680"/>
                      <a:ext cx="4428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>
                      <a:off x="4160880" y="1409760"/>
                      <a:ext cx="60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4032360" y="1362240"/>
                    <a:ext cx="88920" cy="36360"/>
                    <a:chOff x="4032360" y="1362240"/>
                    <a:chExt cx="88920" cy="36360"/>
                  </a:xfrm>
                </p:grpSpPr>
                <p:sp>
                  <p:nvSpPr>
                    <p:cNvPr id="381" name=""/>
                    <p:cNvSpPr/>
                    <p:nvPr/>
                  </p:nvSpPr>
                  <p:spPr>
                    <a:xfrm>
                      <a:off x="4054320" y="1362240"/>
                      <a:ext cx="493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>
                      <a:off x="4044960" y="1380960"/>
                      <a:ext cx="493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4032360" y="1398600"/>
                      <a:ext cx="88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4237200" y="1351080"/>
                    <a:ext cx="482400" cy="60120"/>
                    <a:chOff x="4237200" y="1351080"/>
                    <a:chExt cx="482400" cy="6012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>
                      <a:off x="4237200" y="1409760"/>
                      <a:ext cx="3013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>
                      <a:off x="4648320" y="1351080"/>
                      <a:ext cx="680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4665600" y="1373040"/>
                      <a:ext cx="540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4626000" y="1390680"/>
                      <a:ext cx="936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4551480" y="1409760"/>
                      <a:ext cx="460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4611600" y="1411200"/>
                      <a:ext cx="1033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1" name=""/>
                  <p:cNvGrpSpPr/>
                  <p:nvPr/>
                </p:nvGrpSpPr>
                <p:grpSpPr>
                  <a:xfrm>
                    <a:off x="4745160" y="1362240"/>
                    <a:ext cx="149040" cy="50760"/>
                    <a:chOff x="4745160" y="1362240"/>
                    <a:chExt cx="149040" cy="50760"/>
                  </a:xfrm>
                </p:grpSpPr>
                <p:sp>
                  <p:nvSpPr>
                    <p:cNvPr id="392" name=""/>
                    <p:cNvSpPr/>
                    <p:nvPr/>
                  </p:nvSpPr>
                  <p:spPr>
                    <a:xfrm>
                      <a:off x="4745160" y="1362240"/>
                      <a:ext cx="1411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764240" y="1384200"/>
                      <a:ext cx="1238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5680" y="1413000"/>
                      <a:ext cx="1285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4919760" y="1362240"/>
                    <a:ext cx="177840" cy="53640"/>
                    <a:chOff x="4919760" y="1362240"/>
                    <a:chExt cx="177840" cy="5364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4933800" y="1362240"/>
                      <a:ext cx="1350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4919760" y="1382760"/>
                      <a:ext cx="1094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4933800" y="1398600"/>
                      <a:ext cx="1018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4929120" y="1415880"/>
                      <a:ext cx="1270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5051520" y="1382760"/>
                      <a:ext cx="363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5064120" y="1406520"/>
                      <a:ext cx="334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02" name=""/>
              <p:cNvGrpSpPr/>
              <p:nvPr/>
            </p:nvGrpSpPr>
            <p:grpSpPr>
              <a:xfrm>
                <a:off x="4308480" y="890640"/>
                <a:ext cx="560520" cy="114120"/>
                <a:chOff x="4308480" y="890640"/>
                <a:chExt cx="560520" cy="114120"/>
              </a:xfrm>
            </p:grpSpPr>
            <p:grpSp>
              <p:nvGrpSpPr>
                <p:cNvPr id="403" name=""/>
                <p:cNvGrpSpPr/>
                <p:nvPr/>
              </p:nvGrpSpPr>
              <p:grpSpPr>
                <a:xfrm>
                  <a:off x="4308480" y="930240"/>
                  <a:ext cx="560520" cy="74520"/>
                  <a:chOff x="4308480" y="930240"/>
                  <a:chExt cx="560520" cy="7452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>
                    <a:off x="4308480" y="930240"/>
                    <a:ext cx="56052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353" h="29">
                        <a:moveTo>
                          <a:pt x="0" y="28"/>
                        </a:moveTo>
                        <a:lnTo>
                          <a:pt x="352" y="28"/>
                        </a:lnTo>
                        <a:lnTo>
                          <a:pt x="332" y="0"/>
                        </a:lnTo>
                        <a:lnTo>
                          <a:pt x="21" y="0"/>
                        </a:lnTo>
                        <a:lnTo>
                          <a:pt x="0" y="28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4313160" y="979560"/>
                    <a:ext cx="541440" cy="252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6" name=""/>
                <p:cNvSpPr/>
                <p:nvPr/>
              </p:nvSpPr>
              <p:spPr>
                <a:xfrm>
                  <a:off x="4438800" y="890640"/>
                  <a:ext cx="298440" cy="85680"/>
                </a:xfrm>
                <a:custGeom>
                  <a:avLst/>
                  <a:gdLst/>
                  <a:ahLst/>
                  <a:rect l="l" t="t" r="r" b="b"/>
                  <a:pathLst>
                    <a:path w="188" h="54">
                      <a:moveTo>
                        <a:pt x="0" y="30"/>
                      </a:moveTo>
                      <a:lnTo>
                        <a:pt x="0" y="0"/>
                      </a:lnTo>
                      <a:lnTo>
                        <a:pt x="187" y="0"/>
                      </a:lnTo>
                      <a:lnTo>
                        <a:pt x="187" y="30"/>
                      </a:lnTo>
                      <a:lnTo>
                        <a:pt x="186" y="33"/>
                      </a:lnTo>
                      <a:lnTo>
                        <a:pt x="184" y="36"/>
                      </a:lnTo>
                      <a:lnTo>
                        <a:pt x="181" y="38"/>
                      </a:lnTo>
                      <a:lnTo>
                        <a:pt x="177" y="40"/>
                      </a:lnTo>
                      <a:lnTo>
                        <a:pt x="171" y="42"/>
                      </a:lnTo>
                      <a:lnTo>
                        <a:pt x="166" y="44"/>
                      </a:lnTo>
                      <a:lnTo>
                        <a:pt x="160" y="46"/>
                      </a:lnTo>
                      <a:lnTo>
                        <a:pt x="153" y="47"/>
                      </a:lnTo>
                      <a:lnTo>
                        <a:pt x="147" y="49"/>
                      </a:lnTo>
                      <a:lnTo>
                        <a:pt x="137" y="50"/>
                      </a:lnTo>
                      <a:lnTo>
                        <a:pt x="129" y="51"/>
                      </a:lnTo>
                      <a:lnTo>
                        <a:pt x="121" y="52"/>
                      </a:lnTo>
                      <a:lnTo>
                        <a:pt x="112" y="52"/>
                      </a:lnTo>
                      <a:lnTo>
                        <a:pt x="102" y="53"/>
                      </a:lnTo>
                      <a:lnTo>
                        <a:pt x="89" y="53"/>
                      </a:lnTo>
                      <a:lnTo>
                        <a:pt x="76" y="52"/>
                      </a:lnTo>
                      <a:lnTo>
                        <a:pt x="65" y="52"/>
                      </a:lnTo>
                      <a:lnTo>
                        <a:pt x="55" y="51"/>
                      </a:lnTo>
                      <a:lnTo>
                        <a:pt x="46" y="50"/>
                      </a:lnTo>
                      <a:lnTo>
                        <a:pt x="39" y="49"/>
                      </a:lnTo>
                      <a:lnTo>
                        <a:pt x="30" y="46"/>
                      </a:lnTo>
                      <a:lnTo>
                        <a:pt x="24" y="45"/>
                      </a:lnTo>
                      <a:lnTo>
                        <a:pt x="17" y="43"/>
                      </a:lnTo>
                      <a:lnTo>
                        <a:pt x="11" y="41"/>
                      </a:lnTo>
                      <a:lnTo>
                        <a:pt x="7" y="38"/>
                      </a:lnTo>
                      <a:lnTo>
                        <a:pt x="4" y="37"/>
                      </a:lnTo>
                      <a:lnTo>
                        <a:pt x="2" y="35"/>
                      </a:lnTo>
                      <a:lnTo>
                        <a:pt x="1" y="33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7" name=""/>
              <p:cNvSpPr/>
              <p:nvPr/>
            </p:nvSpPr>
            <p:spPr>
              <a:xfrm>
                <a:off x="4245120" y="352440"/>
                <a:ext cx="676080" cy="542880"/>
              </a:xfrm>
              <a:prstGeom prst="roundRect">
                <a:avLst>
                  <a:gd name="adj" fmla="val 12269"/>
                </a:avLst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322880" y="414360"/>
                <a:ext cx="520560" cy="419040"/>
              </a:xfrm>
              <a:prstGeom prst="roundRect">
                <a:avLst>
                  <a:gd name="adj" fmla="val 12106"/>
                </a:avLst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352760" y="438120"/>
                <a:ext cx="460440" cy="371520"/>
              </a:xfrm>
              <a:prstGeom prst="roundRect">
                <a:avLst>
                  <a:gd name="adj" fmla="val 12130"/>
                </a:avLst>
              </a:prstGeom>
              <a:solidFill>
                <a:srgbClr val="a2c1f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4826160" y="867600"/>
                <a:ext cx="1440" cy="1260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2314440" y="3905280"/>
              <a:ext cx="4621320" cy="2919240"/>
              <a:chOff x="2314440" y="3905280"/>
              <a:chExt cx="4621320" cy="291924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5438880" y="5029200"/>
                <a:ext cx="1496880" cy="1751040"/>
                <a:chOff x="5438880" y="5029200"/>
                <a:chExt cx="1496880" cy="175104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6194520" y="5410080"/>
                  <a:ext cx="741240" cy="1038240"/>
                </a:xfrm>
                <a:custGeom>
                  <a:avLst/>
                  <a:gdLst/>
                  <a:ahLst/>
                  <a:rect l="l" t="t" r="r" b="b"/>
                  <a:pathLst>
                    <a:path w="467" h="654">
                      <a:moveTo>
                        <a:pt x="0" y="56"/>
                      </a:moveTo>
                      <a:lnTo>
                        <a:pt x="19" y="42"/>
                      </a:lnTo>
                      <a:lnTo>
                        <a:pt x="35" y="36"/>
                      </a:lnTo>
                      <a:lnTo>
                        <a:pt x="47" y="23"/>
                      </a:lnTo>
                      <a:lnTo>
                        <a:pt x="51" y="5"/>
                      </a:lnTo>
                      <a:lnTo>
                        <a:pt x="68" y="9"/>
                      </a:lnTo>
                      <a:lnTo>
                        <a:pt x="82" y="1"/>
                      </a:lnTo>
                      <a:lnTo>
                        <a:pt x="95" y="13"/>
                      </a:lnTo>
                      <a:lnTo>
                        <a:pt x="101" y="32"/>
                      </a:lnTo>
                      <a:lnTo>
                        <a:pt x="113" y="34"/>
                      </a:lnTo>
                      <a:lnTo>
                        <a:pt x="119" y="16"/>
                      </a:lnTo>
                      <a:lnTo>
                        <a:pt x="129" y="0"/>
                      </a:lnTo>
                      <a:lnTo>
                        <a:pt x="146" y="0"/>
                      </a:lnTo>
                      <a:lnTo>
                        <a:pt x="158" y="12"/>
                      </a:lnTo>
                      <a:lnTo>
                        <a:pt x="165" y="32"/>
                      </a:lnTo>
                      <a:lnTo>
                        <a:pt x="179" y="34"/>
                      </a:lnTo>
                      <a:lnTo>
                        <a:pt x="188" y="20"/>
                      </a:lnTo>
                      <a:lnTo>
                        <a:pt x="204" y="12"/>
                      </a:lnTo>
                      <a:lnTo>
                        <a:pt x="214" y="30"/>
                      </a:lnTo>
                      <a:lnTo>
                        <a:pt x="231" y="32"/>
                      </a:lnTo>
                      <a:lnTo>
                        <a:pt x="237" y="47"/>
                      </a:lnTo>
                      <a:lnTo>
                        <a:pt x="231" y="69"/>
                      </a:lnTo>
                      <a:lnTo>
                        <a:pt x="249" y="70"/>
                      </a:lnTo>
                      <a:lnTo>
                        <a:pt x="267" y="54"/>
                      </a:lnTo>
                      <a:lnTo>
                        <a:pt x="286" y="57"/>
                      </a:lnTo>
                      <a:lnTo>
                        <a:pt x="295" y="80"/>
                      </a:lnTo>
                      <a:lnTo>
                        <a:pt x="303" y="87"/>
                      </a:lnTo>
                      <a:lnTo>
                        <a:pt x="319" y="74"/>
                      </a:lnTo>
                      <a:lnTo>
                        <a:pt x="341" y="82"/>
                      </a:lnTo>
                      <a:lnTo>
                        <a:pt x="354" y="94"/>
                      </a:lnTo>
                      <a:lnTo>
                        <a:pt x="347" y="119"/>
                      </a:lnTo>
                      <a:lnTo>
                        <a:pt x="351" y="132"/>
                      </a:lnTo>
                      <a:lnTo>
                        <a:pt x="365" y="137"/>
                      </a:lnTo>
                      <a:lnTo>
                        <a:pt x="362" y="162"/>
                      </a:lnTo>
                      <a:lnTo>
                        <a:pt x="374" y="176"/>
                      </a:lnTo>
                      <a:lnTo>
                        <a:pt x="391" y="170"/>
                      </a:lnTo>
                      <a:lnTo>
                        <a:pt x="400" y="148"/>
                      </a:lnTo>
                      <a:lnTo>
                        <a:pt x="411" y="152"/>
                      </a:lnTo>
                      <a:lnTo>
                        <a:pt x="413" y="175"/>
                      </a:lnTo>
                      <a:lnTo>
                        <a:pt x="424" y="195"/>
                      </a:lnTo>
                      <a:lnTo>
                        <a:pt x="431" y="220"/>
                      </a:lnTo>
                      <a:lnTo>
                        <a:pt x="426" y="239"/>
                      </a:lnTo>
                      <a:lnTo>
                        <a:pt x="417" y="255"/>
                      </a:lnTo>
                      <a:lnTo>
                        <a:pt x="437" y="253"/>
                      </a:lnTo>
                      <a:lnTo>
                        <a:pt x="446" y="270"/>
                      </a:lnTo>
                      <a:lnTo>
                        <a:pt x="458" y="295"/>
                      </a:lnTo>
                      <a:lnTo>
                        <a:pt x="464" y="327"/>
                      </a:lnTo>
                      <a:lnTo>
                        <a:pt x="463" y="342"/>
                      </a:lnTo>
                      <a:lnTo>
                        <a:pt x="460" y="370"/>
                      </a:lnTo>
                      <a:lnTo>
                        <a:pt x="466" y="401"/>
                      </a:lnTo>
                      <a:lnTo>
                        <a:pt x="452" y="495"/>
                      </a:lnTo>
                      <a:lnTo>
                        <a:pt x="428" y="496"/>
                      </a:lnTo>
                      <a:lnTo>
                        <a:pt x="415" y="530"/>
                      </a:lnTo>
                      <a:lnTo>
                        <a:pt x="392" y="546"/>
                      </a:lnTo>
                      <a:lnTo>
                        <a:pt x="372" y="559"/>
                      </a:lnTo>
                      <a:lnTo>
                        <a:pt x="369" y="584"/>
                      </a:lnTo>
                      <a:lnTo>
                        <a:pt x="340" y="595"/>
                      </a:lnTo>
                      <a:lnTo>
                        <a:pt x="324" y="584"/>
                      </a:lnTo>
                      <a:lnTo>
                        <a:pt x="318" y="583"/>
                      </a:lnTo>
                      <a:lnTo>
                        <a:pt x="305" y="585"/>
                      </a:lnTo>
                      <a:lnTo>
                        <a:pt x="290" y="568"/>
                      </a:lnTo>
                      <a:lnTo>
                        <a:pt x="264" y="575"/>
                      </a:lnTo>
                      <a:lnTo>
                        <a:pt x="224" y="613"/>
                      </a:lnTo>
                      <a:lnTo>
                        <a:pt x="204" y="634"/>
                      </a:lnTo>
                      <a:lnTo>
                        <a:pt x="182" y="653"/>
                      </a:lnTo>
                      <a:lnTo>
                        <a:pt x="167" y="652"/>
                      </a:lnTo>
                      <a:lnTo>
                        <a:pt x="159" y="639"/>
                      </a:lnTo>
                      <a:lnTo>
                        <a:pt x="149" y="632"/>
                      </a:lnTo>
                      <a:lnTo>
                        <a:pt x="132" y="646"/>
                      </a:lnTo>
                      <a:lnTo>
                        <a:pt x="121" y="628"/>
                      </a:lnTo>
                      <a:lnTo>
                        <a:pt x="119" y="603"/>
                      </a:lnTo>
                      <a:lnTo>
                        <a:pt x="78" y="553"/>
                      </a:lnTo>
                      <a:lnTo>
                        <a:pt x="56" y="554"/>
                      </a:lnTo>
                      <a:lnTo>
                        <a:pt x="47" y="539"/>
                      </a:lnTo>
                      <a:lnTo>
                        <a:pt x="22" y="446"/>
                      </a:lnTo>
                      <a:lnTo>
                        <a:pt x="4" y="443"/>
                      </a:lnTo>
                      <a:lnTo>
                        <a:pt x="0" y="56"/>
                      </a:lnTo>
                    </a:path>
                  </a:pathLst>
                </a:custGeom>
                <a:solidFill>
                  <a:srgbClr val="00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438880" y="5029200"/>
                  <a:ext cx="1019160" cy="1077840"/>
                </a:xfrm>
                <a:custGeom>
                  <a:avLst/>
                  <a:gdLst/>
                  <a:ahLst/>
                  <a:rect l="l" t="t" r="r" b="b"/>
                  <a:pathLst>
                    <a:path w="642" h="679">
                      <a:moveTo>
                        <a:pt x="417" y="630"/>
                      </a:moveTo>
                      <a:lnTo>
                        <a:pt x="387" y="592"/>
                      </a:lnTo>
                      <a:lnTo>
                        <a:pt x="379" y="572"/>
                      </a:lnTo>
                      <a:lnTo>
                        <a:pt x="348" y="649"/>
                      </a:lnTo>
                      <a:lnTo>
                        <a:pt x="317" y="657"/>
                      </a:lnTo>
                      <a:lnTo>
                        <a:pt x="268" y="659"/>
                      </a:lnTo>
                      <a:lnTo>
                        <a:pt x="247" y="678"/>
                      </a:lnTo>
                      <a:lnTo>
                        <a:pt x="185" y="662"/>
                      </a:lnTo>
                      <a:lnTo>
                        <a:pt x="182" y="607"/>
                      </a:lnTo>
                      <a:lnTo>
                        <a:pt x="168" y="605"/>
                      </a:lnTo>
                      <a:lnTo>
                        <a:pt x="165" y="623"/>
                      </a:lnTo>
                      <a:lnTo>
                        <a:pt x="152" y="613"/>
                      </a:lnTo>
                      <a:lnTo>
                        <a:pt x="131" y="604"/>
                      </a:lnTo>
                      <a:lnTo>
                        <a:pt x="116" y="636"/>
                      </a:lnTo>
                      <a:lnTo>
                        <a:pt x="74" y="589"/>
                      </a:lnTo>
                      <a:lnTo>
                        <a:pt x="51" y="582"/>
                      </a:lnTo>
                      <a:lnTo>
                        <a:pt x="39" y="552"/>
                      </a:lnTo>
                      <a:lnTo>
                        <a:pt x="48" y="522"/>
                      </a:lnTo>
                      <a:lnTo>
                        <a:pt x="31" y="538"/>
                      </a:lnTo>
                      <a:lnTo>
                        <a:pt x="12" y="533"/>
                      </a:lnTo>
                      <a:lnTo>
                        <a:pt x="12" y="508"/>
                      </a:lnTo>
                      <a:lnTo>
                        <a:pt x="0" y="394"/>
                      </a:lnTo>
                      <a:lnTo>
                        <a:pt x="10" y="367"/>
                      </a:lnTo>
                      <a:lnTo>
                        <a:pt x="9" y="342"/>
                      </a:lnTo>
                      <a:lnTo>
                        <a:pt x="23" y="328"/>
                      </a:lnTo>
                      <a:lnTo>
                        <a:pt x="14" y="294"/>
                      </a:lnTo>
                      <a:lnTo>
                        <a:pt x="36" y="234"/>
                      </a:lnTo>
                      <a:lnTo>
                        <a:pt x="51" y="223"/>
                      </a:lnTo>
                      <a:lnTo>
                        <a:pt x="64" y="228"/>
                      </a:lnTo>
                      <a:lnTo>
                        <a:pt x="74" y="207"/>
                      </a:lnTo>
                      <a:lnTo>
                        <a:pt x="75" y="190"/>
                      </a:lnTo>
                      <a:lnTo>
                        <a:pt x="83" y="171"/>
                      </a:lnTo>
                      <a:lnTo>
                        <a:pt x="59" y="162"/>
                      </a:lnTo>
                      <a:lnTo>
                        <a:pt x="64" y="142"/>
                      </a:lnTo>
                      <a:lnTo>
                        <a:pt x="81" y="137"/>
                      </a:lnTo>
                      <a:lnTo>
                        <a:pt x="152" y="122"/>
                      </a:lnTo>
                      <a:lnTo>
                        <a:pt x="191" y="97"/>
                      </a:lnTo>
                      <a:lnTo>
                        <a:pt x="231" y="84"/>
                      </a:lnTo>
                      <a:lnTo>
                        <a:pt x="230" y="61"/>
                      </a:lnTo>
                      <a:lnTo>
                        <a:pt x="278" y="42"/>
                      </a:lnTo>
                      <a:lnTo>
                        <a:pt x="306" y="40"/>
                      </a:lnTo>
                      <a:lnTo>
                        <a:pt x="346" y="54"/>
                      </a:lnTo>
                      <a:lnTo>
                        <a:pt x="348" y="37"/>
                      </a:lnTo>
                      <a:lnTo>
                        <a:pt x="381" y="17"/>
                      </a:lnTo>
                      <a:lnTo>
                        <a:pt x="394" y="16"/>
                      </a:lnTo>
                      <a:lnTo>
                        <a:pt x="411" y="0"/>
                      </a:lnTo>
                      <a:lnTo>
                        <a:pt x="472" y="21"/>
                      </a:lnTo>
                      <a:lnTo>
                        <a:pt x="492" y="23"/>
                      </a:lnTo>
                      <a:lnTo>
                        <a:pt x="530" y="78"/>
                      </a:lnTo>
                      <a:lnTo>
                        <a:pt x="561" y="74"/>
                      </a:lnTo>
                      <a:lnTo>
                        <a:pt x="606" y="169"/>
                      </a:lnTo>
                      <a:lnTo>
                        <a:pt x="628" y="220"/>
                      </a:lnTo>
                      <a:lnTo>
                        <a:pt x="617" y="252"/>
                      </a:lnTo>
                      <a:lnTo>
                        <a:pt x="641" y="294"/>
                      </a:lnTo>
                      <a:lnTo>
                        <a:pt x="633" y="310"/>
                      </a:lnTo>
                      <a:lnTo>
                        <a:pt x="636" y="353"/>
                      </a:lnTo>
                      <a:lnTo>
                        <a:pt x="611" y="391"/>
                      </a:lnTo>
                      <a:lnTo>
                        <a:pt x="600" y="433"/>
                      </a:lnTo>
                      <a:lnTo>
                        <a:pt x="597" y="454"/>
                      </a:lnTo>
                      <a:lnTo>
                        <a:pt x="569" y="475"/>
                      </a:lnTo>
                      <a:lnTo>
                        <a:pt x="602" y="493"/>
                      </a:lnTo>
                      <a:lnTo>
                        <a:pt x="617" y="541"/>
                      </a:lnTo>
                      <a:lnTo>
                        <a:pt x="600" y="546"/>
                      </a:lnTo>
                      <a:lnTo>
                        <a:pt x="567" y="546"/>
                      </a:lnTo>
                      <a:lnTo>
                        <a:pt x="541" y="567"/>
                      </a:lnTo>
                      <a:lnTo>
                        <a:pt x="541" y="591"/>
                      </a:lnTo>
                      <a:lnTo>
                        <a:pt x="551" y="608"/>
                      </a:lnTo>
                      <a:lnTo>
                        <a:pt x="547" y="627"/>
                      </a:lnTo>
                      <a:lnTo>
                        <a:pt x="536" y="641"/>
                      </a:lnTo>
                      <a:lnTo>
                        <a:pt x="519" y="640"/>
                      </a:lnTo>
                      <a:lnTo>
                        <a:pt x="499" y="624"/>
                      </a:lnTo>
                      <a:lnTo>
                        <a:pt x="480" y="617"/>
                      </a:lnTo>
                      <a:lnTo>
                        <a:pt x="451" y="627"/>
                      </a:lnTo>
                      <a:lnTo>
                        <a:pt x="417" y="630"/>
                      </a:lnTo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6329520" y="5915160"/>
                  <a:ext cx="322200" cy="865080"/>
                </a:xfrm>
                <a:custGeom>
                  <a:avLst/>
                  <a:gdLst/>
                  <a:ahLst/>
                  <a:rect l="l" t="t" r="r" b="b"/>
                  <a:pathLst>
                    <a:path w="203" h="545">
                      <a:moveTo>
                        <a:pt x="49" y="542"/>
                      </a:moveTo>
                      <a:lnTo>
                        <a:pt x="79" y="544"/>
                      </a:lnTo>
                      <a:lnTo>
                        <a:pt x="74" y="408"/>
                      </a:lnTo>
                      <a:lnTo>
                        <a:pt x="80" y="285"/>
                      </a:lnTo>
                      <a:lnTo>
                        <a:pt x="98" y="232"/>
                      </a:lnTo>
                      <a:lnTo>
                        <a:pt x="142" y="134"/>
                      </a:lnTo>
                      <a:lnTo>
                        <a:pt x="202" y="82"/>
                      </a:lnTo>
                      <a:lnTo>
                        <a:pt x="183" y="79"/>
                      </a:lnTo>
                      <a:lnTo>
                        <a:pt x="136" y="126"/>
                      </a:lnTo>
                      <a:lnTo>
                        <a:pt x="180" y="46"/>
                      </a:lnTo>
                      <a:lnTo>
                        <a:pt x="171" y="43"/>
                      </a:lnTo>
                      <a:lnTo>
                        <a:pt x="86" y="206"/>
                      </a:lnTo>
                      <a:lnTo>
                        <a:pt x="98" y="143"/>
                      </a:lnTo>
                      <a:lnTo>
                        <a:pt x="112" y="37"/>
                      </a:lnTo>
                      <a:lnTo>
                        <a:pt x="105" y="0"/>
                      </a:lnTo>
                      <a:lnTo>
                        <a:pt x="86" y="146"/>
                      </a:lnTo>
                      <a:lnTo>
                        <a:pt x="74" y="185"/>
                      </a:lnTo>
                      <a:lnTo>
                        <a:pt x="61" y="146"/>
                      </a:lnTo>
                      <a:lnTo>
                        <a:pt x="18" y="99"/>
                      </a:lnTo>
                      <a:lnTo>
                        <a:pt x="0" y="94"/>
                      </a:lnTo>
                      <a:lnTo>
                        <a:pt x="47" y="152"/>
                      </a:lnTo>
                      <a:lnTo>
                        <a:pt x="58" y="248"/>
                      </a:lnTo>
                      <a:lnTo>
                        <a:pt x="44" y="362"/>
                      </a:lnTo>
                      <a:lnTo>
                        <a:pt x="42" y="494"/>
                      </a:lnTo>
                      <a:lnTo>
                        <a:pt x="49" y="542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5872320" y="5610240"/>
                  <a:ext cx="322200" cy="865080"/>
                </a:xfrm>
                <a:custGeom>
                  <a:avLst/>
                  <a:gdLst/>
                  <a:ahLst/>
                  <a:rect l="l" t="t" r="r" b="b"/>
                  <a:pathLst>
                    <a:path w="203" h="545">
                      <a:moveTo>
                        <a:pt x="49" y="542"/>
                      </a:moveTo>
                      <a:lnTo>
                        <a:pt x="79" y="544"/>
                      </a:lnTo>
                      <a:lnTo>
                        <a:pt x="74" y="408"/>
                      </a:lnTo>
                      <a:lnTo>
                        <a:pt x="80" y="285"/>
                      </a:lnTo>
                      <a:lnTo>
                        <a:pt x="98" y="232"/>
                      </a:lnTo>
                      <a:lnTo>
                        <a:pt x="142" y="134"/>
                      </a:lnTo>
                      <a:lnTo>
                        <a:pt x="202" y="82"/>
                      </a:lnTo>
                      <a:lnTo>
                        <a:pt x="183" y="79"/>
                      </a:lnTo>
                      <a:lnTo>
                        <a:pt x="136" y="126"/>
                      </a:lnTo>
                      <a:lnTo>
                        <a:pt x="180" y="46"/>
                      </a:lnTo>
                      <a:lnTo>
                        <a:pt x="171" y="43"/>
                      </a:lnTo>
                      <a:lnTo>
                        <a:pt x="86" y="206"/>
                      </a:lnTo>
                      <a:lnTo>
                        <a:pt x="98" y="143"/>
                      </a:lnTo>
                      <a:lnTo>
                        <a:pt x="112" y="37"/>
                      </a:lnTo>
                      <a:lnTo>
                        <a:pt x="105" y="0"/>
                      </a:lnTo>
                      <a:lnTo>
                        <a:pt x="86" y="146"/>
                      </a:lnTo>
                      <a:lnTo>
                        <a:pt x="74" y="185"/>
                      </a:lnTo>
                      <a:lnTo>
                        <a:pt x="61" y="146"/>
                      </a:lnTo>
                      <a:lnTo>
                        <a:pt x="18" y="99"/>
                      </a:lnTo>
                      <a:lnTo>
                        <a:pt x="0" y="94"/>
                      </a:lnTo>
                      <a:lnTo>
                        <a:pt x="47" y="152"/>
                      </a:lnTo>
                      <a:lnTo>
                        <a:pt x="58" y="248"/>
                      </a:lnTo>
                      <a:lnTo>
                        <a:pt x="44" y="362"/>
                      </a:lnTo>
                      <a:lnTo>
                        <a:pt x="42" y="494"/>
                      </a:lnTo>
                      <a:lnTo>
                        <a:pt x="49" y="542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2314440" y="4876920"/>
                <a:ext cx="1573200" cy="1830240"/>
                <a:chOff x="2314440" y="4876920"/>
                <a:chExt cx="1573200" cy="183024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3146400" y="4967280"/>
                  <a:ext cx="741240" cy="1328760"/>
                </a:xfrm>
                <a:custGeom>
                  <a:avLst/>
                  <a:gdLst/>
                  <a:ahLst/>
                  <a:rect l="l" t="t" r="r" b="b"/>
                  <a:pathLst>
                    <a:path w="467" h="837">
                      <a:moveTo>
                        <a:pt x="0" y="72"/>
                      </a:moveTo>
                      <a:lnTo>
                        <a:pt x="19" y="54"/>
                      </a:lnTo>
                      <a:lnTo>
                        <a:pt x="35" y="47"/>
                      </a:lnTo>
                      <a:lnTo>
                        <a:pt x="47" y="29"/>
                      </a:lnTo>
                      <a:lnTo>
                        <a:pt x="51" y="6"/>
                      </a:lnTo>
                      <a:lnTo>
                        <a:pt x="68" y="12"/>
                      </a:lnTo>
                      <a:lnTo>
                        <a:pt x="82" y="1"/>
                      </a:lnTo>
                      <a:lnTo>
                        <a:pt x="95" y="17"/>
                      </a:lnTo>
                      <a:lnTo>
                        <a:pt x="101" y="41"/>
                      </a:lnTo>
                      <a:lnTo>
                        <a:pt x="113" y="44"/>
                      </a:lnTo>
                      <a:lnTo>
                        <a:pt x="119" y="20"/>
                      </a:lnTo>
                      <a:lnTo>
                        <a:pt x="129" y="0"/>
                      </a:lnTo>
                      <a:lnTo>
                        <a:pt x="146" y="0"/>
                      </a:lnTo>
                      <a:lnTo>
                        <a:pt x="158" y="15"/>
                      </a:lnTo>
                      <a:lnTo>
                        <a:pt x="165" y="41"/>
                      </a:lnTo>
                      <a:lnTo>
                        <a:pt x="179" y="44"/>
                      </a:lnTo>
                      <a:lnTo>
                        <a:pt x="188" y="26"/>
                      </a:lnTo>
                      <a:lnTo>
                        <a:pt x="204" y="15"/>
                      </a:lnTo>
                      <a:lnTo>
                        <a:pt x="214" y="38"/>
                      </a:lnTo>
                      <a:lnTo>
                        <a:pt x="231" y="41"/>
                      </a:lnTo>
                      <a:lnTo>
                        <a:pt x="237" y="60"/>
                      </a:lnTo>
                      <a:lnTo>
                        <a:pt x="231" y="88"/>
                      </a:lnTo>
                      <a:lnTo>
                        <a:pt x="249" y="89"/>
                      </a:lnTo>
                      <a:lnTo>
                        <a:pt x="267" y="70"/>
                      </a:lnTo>
                      <a:lnTo>
                        <a:pt x="286" y="73"/>
                      </a:lnTo>
                      <a:lnTo>
                        <a:pt x="295" y="102"/>
                      </a:lnTo>
                      <a:lnTo>
                        <a:pt x="303" y="111"/>
                      </a:lnTo>
                      <a:lnTo>
                        <a:pt x="319" y="94"/>
                      </a:lnTo>
                      <a:lnTo>
                        <a:pt x="341" y="105"/>
                      </a:lnTo>
                      <a:lnTo>
                        <a:pt x="354" y="120"/>
                      </a:lnTo>
                      <a:lnTo>
                        <a:pt x="347" y="152"/>
                      </a:lnTo>
                      <a:lnTo>
                        <a:pt x="351" y="169"/>
                      </a:lnTo>
                      <a:lnTo>
                        <a:pt x="365" y="175"/>
                      </a:lnTo>
                      <a:lnTo>
                        <a:pt x="362" y="207"/>
                      </a:lnTo>
                      <a:lnTo>
                        <a:pt x="374" y="226"/>
                      </a:lnTo>
                      <a:lnTo>
                        <a:pt x="391" y="218"/>
                      </a:lnTo>
                      <a:lnTo>
                        <a:pt x="400" y="190"/>
                      </a:lnTo>
                      <a:lnTo>
                        <a:pt x="411" y="195"/>
                      </a:lnTo>
                      <a:lnTo>
                        <a:pt x="413" y="224"/>
                      </a:lnTo>
                      <a:lnTo>
                        <a:pt x="424" y="250"/>
                      </a:lnTo>
                      <a:lnTo>
                        <a:pt x="431" y="281"/>
                      </a:lnTo>
                      <a:lnTo>
                        <a:pt x="426" y="306"/>
                      </a:lnTo>
                      <a:lnTo>
                        <a:pt x="417" y="326"/>
                      </a:lnTo>
                      <a:lnTo>
                        <a:pt x="437" y="324"/>
                      </a:lnTo>
                      <a:lnTo>
                        <a:pt x="446" y="346"/>
                      </a:lnTo>
                      <a:lnTo>
                        <a:pt x="458" y="378"/>
                      </a:lnTo>
                      <a:lnTo>
                        <a:pt x="464" y="418"/>
                      </a:lnTo>
                      <a:lnTo>
                        <a:pt x="463" y="438"/>
                      </a:lnTo>
                      <a:lnTo>
                        <a:pt x="460" y="473"/>
                      </a:lnTo>
                      <a:lnTo>
                        <a:pt x="466" y="513"/>
                      </a:lnTo>
                      <a:lnTo>
                        <a:pt x="452" y="633"/>
                      </a:lnTo>
                      <a:lnTo>
                        <a:pt x="428" y="635"/>
                      </a:lnTo>
                      <a:lnTo>
                        <a:pt x="415" y="679"/>
                      </a:lnTo>
                      <a:lnTo>
                        <a:pt x="392" y="699"/>
                      </a:lnTo>
                      <a:lnTo>
                        <a:pt x="372" y="716"/>
                      </a:lnTo>
                      <a:lnTo>
                        <a:pt x="369" y="748"/>
                      </a:lnTo>
                      <a:lnTo>
                        <a:pt x="340" y="761"/>
                      </a:lnTo>
                      <a:lnTo>
                        <a:pt x="324" y="748"/>
                      </a:lnTo>
                      <a:lnTo>
                        <a:pt x="318" y="747"/>
                      </a:lnTo>
                      <a:lnTo>
                        <a:pt x="305" y="750"/>
                      </a:lnTo>
                      <a:lnTo>
                        <a:pt x="290" y="728"/>
                      </a:lnTo>
                      <a:lnTo>
                        <a:pt x="264" y="736"/>
                      </a:lnTo>
                      <a:lnTo>
                        <a:pt x="224" y="784"/>
                      </a:lnTo>
                      <a:lnTo>
                        <a:pt x="204" y="812"/>
                      </a:lnTo>
                      <a:lnTo>
                        <a:pt x="182" y="836"/>
                      </a:lnTo>
                      <a:lnTo>
                        <a:pt x="167" y="835"/>
                      </a:lnTo>
                      <a:lnTo>
                        <a:pt x="159" y="818"/>
                      </a:lnTo>
                      <a:lnTo>
                        <a:pt x="149" y="809"/>
                      </a:lnTo>
                      <a:lnTo>
                        <a:pt x="132" y="827"/>
                      </a:lnTo>
                      <a:lnTo>
                        <a:pt x="121" y="804"/>
                      </a:lnTo>
                      <a:lnTo>
                        <a:pt x="119" y="772"/>
                      </a:lnTo>
                      <a:lnTo>
                        <a:pt x="78" y="708"/>
                      </a:lnTo>
                      <a:lnTo>
                        <a:pt x="56" y="710"/>
                      </a:lnTo>
                      <a:lnTo>
                        <a:pt x="47" y="690"/>
                      </a:lnTo>
                      <a:lnTo>
                        <a:pt x="22" y="572"/>
                      </a:lnTo>
                      <a:lnTo>
                        <a:pt x="4" y="567"/>
                      </a:lnTo>
                      <a:lnTo>
                        <a:pt x="0" y="72"/>
                      </a:lnTo>
                    </a:path>
                  </a:pathLst>
                </a:custGeom>
                <a:solidFill>
                  <a:srgbClr val="51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2314440" y="4876920"/>
                  <a:ext cx="1019160" cy="1458720"/>
                </a:xfrm>
                <a:custGeom>
                  <a:avLst/>
                  <a:gdLst/>
                  <a:ahLst/>
                  <a:rect l="l" t="t" r="r" b="b"/>
                  <a:pathLst>
                    <a:path w="642" h="919">
                      <a:moveTo>
                        <a:pt x="417" y="853"/>
                      </a:moveTo>
                      <a:lnTo>
                        <a:pt x="387" y="802"/>
                      </a:lnTo>
                      <a:lnTo>
                        <a:pt x="379" y="775"/>
                      </a:lnTo>
                      <a:lnTo>
                        <a:pt x="348" y="879"/>
                      </a:lnTo>
                      <a:lnTo>
                        <a:pt x="317" y="890"/>
                      </a:lnTo>
                      <a:lnTo>
                        <a:pt x="268" y="892"/>
                      </a:lnTo>
                      <a:lnTo>
                        <a:pt x="247" y="918"/>
                      </a:lnTo>
                      <a:lnTo>
                        <a:pt x="185" y="896"/>
                      </a:lnTo>
                      <a:lnTo>
                        <a:pt x="182" y="822"/>
                      </a:lnTo>
                      <a:lnTo>
                        <a:pt x="168" y="819"/>
                      </a:lnTo>
                      <a:lnTo>
                        <a:pt x="165" y="843"/>
                      </a:lnTo>
                      <a:lnTo>
                        <a:pt x="152" y="829"/>
                      </a:lnTo>
                      <a:lnTo>
                        <a:pt x="131" y="818"/>
                      </a:lnTo>
                      <a:lnTo>
                        <a:pt x="116" y="861"/>
                      </a:lnTo>
                      <a:lnTo>
                        <a:pt x="74" y="798"/>
                      </a:lnTo>
                      <a:lnTo>
                        <a:pt x="51" y="788"/>
                      </a:lnTo>
                      <a:lnTo>
                        <a:pt x="39" y="747"/>
                      </a:lnTo>
                      <a:lnTo>
                        <a:pt x="48" y="707"/>
                      </a:lnTo>
                      <a:lnTo>
                        <a:pt x="31" y="729"/>
                      </a:lnTo>
                      <a:lnTo>
                        <a:pt x="12" y="721"/>
                      </a:lnTo>
                      <a:lnTo>
                        <a:pt x="12" y="687"/>
                      </a:lnTo>
                      <a:lnTo>
                        <a:pt x="0" y="534"/>
                      </a:lnTo>
                      <a:lnTo>
                        <a:pt x="10" y="497"/>
                      </a:lnTo>
                      <a:lnTo>
                        <a:pt x="9" y="463"/>
                      </a:lnTo>
                      <a:lnTo>
                        <a:pt x="23" y="444"/>
                      </a:lnTo>
                      <a:lnTo>
                        <a:pt x="14" y="398"/>
                      </a:lnTo>
                      <a:lnTo>
                        <a:pt x="36" y="317"/>
                      </a:lnTo>
                      <a:lnTo>
                        <a:pt x="51" y="302"/>
                      </a:lnTo>
                      <a:lnTo>
                        <a:pt x="64" y="308"/>
                      </a:lnTo>
                      <a:lnTo>
                        <a:pt x="74" y="280"/>
                      </a:lnTo>
                      <a:lnTo>
                        <a:pt x="75" y="257"/>
                      </a:lnTo>
                      <a:lnTo>
                        <a:pt x="83" y="232"/>
                      </a:lnTo>
                      <a:lnTo>
                        <a:pt x="59" y="220"/>
                      </a:lnTo>
                      <a:lnTo>
                        <a:pt x="64" y="192"/>
                      </a:lnTo>
                      <a:lnTo>
                        <a:pt x="81" y="185"/>
                      </a:lnTo>
                      <a:lnTo>
                        <a:pt x="152" y="165"/>
                      </a:lnTo>
                      <a:lnTo>
                        <a:pt x="191" y="131"/>
                      </a:lnTo>
                      <a:lnTo>
                        <a:pt x="231" y="113"/>
                      </a:lnTo>
                      <a:lnTo>
                        <a:pt x="230" y="83"/>
                      </a:lnTo>
                      <a:lnTo>
                        <a:pt x="278" y="57"/>
                      </a:lnTo>
                      <a:lnTo>
                        <a:pt x="306" y="55"/>
                      </a:lnTo>
                      <a:lnTo>
                        <a:pt x="346" y="74"/>
                      </a:lnTo>
                      <a:lnTo>
                        <a:pt x="348" y="51"/>
                      </a:lnTo>
                      <a:lnTo>
                        <a:pt x="381" y="23"/>
                      </a:lnTo>
                      <a:lnTo>
                        <a:pt x="394" y="22"/>
                      </a:lnTo>
                      <a:lnTo>
                        <a:pt x="411" y="0"/>
                      </a:lnTo>
                      <a:lnTo>
                        <a:pt x="472" y="29"/>
                      </a:lnTo>
                      <a:lnTo>
                        <a:pt x="492" y="31"/>
                      </a:lnTo>
                      <a:lnTo>
                        <a:pt x="530" y="105"/>
                      </a:lnTo>
                      <a:lnTo>
                        <a:pt x="561" y="100"/>
                      </a:lnTo>
                      <a:lnTo>
                        <a:pt x="606" y="229"/>
                      </a:lnTo>
                      <a:lnTo>
                        <a:pt x="628" y="297"/>
                      </a:lnTo>
                      <a:lnTo>
                        <a:pt x="617" y="341"/>
                      </a:lnTo>
                      <a:lnTo>
                        <a:pt x="641" y="398"/>
                      </a:lnTo>
                      <a:lnTo>
                        <a:pt x="633" y="420"/>
                      </a:lnTo>
                      <a:lnTo>
                        <a:pt x="636" y="478"/>
                      </a:lnTo>
                      <a:lnTo>
                        <a:pt x="611" y="529"/>
                      </a:lnTo>
                      <a:lnTo>
                        <a:pt x="600" y="586"/>
                      </a:lnTo>
                      <a:lnTo>
                        <a:pt x="597" y="615"/>
                      </a:lnTo>
                      <a:lnTo>
                        <a:pt x="569" y="643"/>
                      </a:lnTo>
                      <a:lnTo>
                        <a:pt x="602" y="667"/>
                      </a:lnTo>
                      <a:lnTo>
                        <a:pt x="617" y="733"/>
                      </a:lnTo>
                      <a:lnTo>
                        <a:pt x="600" y="739"/>
                      </a:lnTo>
                      <a:lnTo>
                        <a:pt x="567" y="739"/>
                      </a:lnTo>
                      <a:lnTo>
                        <a:pt x="541" y="768"/>
                      </a:lnTo>
                      <a:lnTo>
                        <a:pt x="541" y="801"/>
                      </a:lnTo>
                      <a:lnTo>
                        <a:pt x="551" y="824"/>
                      </a:lnTo>
                      <a:lnTo>
                        <a:pt x="547" y="849"/>
                      </a:lnTo>
                      <a:lnTo>
                        <a:pt x="536" y="867"/>
                      </a:lnTo>
                      <a:lnTo>
                        <a:pt x="519" y="866"/>
                      </a:lnTo>
                      <a:lnTo>
                        <a:pt x="499" y="844"/>
                      </a:lnTo>
                      <a:lnTo>
                        <a:pt x="480" y="835"/>
                      </a:lnTo>
                      <a:lnTo>
                        <a:pt x="451" y="849"/>
                      </a:lnTo>
                      <a:lnTo>
                        <a:pt x="417" y="853"/>
                      </a:lnTo>
                    </a:path>
                  </a:pathLst>
                </a:custGeom>
                <a:solidFill>
                  <a:srgbClr val="a2ff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2646360" y="5726160"/>
                  <a:ext cx="426960" cy="981000"/>
                </a:xfrm>
                <a:custGeom>
                  <a:avLst/>
                  <a:gdLst/>
                  <a:ahLst/>
                  <a:rect l="l" t="t" r="r" b="b"/>
                  <a:pathLst>
                    <a:path w="269" h="618">
                      <a:moveTo>
                        <a:pt x="126" y="616"/>
                      </a:moveTo>
                      <a:lnTo>
                        <a:pt x="146" y="617"/>
                      </a:lnTo>
                      <a:lnTo>
                        <a:pt x="159" y="617"/>
                      </a:lnTo>
                      <a:lnTo>
                        <a:pt x="157" y="589"/>
                      </a:lnTo>
                      <a:lnTo>
                        <a:pt x="153" y="525"/>
                      </a:lnTo>
                      <a:lnTo>
                        <a:pt x="155" y="457"/>
                      </a:lnTo>
                      <a:lnTo>
                        <a:pt x="146" y="394"/>
                      </a:lnTo>
                      <a:lnTo>
                        <a:pt x="160" y="320"/>
                      </a:lnTo>
                      <a:lnTo>
                        <a:pt x="187" y="266"/>
                      </a:lnTo>
                      <a:lnTo>
                        <a:pt x="217" y="228"/>
                      </a:lnTo>
                      <a:lnTo>
                        <a:pt x="250" y="172"/>
                      </a:lnTo>
                      <a:lnTo>
                        <a:pt x="268" y="145"/>
                      </a:lnTo>
                      <a:lnTo>
                        <a:pt x="250" y="145"/>
                      </a:lnTo>
                      <a:lnTo>
                        <a:pt x="226" y="186"/>
                      </a:lnTo>
                      <a:lnTo>
                        <a:pt x="199" y="229"/>
                      </a:lnTo>
                      <a:lnTo>
                        <a:pt x="177" y="263"/>
                      </a:lnTo>
                      <a:lnTo>
                        <a:pt x="159" y="306"/>
                      </a:lnTo>
                      <a:lnTo>
                        <a:pt x="170" y="248"/>
                      </a:lnTo>
                      <a:lnTo>
                        <a:pt x="173" y="181"/>
                      </a:lnTo>
                      <a:lnTo>
                        <a:pt x="195" y="137"/>
                      </a:lnTo>
                      <a:lnTo>
                        <a:pt x="223" y="92"/>
                      </a:lnTo>
                      <a:lnTo>
                        <a:pt x="209" y="96"/>
                      </a:lnTo>
                      <a:lnTo>
                        <a:pt x="164" y="181"/>
                      </a:lnTo>
                      <a:lnTo>
                        <a:pt x="155" y="272"/>
                      </a:lnTo>
                      <a:lnTo>
                        <a:pt x="133" y="196"/>
                      </a:lnTo>
                      <a:lnTo>
                        <a:pt x="104" y="0"/>
                      </a:lnTo>
                      <a:lnTo>
                        <a:pt x="115" y="129"/>
                      </a:lnTo>
                      <a:lnTo>
                        <a:pt x="143" y="285"/>
                      </a:lnTo>
                      <a:lnTo>
                        <a:pt x="136" y="365"/>
                      </a:lnTo>
                      <a:lnTo>
                        <a:pt x="118" y="300"/>
                      </a:lnTo>
                      <a:lnTo>
                        <a:pt x="87" y="211"/>
                      </a:lnTo>
                      <a:lnTo>
                        <a:pt x="13" y="112"/>
                      </a:lnTo>
                      <a:lnTo>
                        <a:pt x="0" y="109"/>
                      </a:lnTo>
                      <a:lnTo>
                        <a:pt x="83" y="232"/>
                      </a:lnTo>
                      <a:lnTo>
                        <a:pt x="115" y="359"/>
                      </a:lnTo>
                      <a:lnTo>
                        <a:pt x="122" y="450"/>
                      </a:lnTo>
                      <a:lnTo>
                        <a:pt x="120" y="586"/>
                      </a:lnTo>
                      <a:lnTo>
                        <a:pt x="126" y="616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281400" y="5762520"/>
                  <a:ext cx="322200" cy="865440"/>
                </a:xfrm>
                <a:custGeom>
                  <a:avLst/>
                  <a:gdLst/>
                  <a:ahLst/>
                  <a:rect l="l" t="t" r="r" b="b"/>
                  <a:pathLst>
                    <a:path w="203" h="545">
                      <a:moveTo>
                        <a:pt x="49" y="542"/>
                      </a:moveTo>
                      <a:lnTo>
                        <a:pt x="79" y="544"/>
                      </a:lnTo>
                      <a:lnTo>
                        <a:pt x="74" y="408"/>
                      </a:lnTo>
                      <a:lnTo>
                        <a:pt x="80" y="285"/>
                      </a:lnTo>
                      <a:lnTo>
                        <a:pt x="98" y="232"/>
                      </a:lnTo>
                      <a:lnTo>
                        <a:pt x="142" y="134"/>
                      </a:lnTo>
                      <a:lnTo>
                        <a:pt x="202" y="82"/>
                      </a:lnTo>
                      <a:lnTo>
                        <a:pt x="183" y="79"/>
                      </a:lnTo>
                      <a:lnTo>
                        <a:pt x="136" y="126"/>
                      </a:lnTo>
                      <a:lnTo>
                        <a:pt x="180" y="46"/>
                      </a:lnTo>
                      <a:lnTo>
                        <a:pt x="171" y="43"/>
                      </a:lnTo>
                      <a:lnTo>
                        <a:pt x="86" y="206"/>
                      </a:lnTo>
                      <a:lnTo>
                        <a:pt x="98" y="143"/>
                      </a:lnTo>
                      <a:lnTo>
                        <a:pt x="112" y="37"/>
                      </a:lnTo>
                      <a:lnTo>
                        <a:pt x="105" y="0"/>
                      </a:lnTo>
                      <a:lnTo>
                        <a:pt x="86" y="146"/>
                      </a:lnTo>
                      <a:lnTo>
                        <a:pt x="74" y="185"/>
                      </a:lnTo>
                      <a:lnTo>
                        <a:pt x="61" y="146"/>
                      </a:lnTo>
                      <a:lnTo>
                        <a:pt x="18" y="99"/>
                      </a:lnTo>
                      <a:lnTo>
                        <a:pt x="0" y="94"/>
                      </a:lnTo>
                      <a:lnTo>
                        <a:pt x="47" y="152"/>
                      </a:lnTo>
                      <a:lnTo>
                        <a:pt x="58" y="248"/>
                      </a:lnTo>
                      <a:lnTo>
                        <a:pt x="44" y="362"/>
                      </a:lnTo>
                      <a:lnTo>
                        <a:pt x="42" y="494"/>
                      </a:lnTo>
                      <a:lnTo>
                        <a:pt x="49" y="542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3406680" y="3905280"/>
                <a:ext cx="2289240" cy="2884320"/>
                <a:chOff x="3406680" y="3905280"/>
                <a:chExt cx="2289240" cy="2884320"/>
              </a:xfrm>
            </p:grpSpPr>
            <p:grpSp>
              <p:nvGrpSpPr>
                <p:cNvPr id="423" name=""/>
                <p:cNvGrpSpPr/>
                <p:nvPr/>
              </p:nvGrpSpPr>
              <p:grpSpPr>
                <a:xfrm>
                  <a:off x="3406680" y="3905280"/>
                  <a:ext cx="2289240" cy="2884320"/>
                  <a:chOff x="3406680" y="3905280"/>
                  <a:chExt cx="2289240" cy="288432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5064120" y="4305240"/>
                    <a:ext cx="174600" cy="593640"/>
                  </a:xfrm>
                  <a:prstGeom prst="rect">
                    <a:avLst/>
                  </a:prstGeom>
                  <a:solidFill>
                    <a:srgbClr val="fafd00"/>
                  </a:solidFill>
                  <a:ln w="38160">
                    <a:solidFill>
                      <a:srgbClr val="114ff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3548160" y="5396040"/>
                    <a:ext cx="2006640" cy="1393560"/>
                  </a:xfrm>
                  <a:prstGeom prst="rect">
                    <a:avLst/>
                  </a:prstGeom>
                  <a:solidFill>
                    <a:srgbClr val="fafd00"/>
                  </a:solidFill>
                  <a:ln w="38160">
                    <a:solidFill>
                      <a:srgbClr val="114ff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3406680" y="3905280"/>
                    <a:ext cx="2289240" cy="1566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fafd00"/>
                  </a:solidFill>
                  <a:ln w="38160">
                    <a:solidFill>
                      <a:srgbClr val="114ff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7" name=""/>
                <p:cNvSpPr/>
                <p:nvPr/>
              </p:nvSpPr>
              <p:spPr>
                <a:xfrm>
                  <a:off x="4197240" y="6102360"/>
                  <a:ext cx="368280" cy="596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114ff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8" name=""/>
                <p:cNvGrpSpPr/>
                <p:nvPr/>
              </p:nvGrpSpPr>
              <p:grpSpPr>
                <a:xfrm>
                  <a:off x="3664080" y="5638680"/>
                  <a:ext cx="596880" cy="304920"/>
                  <a:chOff x="3664080" y="5638680"/>
                  <a:chExt cx="596880" cy="304920"/>
                </a:xfrm>
              </p:grpSpPr>
              <p:grpSp>
                <p:nvGrpSpPr>
                  <p:cNvPr id="429" name=""/>
                  <p:cNvGrpSpPr/>
                  <p:nvPr/>
                </p:nvGrpSpPr>
                <p:grpSpPr>
                  <a:xfrm>
                    <a:off x="3778200" y="5638680"/>
                    <a:ext cx="368280" cy="304920"/>
                    <a:chOff x="3778200" y="5638680"/>
                    <a:chExt cx="368280" cy="304920"/>
                  </a:xfrm>
                </p:grpSpPr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3778200" y="5645160"/>
                      <a:ext cx="368280" cy="291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114ff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3962520" y="5638680"/>
                      <a:ext cx="0" cy="304920"/>
                    </a:xfrm>
                    <a:prstGeom prst="line">
                      <a:avLst/>
                    </a:prstGeom>
                    <a:ln w="12600">
                      <a:solidFill>
                        <a:srgbClr val="114ff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32" name=""/>
                  <p:cNvSpPr/>
                  <p:nvPr/>
                </p:nvSpPr>
                <p:spPr>
                  <a:xfrm>
                    <a:off x="3664080" y="5645160"/>
                    <a:ext cx="63360" cy="29196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4197240" y="5645160"/>
                    <a:ext cx="63720" cy="29196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4273560" y="4876920"/>
                  <a:ext cx="596880" cy="304560"/>
                  <a:chOff x="4273560" y="4876920"/>
                  <a:chExt cx="596880" cy="304560"/>
                </a:xfrm>
              </p:grpSpPr>
              <p:grpSp>
                <p:nvGrpSpPr>
                  <p:cNvPr id="435" name=""/>
                  <p:cNvGrpSpPr/>
                  <p:nvPr/>
                </p:nvGrpSpPr>
                <p:grpSpPr>
                  <a:xfrm>
                    <a:off x="4387680" y="4876920"/>
                    <a:ext cx="368640" cy="304560"/>
                    <a:chOff x="4387680" y="4876920"/>
                    <a:chExt cx="368640" cy="304560"/>
                  </a:xfrm>
                </p:grpSpPr>
                <p:sp>
                  <p:nvSpPr>
                    <p:cNvPr id="436" name=""/>
                    <p:cNvSpPr/>
                    <p:nvPr/>
                  </p:nvSpPr>
                  <p:spPr>
                    <a:xfrm>
                      <a:off x="4387680" y="4883040"/>
                      <a:ext cx="368640" cy="2923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114ff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" name=""/>
                    <p:cNvSpPr/>
                    <p:nvPr/>
                  </p:nvSpPr>
                  <p:spPr>
                    <a:xfrm>
                      <a:off x="4572000" y="4876920"/>
                      <a:ext cx="0" cy="304560"/>
                    </a:xfrm>
                    <a:prstGeom prst="line">
                      <a:avLst/>
                    </a:prstGeom>
                    <a:ln w="12600">
                      <a:solidFill>
                        <a:srgbClr val="114ff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38" name=""/>
                  <p:cNvSpPr/>
                  <p:nvPr/>
                </p:nvSpPr>
                <p:spPr>
                  <a:xfrm>
                    <a:off x="4807080" y="4883040"/>
                    <a:ext cx="63360" cy="29232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4273560" y="4883040"/>
                    <a:ext cx="63360" cy="29232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4883040" y="5638680"/>
                  <a:ext cx="596880" cy="304920"/>
                  <a:chOff x="4883040" y="5638680"/>
                  <a:chExt cx="596880" cy="304920"/>
                </a:xfrm>
              </p:grpSpPr>
              <p:grpSp>
                <p:nvGrpSpPr>
                  <p:cNvPr id="441" name=""/>
                  <p:cNvGrpSpPr/>
                  <p:nvPr/>
                </p:nvGrpSpPr>
                <p:grpSpPr>
                  <a:xfrm>
                    <a:off x="4997520" y="5638680"/>
                    <a:ext cx="368280" cy="304920"/>
                    <a:chOff x="4997520" y="5638680"/>
                    <a:chExt cx="368280" cy="304920"/>
                  </a:xfrm>
                </p:grpSpPr>
                <p:sp>
                  <p:nvSpPr>
                    <p:cNvPr id="442" name=""/>
                    <p:cNvSpPr/>
                    <p:nvPr/>
                  </p:nvSpPr>
                  <p:spPr>
                    <a:xfrm>
                      <a:off x="4997520" y="5645160"/>
                      <a:ext cx="368280" cy="2919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114ff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5181480" y="5638680"/>
                      <a:ext cx="0" cy="304920"/>
                    </a:xfrm>
                    <a:prstGeom prst="line">
                      <a:avLst/>
                    </a:prstGeom>
                    <a:ln w="12600">
                      <a:solidFill>
                        <a:srgbClr val="114ffb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44" name=""/>
                  <p:cNvSpPr/>
                  <p:nvPr/>
                </p:nvSpPr>
                <p:spPr>
                  <a:xfrm>
                    <a:off x="5416560" y="5645160"/>
                    <a:ext cx="63360" cy="29196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4883040" y="5645160"/>
                    <a:ext cx="63720" cy="29196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6" name=""/>
                <p:cNvSpPr/>
                <p:nvPr/>
              </p:nvSpPr>
              <p:spPr>
                <a:xfrm>
                  <a:off x="4578480" y="6102360"/>
                  <a:ext cx="368280" cy="5968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114ff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4425840" y="6407280"/>
                  <a:ext cx="63720" cy="63360"/>
                </a:xfrm>
                <a:prstGeom prst="rect">
                  <a:avLst/>
                </a:prstGeom>
                <a:solidFill>
                  <a:srgbClr val="114ffb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4654440" y="6407280"/>
                  <a:ext cx="63720" cy="63360"/>
                </a:xfrm>
                <a:prstGeom prst="rect">
                  <a:avLst/>
                </a:prstGeom>
                <a:solidFill>
                  <a:srgbClr val="114ffb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5191200" y="6405480"/>
                <a:ext cx="1287360" cy="399960"/>
                <a:chOff x="5191200" y="6405480"/>
                <a:chExt cx="1287360" cy="39996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5230800" y="6405480"/>
                  <a:ext cx="1247760" cy="365040"/>
                </a:xfrm>
                <a:custGeom>
                  <a:avLst/>
                  <a:gdLst/>
                  <a:ahLst/>
                  <a:rect l="l" t="t" r="r" b="b"/>
                  <a:pathLst>
                    <a:path w="786" h="230">
                      <a:moveTo>
                        <a:pt x="16" y="12"/>
                      </a:moveTo>
                      <a:lnTo>
                        <a:pt x="50" y="3"/>
                      </a:lnTo>
                      <a:lnTo>
                        <a:pt x="87" y="0"/>
                      </a:lnTo>
                      <a:lnTo>
                        <a:pt x="120" y="6"/>
                      </a:lnTo>
                      <a:lnTo>
                        <a:pt x="153" y="14"/>
                      </a:lnTo>
                      <a:lnTo>
                        <a:pt x="186" y="23"/>
                      </a:lnTo>
                      <a:lnTo>
                        <a:pt x="217" y="19"/>
                      </a:lnTo>
                      <a:lnTo>
                        <a:pt x="251" y="23"/>
                      </a:lnTo>
                      <a:lnTo>
                        <a:pt x="282" y="30"/>
                      </a:lnTo>
                      <a:lnTo>
                        <a:pt x="300" y="43"/>
                      </a:lnTo>
                      <a:lnTo>
                        <a:pt x="304" y="58"/>
                      </a:lnTo>
                      <a:lnTo>
                        <a:pt x="307" y="68"/>
                      </a:lnTo>
                      <a:lnTo>
                        <a:pt x="333" y="58"/>
                      </a:lnTo>
                      <a:lnTo>
                        <a:pt x="353" y="52"/>
                      </a:lnTo>
                      <a:lnTo>
                        <a:pt x="372" y="51"/>
                      </a:lnTo>
                      <a:lnTo>
                        <a:pt x="403" y="58"/>
                      </a:lnTo>
                      <a:lnTo>
                        <a:pt x="429" y="69"/>
                      </a:lnTo>
                      <a:lnTo>
                        <a:pt x="434" y="84"/>
                      </a:lnTo>
                      <a:lnTo>
                        <a:pt x="438" y="88"/>
                      </a:lnTo>
                      <a:lnTo>
                        <a:pt x="453" y="79"/>
                      </a:lnTo>
                      <a:lnTo>
                        <a:pt x="471" y="76"/>
                      </a:lnTo>
                      <a:lnTo>
                        <a:pt x="499" y="79"/>
                      </a:lnTo>
                      <a:lnTo>
                        <a:pt x="521" y="87"/>
                      </a:lnTo>
                      <a:lnTo>
                        <a:pt x="544" y="93"/>
                      </a:lnTo>
                      <a:lnTo>
                        <a:pt x="559" y="106"/>
                      </a:lnTo>
                      <a:lnTo>
                        <a:pt x="564" y="92"/>
                      </a:lnTo>
                      <a:lnTo>
                        <a:pt x="570" y="79"/>
                      </a:lnTo>
                      <a:lnTo>
                        <a:pt x="589" y="72"/>
                      </a:lnTo>
                      <a:lnTo>
                        <a:pt x="612" y="76"/>
                      </a:lnTo>
                      <a:lnTo>
                        <a:pt x="620" y="73"/>
                      </a:lnTo>
                      <a:lnTo>
                        <a:pt x="637" y="71"/>
                      </a:lnTo>
                      <a:lnTo>
                        <a:pt x="665" y="78"/>
                      </a:lnTo>
                      <a:lnTo>
                        <a:pt x="680" y="90"/>
                      </a:lnTo>
                      <a:lnTo>
                        <a:pt x="699" y="99"/>
                      </a:lnTo>
                      <a:lnTo>
                        <a:pt x="716" y="114"/>
                      </a:lnTo>
                      <a:lnTo>
                        <a:pt x="755" y="136"/>
                      </a:lnTo>
                      <a:lnTo>
                        <a:pt x="778" y="161"/>
                      </a:lnTo>
                      <a:lnTo>
                        <a:pt x="785" y="183"/>
                      </a:lnTo>
                      <a:lnTo>
                        <a:pt x="785" y="199"/>
                      </a:lnTo>
                      <a:lnTo>
                        <a:pt x="775" y="216"/>
                      </a:lnTo>
                      <a:lnTo>
                        <a:pt x="745" y="229"/>
                      </a:lnTo>
                      <a:lnTo>
                        <a:pt x="691" y="224"/>
                      </a:lnTo>
                      <a:lnTo>
                        <a:pt x="633" y="218"/>
                      </a:lnTo>
                      <a:lnTo>
                        <a:pt x="571" y="221"/>
                      </a:lnTo>
                      <a:lnTo>
                        <a:pt x="496" y="224"/>
                      </a:lnTo>
                      <a:lnTo>
                        <a:pt x="421" y="221"/>
                      </a:lnTo>
                      <a:lnTo>
                        <a:pt x="341" y="216"/>
                      </a:lnTo>
                      <a:lnTo>
                        <a:pt x="288" y="214"/>
                      </a:lnTo>
                      <a:lnTo>
                        <a:pt x="212" y="216"/>
                      </a:lnTo>
                      <a:lnTo>
                        <a:pt x="165" y="218"/>
                      </a:lnTo>
                      <a:lnTo>
                        <a:pt x="94" y="220"/>
                      </a:lnTo>
                      <a:lnTo>
                        <a:pt x="58" y="217"/>
                      </a:lnTo>
                      <a:lnTo>
                        <a:pt x="32" y="211"/>
                      </a:lnTo>
                      <a:lnTo>
                        <a:pt x="12" y="202"/>
                      </a:lnTo>
                      <a:lnTo>
                        <a:pt x="19" y="180"/>
                      </a:lnTo>
                      <a:lnTo>
                        <a:pt x="35" y="161"/>
                      </a:lnTo>
                      <a:lnTo>
                        <a:pt x="32" y="137"/>
                      </a:lnTo>
                      <a:lnTo>
                        <a:pt x="25" y="123"/>
                      </a:lnTo>
                      <a:lnTo>
                        <a:pt x="12" y="99"/>
                      </a:lnTo>
                      <a:lnTo>
                        <a:pt x="4" y="73"/>
                      </a:lnTo>
                      <a:lnTo>
                        <a:pt x="0" y="46"/>
                      </a:lnTo>
                      <a:lnTo>
                        <a:pt x="16" y="12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191200" y="6415200"/>
                  <a:ext cx="1249200" cy="363600"/>
                </a:xfrm>
                <a:custGeom>
                  <a:avLst/>
                  <a:gdLst/>
                  <a:ahLst/>
                  <a:rect l="l" t="t" r="r" b="b"/>
                  <a:pathLst>
                    <a:path w="787" h="229">
                      <a:moveTo>
                        <a:pt x="16" y="11"/>
                      </a:moveTo>
                      <a:lnTo>
                        <a:pt x="50" y="3"/>
                      </a:lnTo>
                      <a:lnTo>
                        <a:pt x="87" y="0"/>
                      </a:lnTo>
                      <a:lnTo>
                        <a:pt x="119" y="6"/>
                      </a:lnTo>
                      <a:lnTo>
                        <a:pt x="155" y="14"/>
                      </a:lnTo>
                      <a:lnTo>
                        <a:pt x="186" y="22"/>
                      </a:lnTo>
                      <a:lnTo>
                        <a:pt x="217" y="19"/>
                      </a:lnTo>
                      <a:lnTo>
                        <a:pt x="251" y="22"/>
                      </a:lnTo>
                      <a:lnTo>
                        <a:pt x="282" y="30"/>
                      </a:lnTo>
                      <a:lnTo>
                        <a:pt x="299" y="41"/>
                      </a:lnTo>
                      <a:lnTo>
                        <a:pt x="304" y="57"/>
                      </a:lnTo>
                      <a:lnTo>
                        <a:pt x="307" y="68"/>
                      </a:lnTo>
                      <a:lnTo>
                        <a:pt x="333" y="57"/>
                      </a:lnTo>
                      <a:lnTo>
                        <a:pt x="352" y="52"/>
                      </a:lnTo>
                      <a:lnTo>
                        <a:pt x="372" y="51"/>
                      </a:lnTo>
                      <a:lnTo>
                        <a:pt x="403" y="57"/>
                      </a:lnTo>
                      <a:lnTo>
                        <a:pt x="429" y="69"/>
                      </a:lnTo>
                      <a:lnTo>
                        <a:pt x="434" y="84"/>
                      </a:lnTo>
                      <a:lnTo>
                        <a:pt x="438" y="87"/>
                      </a:lnTo>
                      <a:lnTo>
                        <a:pt x="453" y="79"/>
                      </a:lnTo>
                      <a:lnTo>
                        <a:pt x="470" y="76"/>
                      </a:lnTo>
                      <a:lnTo>
                        <a:pt x="498" y="79"/>
                      </a:lnTo>
                      <a:lnTo>
                        <a:pt x="521" y="86"/>
                      </a:lnTo>
                      <a:lnTo>
                        <a:pt x="544" y="93"/>
                      </a:lnTo>
                      <a:lnTo>
                        <a:pt x="559" y="106"/>
                      </a:lnTo>
                      <a:lnTo>
                        <a:pt x="563" y="92"/>
                      </a:lnTo>
                      <a:lnTo>
                        <a:pt x="569" y="79"/>
                      </a:lnTo>
                      <a:lnTo>
                        <a:pt x="588" y="71"/>
                      </a:lnTo>
                      <a:lnTo>
                        <a:pt x="612" y="76"/>
                      </a:lnTo>
                      <a:lnTo>
                        <a:pt x="619" y="72"/>
                      </a:lnTo>
                      <a:lnTo>
                        <a:pt x="639" y="70"/>
                      </a:lnTo>
                      <a:lnTo>
                        <a:pt x="665" y="78"/>
                      </a:lnTo>
                      <a:lnTo>
                        <a:pt x="680" y="89"/>
                      </a:lnTo>
                      <a:lnTo>
                        <a:pt x="699" y="99"/>
                      </a:lnTo>
                      <a:lnTo>
                        <a:pt x="715" y="114"/>
                      </a:lnTo>
                      <a:lnTo>
                        <a:pt x="755" y="135"/>
                      </a:lnTo>
                      <a:lnTo>
                        <a:pt x="779" y="161"/>
                      </a:lnTo>
                      <a:lnTo>
                        <a:pt x="786" y="182"/>
                      </a:lnTo>
                      <a:lnTo>
                        <a:pt x="786" y="198"/>
                      </a:lnTo>
                      <a:lnTo>
                        <a:pt x="776" y="215"/>
                      </a:lnTo>
                      <a:lnTo>
                        <a:pt x="745" y="228"/>
                      </a:lnTo>
                      <a:lnTo>
                        <a:pt x="690" y="224"/>
                      </a:lnTo>
                      <a:lnTo>
                        <a:pt x="633" y="218"/>
                      </a:lnTo>
                      <a:lnTo>
                        <a:pt x="571" y="221"/>
                      </a:lnTo>
                      <a:lnTo>
                        <a:pt x="495" y="224"/>
                      </a:lnTo>
                      <a:lnTo>
                        <a:pt x="420" y="221"/>
                      </a:lnTo>
                      <a:lnTo>
                        <a:pt x="341" y="215"/>
                      </a:lnTo>
                      <a:lnTo>
                        <a:pt x="288" y="213"/>
                      </a:lnTo>
                      <a:lnTo>
                        <a:pt x="212" y="215"/>
                      </a:lnTo>
                      <a:lnTo>
                        <a:pt x="165" y="218"/>
                      </a:lnTo>
                      <a:lnTo>
                        <a:pt x="94" y="220"/>
                      </a:lnTo>
                      <a:lnTo>
                        <a:pt x="58" y="217"/>
                      </a:lnTo>
                      <a:lnTo>
                        <a:pt x="32" y="211"/>
                      </a:lnTo>
                      <a:lnTo>
                        <a:pt x="12" y="202"/>
                      </a:lnTo>
                      <a:lnTo>
                        <a:pt x="19" y="180"/>
                      </a:lnTo>
                      <a:lnTo>
                        <a:pt x="35" y="161"/>
                      </a:lnTo>
                      <a:lnTo>
                        <a:pt x="34" y="136"/>
                      </a:lnTo>
                      <a:lnTo>
                        <a:pt x="25" y="122"/>
                      </a:lnTo>
                      <a:lnTo>
                        <a:pt x="12" y="99"/>
                      </a:lnTo>
                      <a:lnTo>
                        <a:pt x="4" y="72"/>
                      </a:lnTo>
                      <a:lnTo>
                        <a:pt x="0" y="46"/>
                      </a:lnTo>
                      <a:lnTo>
                        <a:pt x="16" y="11"/>
                      </a:lnTo>
                    </a:path>
                  </a:pathLst>
                </a:custGeom>
                <a:solidFill>
                  <a:srgbClr val="60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702400" y="6521400"/>
                  <a:ext cx="657000" cy="284040"/>
                </a:xfrm>
                <a:custGeom>
                  <a:avLst/>
                  <a:gdLst/>
                  <a:ahLst/>
                  <a:rect l="l" t="t" r="r" b="b"/>
                  <a:pathLst>
                    <a:path w="414" h="179">
                      <a:moveTo>
                        <a:pt x="9" y="9"/>
                      </a:moveTo>
                      <a:lnTo>
                        <a:pt x="26" y="2"/>
                      </a:lnTo>
                      <a:lnTo>
                        <a:pt x="45" y="0"/>
                      </a:lnTo>
                      <a:lnTo>
                        <a:pt x="63" y="4"/>
                      </a:lnTo>
                      <a:lnTo>
                        <a:pt x="81" y="11"/>
                      </a:lnTo>
                      <a:lnTo>
                        <a:pt x="97" y="17"/>
                      </a:lnTo>
                      <a:lnTo>
                        <a:pt x="113" y="14"/>
                      </a:lnTo>
                      <a:lnTo>
                        <a:pt x="131" y="17"/>
                      </a:lnTo>
                      <a:lnTo>
                        <a:pt x="148" y="23"/>
                      </a:lnTo>
                      <a:lnTo>
                        <a:pt x="157" y="33"/>
                      </a:lnTo>
                      <a:lnTo>
                        <a:pt x="160" y="45"/>
                      </a:lnTo>
                      <a:lnTo>
                        <a:pt x="161" y="53"/>
                      </a:lnTo>
                      <a:lnTo>
                        <a:pt x="175" y="45"/>
                      </a:lnTo>
                      <a:lnTo>
                        <a:pt x="186" y="41"/>
                      </a:lnTo>
                      <a:lnTo>
                        <a:pt x="195" y="40"/>
                      </a:lnTo>
                      <a:lnTo>
                        <a:pt x="212" y="45"/>
                      </a:lnTo>
                      <a:lnTo>
                        <a:pt x="225" y="54"/>
                      </a:lnTo>
                      <a:lnTo>
                        <a:pt x="228" y="66"/>
                      </a:lnTo>
                      <a:lnTo>
                        <a:pt x="230" y="69"/>
                      </a:lnTo>
                      <a:lnTo>
                        <a:pt x="238" y="62"/>
                      </a:lnTo>
                      <a:lnTo>
                        <a:pt x="247" y="60"/>
                      </a:lnTo>
                      <a:lnTo>
                        <a:pt x="262" y="62"/>
                      </a:lnTo>
                      <a:lnTo>
                        <a:pt x="273" y="68"/>
                      </a:lnTo>
                      <a:lnTo>
                        <a:pt x="286" y="73"/>
                      </a:lnTo>
                      <a:lnTo>
                        <a:pt x="294" y="83"/>
                      </a:lnTo>
                      <a:lnTo>
                        <a:pt x="295" y="72"/>
                      </a:lnTo>
                      <a:lnTo>
                        <a:pt x="300" y="62"/>
                      </a:lnTo>
                      <a:lnTo>
                        <a:pt x="310" y="56"/>
                      </a:lnTo>
                      <a:lnTo>
                        <a:pt x="321" y="60"/>
                      </a:lnTo>
                      <a:lnTo>
                        <a:pt x="326" y="57"/>
                      </a:lnTo>
                      <a:lnTo>
                        <a:pt x="336" y="56"/>
                      </a:lnTo>
                      <a:lnTo>
                        <a:pt x="350" y="61"/>
                      </a:lnTo>
                      <a:lnTo>
                        <a:pt x="358" y="70"/>
                      </a:lnTo>
                      <a:lnTo>
                        <a:pt x="368" y="78"/>
                      </a:lnTo>
                      <a:lnTo>
                        <a:pt x="377" y="89"/>
                      </a:lnTo>
                      <a:lnTo>
                        <a:pt x="397" y="106"/>
                      </a:lnTo>
                      <a:lnTo>
                        <a:pt x="409" y="126"/>
                      </a:lnTo>
                      <a:lnTo>
                        <a:pt x="413" y="143"/>
                      </a:lnTo>
                      <a:lnTo>
                        <a:pt x="413" y="155"/>
                      </a:lnTo>
                      <a:lnTo>
                        <a:pt x="407" y="168"/>
                      </a:lnTo>
                      <a:lnTo>
                        <a:pt x="391" y="178"/>
                      </a:lnTo>
                      <a:lnTo>
                        <a:pt x="364" y="175"/>
                      </a:lnTo>
                      <a:lnTo>
                        <a:pt x="333" y="170"/>
                      </a:lnTo>
                      <a:lnTo>
                        <a:pt x="300" y="172"/>
                      </a:lnTo>
                      <a:lnTo>
                        <a:pt x="260" y="175"/>
                      </a:lnTo>
                      <a:lnTo>
                        <a:pt x="221" y="172"/>
                      </a:lnTo>
                      <a:lnTo>
                        <a:pt x="179" y="168"/>
                      </a:lnTo>
                      <a:lnTo>
                        <a:pt x="151" y="167"/>
                      </a:lnTo>
                      <a:lnTo>
                        <a:pt x="112" y="168"/>
                      </a:lnTo>
                      <a:lnTo>
                        <a:pt x="87" y="170"/>
                      </a:lnTo>
                      <a:lnTo>
                        <a:pt x="49" y="172"/>
                      </a:lnTo>
                      <a:lnTo>
                        <a:pt x="31" y="170"/>
                      </a:lnTo>
                      <a:lnTo>
                        <a:pt x="16" y="165"/>
                      </a:lnTo>
                      <a:lnTo>
                        <a:pt x="6" y="158"/>
                      </a:lnTo>
                      <a:lnTo>
                        <a:pt x="10" y="140"/>
                      </a:lnTo>
                      <a:lnTo>
                        <a:pt x="19" y="126"/>
                      </a:lnTo>
                      <a:lnTo>
                        <a:pt x="17" y="107"/>
                      </a:lnTo>
                      <a:lnTo>
                        <a:pt x="13" y="96"/>
                      </a:lnTo>
                      <a:lnTo>
                        <a:pt x="6" y="78"/>
                      </a:lnTo>
                      <a:lnTo>
                        <a:pt x="1" y="57"/>
                      </a:lnTo>
                      <a:lnTo>
                        <a:pt x="0" y="36"/>
                      </a:lnTo>
                      <a:lnTo>
                        <a:pt x="9" y="9"/>
                      </a:lnTo>
                    </a:path>
                  </a:pathLst>
                </a:custGeom>
                <a:solidFill>
                  <a:srgbClr val="4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295960" y="6512040"/>
                  <a:ext cx="657000" cy="284040"/>
                </a:xfrm>
                <a:custGeom>
                  <a:avLst/>
                  <a:gdLst/>
                  <a:ahLst/>
                  <a:rect l="l" t="t" r="r" b="b"/>
                  <a:pathLst>
                    <a:path w="414" h="179">
                      <a:moveTo>
                        <a:pt x="404" y="9"/>
                      </a:moveTo>
                      <a:lnTo>
                        <a:pt x="387" y="2"/>
                      </a:lnTo>
                      <a:lnTo>
                        <a:pt x="368" y="0"/>
                      </a:lnTo>
                      <a:lnTo>
                        <a:pt x="350" y="4"/>
                      </a:lnTo>
                      <a:lnTo>
                        <a:pt x="332" y="10"/>
                      </a:lnTo>
                      <a:lnTo>
                        <a:pt x="316" y="17"/>
                      </a:lnTo>
                      <a:lnTo>
                        <a:pt x="300" y="14"/>
                      </a:lnTo>
                      <a:lnTo>
                        <a:pt x="281" y="17"/>
                      </a:lnTo>
                      <a:lnTo>
                        <a:pt x="265" y="23"/>
                      </a:lnTo>
                      <a:lnTo>
                        <a:pt x="256" y="33"/>
                      </a:lnTo>
                      <a:lnTo>
                        <a:pt x="254" y="45"/>
                      </a:lnTo>
                      <a:lnTo>
                        <a:pt x="253" y="53"/>
                      </a:lnTo>
                      <a:lnTo>
                        <a:pt x="237" y="45"/>
                      </a:lnTo>
                      <a:lnTo>
                        <a:pt x="228" y="41"/>
                      </a:lnTo>
                      <a:lnTo>
                        <a:pt x="218" y="40"/>
                      </a:lnTo>
                      <a:lnTo>
                        <a:pt x="202" y="45"/>
                      </a:lnTo>
                      <a:lnTo>
                        <a:pt x="188" y="54"/>
                      </a:lnTo>
                      <a:lnTo>
                        <a:pt x="185" y="66"/>
                      </a:lnTo>
                      <a:lnTo>
                        <a:pt x="183" y="69"/>
                      </a:lnTo>
                      <a:lnTo>
                        <a:pt x="176" y="62"/>
                      </a:lnTo>
                      <a:lnTo>
                        <a:pt x="166" y="59"/>
                      </a:lnTo>
                      <a:lnTo>
                        <a:pt x="151" y="62"/>
                      </a:lnTo>
                      <a:lnTo>
                        <a:pt x="138" y="68"/>
                      </a:lnTo>
                      <a:lnTo>
                        <a:pt x="127" y="73"/>
                      </a:lnTo>
                      <a:lnTo>
                        <a:pt x="119" y="83"/>
                      </a:lnTo>
                      <a:lnTo>
                        <a:pt x="116" y="73"/>
                      </a:lnTo>
                      <a:lnTo>
                        <a:pt x="113" y="62"/>
                      </a:lnTo>
                      <a:lnTo>
                        <a:pt x="105" y="56"/>
                      </a:lnTo>
                      <a:lnTo>
                        <a:pt x="92" y="59"/>
                      </a:lnTo>
                      <a:lnTo>
                        <a:pt x="89" y="57"/>
                      </a:lnTo>
                      <a:lnTo>
                        <a:pt x="79" y="56"/>
                      </a:lnTo>
                      <a:lnTo>
                        <a:pt x="64" y="61"/>
                      </a:lnTo>
                      <a:lnTo>
                        <a:pt x="57" y="70"/>
                      </a:lnTo>
                      <a:lnTo>
                        <a:pt x="45" y="77"/>
                      </a:lnTo>
                      <a:lnTo>
                        <a:pt x="38" y="89"/>
                      </a:lnTo>
                      <a:lnTo>
                        <a:pt x="17" y="105"/>
                      </a:lnTo>
                      <a:lnTo>
                        <a:pt x="4" y="125"/>
                      </a:lnTo>
                      <a:lnTo>
                        <a:pt x="0" y="142"/>
                      </a:lnTo>
                      <a:lnTo>
                        <a:pt x="0" y="155"/>
                      </a:lnTo>
                      <a:lnTo>
                        <a:pt x="6" y="167"/>
                      </a:lnTo>
                      <a:lnTo>
                        <a:pt x="22" y="178"/>
                      </a:lnTo>
                      <a:lnTo>
                        <a:pt x="49" y="175"/>
                      </a:lnTo>
                      <a:lnTo>
                        <a:pt x="81" y="170"/>
                      </a:lnTo>
                      <a:lnTo>
                        <a:pt x="112" y="172"/>
                      </a:lnTo>
                      <a:lnTo>
                        <a:pt x="153" y="175"/>
                      </a:lnTo>
                      <a:lnTo>
                        <a:pt x="192" y="172"/>
                      </a:lnTo>
                      <a:lnTo>
                        <a:pt x="234" y="167"/>
                      </a:lnTo>
                      <a:lnTo>
                        <a:pt x="262" y="167"/>
                      </a:lnTo>
                      <a:lnTo>
                        <a:pt x="302" y="167"/>
                      </a:lnTo>
                      <a:lnTo>
                        <a:pt x="327" y="170"/>
                      </a:lnTo>
                      <a:lnTo>
                        <a:pt x="364" y="171"/>
                      </a:lnTo>
                      <a:lnTo>
                        <a:pt x="382" y="169"/>
                      </a:lnTo>
                      <a:lnTo>
                        <a:pt x="397" y="165"/>
                      </a:lnTo>
                      <a:lnTo>
                        <a:pt x="407" y="158"/>
                      </a:lnTo>
                      <a:lnTo>
                        <a:pt x="403" y="140"/>
                      </a:lnTo>
                      <a:lnTo>
                        <a:pt x="396" y="125"/>
                      </a:lnTo>
                      <a:lnTo>
                        <a:pt x="397" y="106"/>
                      </a:lnTo>
                      <a:lnTo>
                        <a:pt x="400" y="96"/>
                      </a:lnTo>
                      <a:lnTo>
                        <a:pt x="407" y="77"/>
                      </a:lnTo>
                      <a:lnTo>
                        <a:pt x="412" y="57"/>
                      </a:lnTo>
                      <a:lnTo>
                        <a:pt x="413" y="36"/>
                      </a:lnTo>
                      <a:lnTo>
                        <a:pt x="404" y="9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2798640" y="6496200"/>
                <a:ext cx="1311480" cy="328320"/>
                <a:chOff x="2798640" y="6496200"/>
                <a:chExt cx="1311480" cy="3283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3670200" y="6496200"/>
                  <a:ext cx="439920" cy="282600"/>
                </a:xfrm>
                <a:custGeom>
                  <a:avLst/>
                  <a:gdLst/>
                  <a:ahLst/>
                  <a:rect l="l" t="t" r="r" b="b"/>
                  <a:pathLst>
                    <a:path w="277" h="178">
                      <a:moveTo>
                        <a:pt x="6" y="8"/>
                      </a:moveTo>
                      <a:lnTo>
                        <a:pt x="17" y="2"/>
                      </a:lnTo>
                      <a:lnTo>
                        <a:pt x="30" y="0"/>
                      </a:lnTo>
                      <a:lnTo>
                        <a:pt x="41" y="3"/>
                      </a:lnTo>
                      <a:lnTo>
                        <a:pt x="53" y="10"/>
                      </a:lnTo>
                      <a:lnTo>
                        <a:pt x="65" y="17"/>
                      </a:lnTo>
                      <a:lnTo>
                        <a:pt x="76" y="14"/>
                      </a:lnTo>
                      <a:lnTo>
                        <a:pt x="87" y="17"/>
                      </a:lnTo>
                      <a:lnTo>
                        <a:pt x="99" y="22"/>
                      </a:lnTo>
                      <a:lnTo>
                        <a:pt x="104" y="33"/>
                      </a:lnTo>
                      <a:lnTo>
                        <a:pt x="106" y="45"/>
                      </a:lnTo>
                      <a:lnTo>
                        <a:pt x="107" y="52"/>
                      </a:lnTo>
                      <a:lnTo>
                        <a:pt x="118" y="45"/>
                      </a:lnTo>
                      <a:lnTo>
                        <a:pt x="123" y="40"/>
                      </a:lnTo>
                      <a:lnTo>
                        <a:pt x="130" y="39"/>
                      </a:lnTo>
                      <a:lnTo>
                        <a:pt x="141" y="45"/>
                      </a:lnTo>
                      <a:lnTo>
                        <a:pt x="150" y="53"/>
                      </a:lnTo>
                      <a:lnTo>
                        <a:pt x="152" y="65"/>
                      </a:lnTo>
                      <a:lnTo>
                        <a:pt x="154" y="68"/>
                      </a:lnTo>
                      <a:lnTo>
                        <a:pt x="158" y="62"/>
                      </a:lnTo>
                      <a:lnTo>
                        <a:pt x="165" y="59"/>
                      </a:lnTo>
                      <a:lnTo>
                        <a:pt x="175" y="62"/>
                      </a:lnTo>
                      <a:lnTo>
                        <a:pt x="183" y="67"/>
                      </a:lnTo>
                      <a:lnTo>
                        <a:pt x="191" y="72"/>
                      </a:lnTo>
                      <a:lnTo>
                        <a:pt x="196" y="82"/>
                      </a:lnTo>
                      <a:lnTo>
                        <a:pt x="197" y="72"/>
                      </a:lnTo>
                      <a:lnTo>
                        <a:pt x="199" y="62"/>
                      </a:lnTo>
                      <a:lnTo>
                        <a:pt x="206" y="55"/>
                      </a:lnTo>
                      <a:lnTo>
                        <a:pt x="214" y="59"/>
                      </a:lnTo>
                      <a:lnTo>
                        <a:pt x="217" y="56"/>
                      </a:lnTo>
                      <a:lnTo>
                        <a:pt x="224" y="55"/>
                      </a:lnTo>
                      <a:lnTo>
                        <a:pt x="233" y="61"/>
                      </a:lnTo>
                      <a:lnTo>
                        <a:pt x="238" y="69"/>
                      </a:lnTo>
                      <a:lnTo>
                        <a:pt x="245" y="77"/>
                      </a:lnTo>
                      <a:lnTo>
                        <a:pt x="251" y="88"/>
                      </a:lnTo>
                      <a:lnTo>
                        <a:pt x="264" y="105"/>
                      </a:lnTo>
                      <a:lnTo>
                        <a:pt x="273" y="125"/>
                      </a:lnTo>
                      <a:lnTo>
                        <a:pt x="276" y="142"/>
                      </a:lnTo>
                      <a:lnTo>
                        <a:pt x="276" y="155"/>
                      </a:lnTo>
                      <a:lnTo>
                        <a:pt x="272" y="167"/>
                      </a:lnTo>
                      <a:lnTo>
                        <a:pt x="261" y="177"/>
                      </a:lnTo>
                      <a:lnTo>
                        <a:pt x="243" y="175"/>
                      </a:lnTo>
                      <a:lnTo>
                        <a:pt x="222" y="170"/>
                      </a:lnTo>
                      <a:lnTo>
                        <a:pt x="200" y="172"/>
                      </a:lnTo>
                      <a:lnTo>
                        <a:pt x="174" y="175"/>
                      </a:lnTo>
                      <a:lnTo>
                        <a:pt x="148" y="172"/>
                      </a:lnTo>
                      <a:lnTo>
                        <a:pt x="119" y="167"/>
                      </a:lnTo>
                      <a:lnTo>
                        <a:pt x="101" y="166"/>
                      </a:lnTo>
                      <a:lnTo>
                        <a:pt x="74" y="167"/>
                      </a:lnTo>
                      <a:lnTo>
                        <a:pt x="57" y="170"/>
                      </a:lnTo>
                      <a:lnTo>
                        <a:pt x="33" y="171"/>
                      </a:lnTo>
                      <a:lnTo>
                        <a:pt x="20" y="169"/>
                      </a:lnTo>
                      <a:lnTo>
                        <a:pt x="11" y="164"/>
                      </a:lnTo>
                      <a:lnTo>
                        <a:pt x="4" y="158"/>
                      </a:lnTo>
                      <a:lnTo>
                        <a:pt x="6" y="140"/>
                      </a:lnTo>
                      <a:lnTo>
                        <a:pt x="12" y="125"/>
                      </a:lnTo>
                      <a:lnTo>
                        <a:pt x="11" y="106"/>
                      </a:lnTo>
                      <a:lnTo>
                        <a:pt x="8" y="96"/>
                      </a:lnTo>
                      <a:lnTo>
                        <a:pt x="4" y="77"/>
                      </a:lnTo>
                      <a:lnTo>
                        <a:pt x="1" y="56"/>
                      </a:lnTo>
                      <a:lnTo>
                        <a:pt x="0" y="35"/>
                      </a:lnTo>
                      <a:lnTo>
                        <a:pt x="6" y="8"/>
                      </a:lnTo>
                    </a:path>
                  </a:pathLst>
                </a:custGeom>
                <a:solidFill>
                  <a:srgbClr val="4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798640" y="6540480"/>
                  <a:ext cx="439920" cy="284040"/>
                </a:xfrm>
                <a:custGeom>
                  <a:avLst/>
                  <a:gdLst/>
                  <a:ahLst/>
                  <a:rect l="l" t="t" r="r" b="b"/>
                  <a:pathLst>
                    <a:path w="277" h="179">
                      <a:moveTo>
                        <a:pt x="270" y="8"/>
                      </a:moveTo>
                      <a:lnTo>
                        <a:pt x="259" y="2"/>
                      </a:lnTo>
                      <a:lnTo>
                        <a:pt x="246" y="0"/>
                      </a:lnTo>
                      <a:lnTo>
                        <a:pt x="235" y="4"/>
                      </a:lnTo>
                      <a:lnTo>
                        <a:pt x="222" y="10"/>
                      </a:lnTo>
                      <a:lnTo>
                        <a:pt x="211" y="17"/>
                      </a:lnTo>
                      <a:lnTo>
                        <a:pt x="200" y="14"/>
                      </a:lnTo>
                      <a:lnTo>
                        <a:pt x="189" y="17"/>
                      </a:lnTo>
                      <a:lnTo>
                        <a:pt x="177" y="22"/>
                      </a:lnTo>
                      <a:lnTo>
                        <a:pt x="172" y="33"/>
                      </a:lnTo>
                      <a:lnTo>
                        <a:pt x="170" y="45"/>
                      </a:lnTo>
                      <a:lnTo>
                        <a:pt x="169" y="53"/>
                      </a:lnTo>
                      <a:lnTo>
                        <a:pt x="158" y="45"/>
                      </a:lnTo>
                      <a:lnTo>
                        <a:pt x="153" y="40"/>
                      </a:lnTo>
                      <a:lnTo>
                        <a:pt x="146" y="39"/>
                      </a:lnTo>
                      <a:lnTo>
                        <a:pt x="135" y="45"/>
                      </a:lnTo>
                      <a:lnTo>
                        <a:pt x="126" y="54"/>
                      </a:lnTo>
                      <a:lnTo>
                        <a:pt x="124" y="66"/>
                      </a:lnTo>
                      <a:lnTo>
                        <a:pt x="122" y="69"/>
                      </a:lnTo>
                      <a:lnTo>
                        <a:pt x="118" y="62"/>
                      </a:lnTo>
                      <a:lnTo>
                        <a:pt x="111" y="59"/>
                      </a:lnTo>
                      <a:lnTo>
                        <a:pt x="101" y="62"/>
                      </a:lnTo>
                      <a:lnTo>
                        <a:pt x="93" y="68"/>
                      </a:lnTo>
                      <a:lnTo>
                        <a:pt x="85" y="72"/>
                      </a:lnTo>
                      <a:lnTo>
                        <a:pt x="80" y="83"/>
                      </a:lnTo>
                      <a:lnTo>
                        <a:pt x="79" y="72"/>
                      </a:lnTo>
                      <a:lnTo>
                        <a:pt x="77" y="62"/>
                      </a:lnTo>
                      <a:lnTo>
                        <a:pt x="70" y="56"/>
                      </a:lnTo>
                      <a:lnTo>
                        <a:pt x="62" y="59"/>
                      </a:lnTo>
                      <a:lnTo>
                        <a:pt x="59" y="56"/>
                      </a:lnTo>
                      <a:lnTo>
                        <a:pt x="52" y="55"/>
                      </a:lnTo>
                      <a:lnTo>
                        <a:pt x="43" y="61"/>
                      </a:lnTo>
                      <a:lnTo>
                        <a:pt x="38" y="70"/>
                      </a:lnTo>
                      <a:lnTo>
                        <a:pt x="31" y="77"/>
                      </a:lnTo>
                      <a:lnTo>
                        <a:pt x="25" y="88"/>
                      </a:lnTo>
                      <a:lnTo>
                        <a:pt x="12" y="105"/>
                      </a:lnTo>
                      <a:lnTo>
                        <a:pt x="3" y="125"/>
                      </a:lnTo>
                      <a:lnTo>
                        <a:pt x="0" y="142"/>
                      </a:lnTo>
                      <a:lnTo>
                        <a:pt x="0" y="155"/>
                      </a:lnTo>
                      <a:lnTo>
                        <a:pt x="4" y="167"/>
                      </a:lnTo>
                      <a:lnTo>
                        <a:pt x="15" y="178"/>
                      </a:lnTo>
                      <a:lnTo>
                        <a:pt x="33" y="175"/>
                      </a:lnTo>
                      <a:lnTo>
                        <a:pt x="54" y="170"/>
                      </a:lnTo>
                      <a:lnTo>
                        <a:pt x="76" y="172"/>
                      </a:lnTo>
                      <a:lnTo>
                        <a:pt x="102" y="175"/>
                      </a:lnTo>
                      <a:lnTo>
                        <a:pt x="128" y="172"/>
                      </a:lnTo>
                      <a:lnTo>
                        <a:pt x="157" y="167"/>
                      </a:lnTo>
                      <a:lnTo>
                        <a:pt x="175" y="166"/>
                      </a:lnTo>
                      <a:lnTo>
                        <a:pt x="202" y="167"/>
                      </a:lnTo>
                      <a:lnTo>
                        <a:pt x="219" y="170"/>
                      </a:lnTo>
                      <a:lnTo>
                        <a:pt x="243" y="171"/>
                      </a:lnTo>
                      <a:lnTo>
                        <a:pt x="256" y="169"/>
                      </a:lnTo>
                      <a:lnTo>
                        <a:pt x="265" y="164"/>
                      </a:lnTo>
                      <a:lnTo>
                        <a:pt x="272" y="158"/>
                      </a:lnTo>
                      <a:lnTo>
                        <a:pt x="270" y="140"/>
                      </a:lnTo>
                      <a:lnTo>
                        <a:pt x="264" y="125"/>
                      </a:lnTo>
                      <a:lnTo>
                        <a:pt x="265" y="106"/>
                      </a:lnTo>
                      <a:lnTo>
                        <a:pt x="268" y="96"/>
                      </a:lnTo>
                      <a:lnTo>
                        <a:pt x="272" y="77"/>
                      </a:lnTo>
                      <a:lnTo>
                        <a:pt x="275" y="56"/>
                      </a:lnTo>
                      <a:lnTo>
                        <a:pt x="276" y="36"/>
                      </a:lnTo>
                      <a:lnTo>
                        <a:pt x="270" y="8"/>
                      </a:lnTo>
                    </a:path>
                  </a:pathLst>
                </a:custGeom>
                <a:solidFill>
                  <a:srgbClr val="4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176640" y="6513480"/>
                  <a:ext cx="322200" cy="274680"/>
                </a:xfrm>
                <a:custGeom>
                  <a:avLst/>
                  <a:gdLst/>
                  <a:ahLst/>
                  <a:rect l="l" t="t" r="r" b="b"/>
                  <a:pathLst>
                    <a:path w="203" h="173">
                      <a:moveTo>
                        <a:pt x="198" y="8"/>
                      </a:moveTo>
                      <a:lnTo>
                        <a:pt x="189" y="2"/>
                      </a:lnTo>
                      <a:lnTo>
                        <a:pt x="180" y="0"/>
                      </a:lnTo>
                      <a:lnTo>
                        <a:pt x="172" y="4"/>
                      </a:lnTo>
                      <a:lnTo>
                        <a:pt x="163" y="10"/>
                      </a:lnTo>
                      <a:lnTo>
                        <a:pt x="155" y="16"/>
                      </a:lnTo>
                      <a:lnTo>
                        <a:pt x="146" y="14"/>
                      </a:lnTo>
                      <a:lnTo>
                        <a:pt x="138" y="16"/>
                      </a:lnTo>
                      <a:lnTo>
                        <a:pt x="130" y="22"/>
                      </a:lnTo>
                      <a:lnTo>
                        <a:pt x="125" y="32"/>
                      </a:lnTo>
                      <a:lnTo>
                        <a:pt x="124" y="44"/>
                      </a:lnTo>
                      <a:lnTo>
                        <a:pt x="123" y="51"/>
                      </a:lnTo>
                      <a:lnTo>
                        <a:pt x="116" y="44"/>
                      </a:lnTo>
                      <a:lnTo>
                        <a:pt x="112" y="39"/>
                      </a:lnTo>
                      <a:lnTo>
                        <a:pt x="107" y="38"/>
                      </a:lnTo>
                      <a:lnTo>
                        <a:pt x="99" y="44"/>
                      </a:lnTo>
                      <a:lnTo>
                        <a:pt x="92" y="52"/>
                      </a:lnTo>
                      <a:lnTo>
                        <a:pt x="90" y="64"/>
                      </a:lnTo>
                      <a:lnTo>
                        <a:pt x="89" y="66"/>
                      </a:lnTo>
                      <a:lnTo>
                        <a:pt x="86" y="60"/>
                      </a:lnTo>
                      <a:lnTo>
                        <a:pt x="81" y="57"/>
                      </a:lnTo>
                      <a:lnTo>
                        <a:pt x="74" y="60"/>
                      </a:lnTo>
                      <a:lnTo>
                        <a:pt x="67" y="66"/>
                      </a:lnTo>
                      <a:lnTo>
                        <a:pt x="62" y="70"/>
                      </a:lnTo>
                      <a:lnTo>
                        <a:pt x="59" y="80"/>
                      </a:lnTo>
                      <a:lnTo>
                        <a:pt x="57" y="70"/>
                      </a:lnTo>
                      <a:lnTo>
                        <a:pt x="56" y="60"/>
                      </a:lnTo>
                      <a:lnTo>
                        <a:pt x="51" y="54"/>
                      </a:lnTo>
                      <a:lnTo>
                        <a:pt x="45" y="57"/>
                      </a:lnTo>
                      <a:lnTo>
                        <a:pt x="43" y="55"/>
                      </a:lnTo>
                      <a:lnTo>
                        <a:pt x="38" y="54"/>
                      </a:lnTo>
                      <a:lnTo>
                        <a:pt x="31" y="59"/>
                      </a:lnTo>
                      <a:lnTo>
                        <a:pt x="28" y="67"/>
                      </a:lnTo>
                      <a:lnTo>
                        <a:pt x="22" y="75"/>
                      </a:lnTo>
                      <a:lnTo>
                        <a:pt x="18" y="86"/>
                      </a:lnTo>
                      <a:lnTo>
                        <a:pt x="8" y="102"/>
                      </a:lnTo>
                      <a:lnTo>
                        <a:pt x="2" y="121"/>
                      </a:lnTo>
                      <a:lnTo>
                        <a:pt x="0" y="137"/>
                      </a:lnTo>
                      <a:lnTo>
                        <a:pt x="0" y="150"/>
                      </a:lnTo>
                      <a:lnTo>
                        <a:pt x="3" y="162"/>
                      </a:lnTo>
                      <a:lnTo>
                        <a:pt x="11" y="172"/>
                      </a:lnTo>
                      <a:lnTo>
                        <a:pt x="24" y="169"/>
                      </a:lnTo>
                      <a:lnTo>
                        <a:pt x="39" y="165"/>
                      </a:lnTo>
                      <a:lnTo>
                        <a:pt x="55" y="167"/>
                      </a:lnTo>
                      <a:lnTo>
                        <a:pt x="74" y="169"/>
                      </a:lnTo>
                      <a:lnTo>
                        <a:pt x="94" y="167"/>
                      </a:lnTo>
                      <a:lnTo>
                        <a:pt x="114" y="162"/>
                      </a:lnTo>
                      <a:lnTo>
                        <a:pt x="128" y="161"/>
                      </a:lnTo>
                      <a:lnTo>
                        <a:pt x="148" y="162"/>
                      </a:lnTo>
                      <a:lnTo>
                        <a:pt x="160" y="165"/>
                      </a:lnTo>
                      <a:lnTo>
                        <a:pt x="178" y="166"/>
                      </a:lnTo>
                      <a:lnTo>
                        <a:pt x="188" y="164"/>
                      </a:lnTo>
                      <a:lnTo>
                        <a:pt x="194" y="159"/>
                      </a:lnTo>
                      <a:lnTo>
                        <a:pt x="199" y="153"/>
                      </a:lnTo>
                      <a:lnTo>
                        <a:pt x="197" y="136"/>
                      </a:lnTo>
                      <a:lnTo>
                        <a:pt x="193" y="121"/>
                      </a:lnTo>
                      <a:lnTo>
                        <a:pt x="194" y="103"/>
                      </a:lnTo>
                      <a:lnTo>
                        <a:pt x="196" y="93"/>
                      </a:lnTo>
                      <a:lnTo>
                        <a:pt x="199" y="75"/>
                      </a:lnTo>
                      <a:lnTo>
                        <a:pt x="201" y="55"/>
                      </a:lnTo>
                      <a:lnTo>
                        <a:pt x="202" y="35"/>
                      </a:lnTo>
                      <a:lnTo>
                        <a:pt x="198" y="8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3427560" y="6513480"/>
                  <a:ext cx="318960" cy="273240"/>
                </a:xfrm>
                <a:custGeom>
                  <a:avLst/>
                  <a:gdLst/>
                  <a:ahLst/>
                  <a:rect l="l" t="t" r="r" b="b"/>
                  <a:pathLst>
                    <a:path w="201" h="172">
                      <a:moveTo>
                        <a:pt x="4" y="8"/>
                      </a:moveTo>
                      <a:lnTo>
                        <a:pt x="13" y="1"/>
                      </a:lnTo>
                      <a:lnTo>
                        <a:pt x="22" y="0"/>
                      </a:lnTo>
                      <a:lnTo>
                        <a:pt x="30" y="3"/>
                      </a:lnTo>
                      <a:lnTo>
                        <a:pt x="39" y="9"/>
                      </a:lnTo>
                      <a:lnTo>
                        <a:pt x="47" y="16"/>
                      </a:lnTo>
                      <a:lnTo>
                        <a:pt x="56" y="13"/>
                      </a:lnTo>
                      <a:lnTo>
                        <a:pt x="64" y="16"/>
                      </a:lnTo>
                      <a:lnTo>
                        <a:pt x="73" y="22"/>
                      </a:lnTo>
                      <a:lnTo>
                        <a:pt x="76" y="31"/>
                      </a:lnTo>
                      <a:lnTo>
                        <a:pt x="77" y="43"/>
                      </a:lnTo>
                      <a:lnTo>
                        <a:pt x="78" y="51"/>
                      </a:lnTo>
                      <a:lnTo>
                        <a:pt x="86" y="43"/>
                      </a:lnTo>
                      <a:lnTo>
                        <a:pt x="91" y="38"/>
                      </a:lnTo>
                      <a:lnTo>
                        <a:pt x="95" y="38"/>
                      </a:lnTo>
                      <a:lnTo>
                        <a:pt x="104" y="43"/>
                      </a:lnTo>
                      <a:lnTo>
                        <a:pt x="110" y="52"/>
                      </a:lnTo>
                      <a:lnTo>
                        <a:pt x="111" y="63"/>
                      </a:lnTo>
                      <a:lnTo>
                        <a:pt x="113" y="66"/>
                      </a:lnTo>
                      <a:lnTo>
                        <a:pt x="116" y="59"/>
                      </a:lnTo>
                      <a:lnTo>
                        <a:pt x="121" y="56"/>
                      </a:lnTo>
                      <a:lnTo>
                        <a:pt x="128" y="59"/>
                      </a:lnTo>
                      <a:lnTo>
                        <a:pt x="135" y="65"/>
                      </a:lnTo>
                      <a:lnTo>
                        <a:pt x="139" y="70"/>
                      </a:lnTo>
                      <a:lnTo>
                        <a:pt x="142" y="80"/>
                      </a:lnTo>
                      <a:lnTo>
                        <a:pt x="144" y="70"/>
                      </a:lnTo>
                      <a:lnTo>
                        <a:pt x="145" y="59"/>
                      </a:lnTo>
                      <a:lnTo>
                        <a:pt x="150" y="54"/>
                      </a:lnTo>
                      <a:lnTo>
                        <a:pt x="156" y="56"/>
                      </a:lnTo>
                      <a:lnTo>
                        <a:pt x="158" y="54"/>
                      </a:lnTo>
                      <a:lnTo>
                        <a:pt x="163" y="53"/>
                      </a:lnTo>
                      <a:lnTo>
                        <a:pt x="169" y="58"/>
                      </a:lnTo>
                      <a:lnTo>
                        <a:pt x="173" y="67"/>
                      </a:lnTo>
                      <a:lnTo>
                        <a:pt x="179" y="74"/>
                      </a:lnTo>
                      <a:lnTo>
                        <a:pt x="183" y="86"/>
                      </a:lnTo>
                      <a:lnTo>
                        <a:pt x="193" y="101"/>
                      </a:lnTo>
                      <a:lnTo>
                        <a:pt x="199" y="120"/>
                      </a:lnTo>
                      <a:lnTo>
                        <a:pt x="200" y="137"/>
                      </a:lnTo>
                      <a:lnTo>
                        <a:pt x="200" y="149"/>
                      </a:lnTo>
                      <a:lnTo>
                        <a:pt x="199" y="162"/>
                      </a:lnTo>
                      <a:lnTo>
                        <a:pt x="190" y="171"/>
                      </a:lnTo>
                      <a:lnTo>
                        <a:pt x="177" y="169"/>
                      </a:lnTo>
                      <a:lnTo>
                        <a:pt x="162" y="164"/>
                      </a:lnTo>
                      <a:lnTo>
                        <a:pt x="146" y="166"/>
                      </a:lnTo>
                      <a:lnTo>
                        <a:pt x="127" y="169"/>
                      </a:lnTo>
                      <a:lnTo>
                        <a:pt x="108" y="166"/>
                      </a:lnTo>
                      <a:lnTo>
                        <a:pt x="88" y="162"/>
                      </a:lnTo>
                      <a:lnTo>
                        <a:pt x="74" y="160"/>
                      </a:lnTo>
                      <a:lnTo>
                        <a:pt x="55" y="162"/>
                      </a:lnTo>
                      <a:lnTo>
                        <a:pt x="42" y="164"/>
                      </a:lnTo>
                      <a:lnTo>
                        <a:pt x="24" y="165"/>
                      </a:lnTo>
                      <a:lnTo>
                        <a:pt x="14" y="164"/>
                      </a:lnTo>
                      <a:lnTo>
                        <a:pt x="8" y="159"/>
                      </a:lnTo>
                      <a:lnTo>
                        <a:pt x="2" y="152"/>
                      </a:lnTo>
                      <a:lnTo>
                        <a:pt x="5" y="135"/>
                      </a:lnTo>
                      <a:lnTo>
                        <a:pt x="9" y="120"/>
                      </a:lnTo>
                      <a:lnTo>
                        <a:pt x="8" y="102"/>
                      </a:lnTo>
                      <a:lnTo>
                        <a:pt x="6" y="92"/>
                      </a:lnTo>
                      <a:lnTo>
                        <a:pt x="2" y="74"/>
                      </a:lnTo>
                      <a:lnTo>
                        <a:pt x="0" y="54"/>
                      </a:lnTo>
                      <a:lnTo>
                        <a:pt x="0" y="34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9" name=""/>
            <p:cNvSpPr/>
            <p:nvPr/>
          </p:nvSpPr>
          <p:spPr>
            <a:xfrm>
              <a:off x="3471120" y="1722600"/>
              <a:ext cx="1888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14ffb"/>
                  </a:solidFill>
                  <a:latin typeface="Times New Roman"/>
                </a:rPr>
                <a:t>On-Line Acces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60" name=""/>
            <p:cNvGraphicFramePr/>
            <p:nvPr/>
          </p:nvGraphicFramePr>
          <p:xfrm>
            <a:off x="2692440" y="2967120"/>
            <a:ext cx="1160280" cy="1170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6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692440" y="2967120"/>
                      <a:ext cx="1160280" cy="11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62" name="" descr=""/>
            <p:cNvPicPr/>
            <p:nvPr/>
          </p:nvPicPr>
          <p:blipFill>
            <a:blip r:embed="rId7"/>
            <a:stretch/>
          </p:blipFill>
          <p:spPr>
            <a:xfrm>
              <a:off x="3733920" y="3111480"/>
              <a:ext cx="1488960" cy="5461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63" name=""/>
            <p:cNvGraphicFramePr/>
            <p:nvPr/>
          </p:nvGraphicFramePr>
          <p:xfrm>
            <a:off x="5207040" y="2890800"/>
            <a:ext cx="1160280" cy="11700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46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207040" y="2890800"/>
                      <a:ext cx="1160280" cy="11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C874-63A1-4608-9753-BE53E40962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56Kbps Modem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ame features but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quires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Digital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lines at POP (more lat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wo incompatible “standards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2 (US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56Flex (Rockwell,Lucent,oth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w limited to 52Kbp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6021-C6FF-4A0A-9867-9D8DD8764A9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Cellular Modem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ll (modem carrier) gets interrupted as cells chan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NP 10 requi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cial interruption tolerant protoco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st be on modems at both end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.34bis modem will work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(sorta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t higher “carrier loss detect” S register on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both sid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ADAB-27CA-40F9-A710-7809DA4C51B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What can ya expect?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ood performance for API, data only applic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le transf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MTP, POP, or API E-mai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F3FD-C789-49BE-B182-804D2F44D36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What d’ya expect?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usy perfomance for DOS file access intensive applic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unning apps from file serv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OS Database app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crosoft Mail 3.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Disabl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processing of Novell server logon scrip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6377-CC42-4E50-86C9-3DDF044279F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Use remote control for those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mote Control Products that use TCP/IP or IPX network transport will work O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ymantec PC Anywhere 3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rbon Cop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c Reachout Remo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E9C5-AB5C-44D8-BD3B-9C9EF9733AF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641400" y="1546200"/>
            <a:ext cx="18234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ISD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430640" y="3230640"/>
            <a:ext cx="70675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114ffb"/>
                </a:solidFill>
                <a:latin typeface="Times New Roman"/>
              </a:rPr>
              <a:t>It Still Does Nothing*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2E6F-7F22-49FD-A579-82BB12186667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3641400" y="1546200"/>
            <a:ext cx="18234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ISD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430640" y="3230640"/>
            <a:ext cx="7067520" cy="17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114ffb"/>
                </a:solidFill>
                <a:latin typeface="Times New Roman"/>
              </a:rPr>
              <a:t>It Still Does Nothing*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*if you don’t try i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52B6-2192-4524-95F7-C208EC5E84C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2059920" y="228600"/>
            <a:ext cx="5358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w Does ISDN Work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1295280"/>
            <a:ext cx="7954920" cy="44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SDN provides a standard “pipe” called the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Basic Rate Interfac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BRI is transmitted over the normal 2-wire copper cable facilities which are familiar to telephone transmission all over the world.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Unlike ordinary analog transmission which restricts this pipe to one conversation at a time, BRI combines, or multiplexes, three communications channels into that one pipe - all of which can be used simultaneousl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AC57-ADF8-445A-96BE-7724F6486B1E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1" name=""/>
          <p:cNvGrpSpPr/>
          <p:nvPr/>
        </p:nvGrpSpPr>
        <p:grpSpPr>
          <a:xfrm>
            <a:off x="1182960" y="1150200"/>
            <a:ext cx="5144040" cy="1783440"/>
            <a:chOff x="1182960" y="1150200"/>
            <a:chExt cx="5144040" cy="1783440"/>
          </a:xfrm>
        </p:grpSpPr>
        <p:grpSp>
          <p:nvGrpSpPr>
            <p:cNvPr id="522" name=""/>
            <p:cNvGrpSpPr/>
            <p:nvPr/>
          </p:nvGrpSpPr>
          <p:grpSpPr>
            <a:xfrm>
              <a:off x="1182960" y="1150200"/>
              <a:ext cx="5022000" cy="1783440"/>
              <a:chOff x="1182960" y="1150200"/>
              <a:chExt cx="5022000" cy="1783440"/>
            </a:xfrm>
          </p:grpSpPr>
          <p:sp>
            <p:nvSpPr>
              <p:cNvPr id="523" name=""/>
              <p:cNvSpPr/>
              <p:nvPr/>
            </p:nvSpPr>
            <p:spPr>
              <a:xfrm rot="20760000">
                <a:off x="1150560" y="1777680"/>
                <a:ext cx="4959360" cy="34272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20760000">
                <a:off x="5986080" y="1166400"/>
                <a:ext cx="176400" cy="34308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20760000">
                <a:off x="1276200" y="1996560"/>
                <a:ext cx="4961160" cy="3416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 rot="20760000">
              <a:off x="6111360" y="1383840"/>
              <a:ext cx="176400" cy="34308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1754640" y="228600"/>
            <a:ext cx="5953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234db"/>
                </a:solidFill>
                <a:latin typeface="Times New Roman"/>
              </a:rPr>
              <a:t>Basic Rate Interface (BRI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rot="20760000">
            <a:off x="1160640" y="2371320"/>
            <a:ext cx="176040" cy="3430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rot="20760000">
            <a:off x="1362240" y="2588760"/>
            <a:ext cx="176040" cy="3430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16960" y="1447920"/>
            <a:ext cx="223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B Chann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213920" y="5029200"/>
            <a:ext cx="691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67900"/>
                </a:solidFill>
                <a:latin typeface="Times New Roman"/>
              </a:rPr>
              <a:t>B Channel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User, Voice, Data, Image, S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93192"/>
                </a:solidFill>
                <a:latin typeface="Times New Roman"/>
              </a:rPr>
              <a:t>D Channel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all Signaling, Set-up, User Packet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507360" y="1523880"/>
            <a:ext cx="249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 BRI = 2B +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29800" y="4114800"/>
            <a:ext cx="273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Times New Roman"/>
              </a:rPr>
              <a:t>16 Kbps D Chan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565920" y="2341440"/>
            <a:ext cx="6896520" cy="1811520"/>
            <a:chOff x="565920" y="2341440"/>
            <a:chExt cx="6896520" cy="1811520"/>
          </a:xfrm>
        </p:grpSpPr>
        <p:sp>
          <p:nvSpPr>
            <p:cNvPr id="535" name=""/>
            <p:cNvSpPr/>
            <p:nvPr/>
          </p:nvSpPr>
          <p:spPr>
            <a:xfrm rot="20880000">
              <a:off x="695160" y="3055680"/>
              <a:ext cx="6708960" cy="4014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20880000">
              <a:off x="604800" y="3730320"/>
              <a:ext cx="243000" cy="40140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20880000">
              <a:off x="7180200" y="2361960"/>
              <a:ext cx="243000" cy="40140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DCB9-D884-480B-BA9B-653C58359FE2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A 64Kbps “line”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lso called “DS0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andard digital US phone call uni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pports one Voice ca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8 bits sampled @ 8,000 times/secon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=64,000 bits per secon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=64Kbp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aster lines are time-div-multiplexed groups of DS0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9FAD-19AC-4377-B217-7ADADA10782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Introduction 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ed to provide services on the Corporate LAN and/or Intranet to remote user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/T support staf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oad Warrior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ther staff working from ho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ractors and vendor support staf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F145-8C2D-42E4-8920-470D92A0813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ISDN BRI features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ecial Digital Line delivered on a single pai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RI - Two 64Kbps B Channe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ll sets up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in secon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e spare B f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o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alog Modem (some have built-i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bine B’s for 128Kbps wit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ONDING (no “demand” to it!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PPP (Multilink PPP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1EF9-0183-4C40-AA3F-992E3833F9E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ISDN “Modem”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t really a “Modem” - ISDN T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ernal / External / PC car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ternal has serial port connection to P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rial bottleneck causes less than optimum performance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(more late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me have Parallel p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ta Compres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p to 4X better throughput (200-300Kbp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81C1-0BA7-4787-A265-69AEAEAB7AB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ISDN Router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ternal with 10Mbps Ethernet (10BaseT) p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C requires LAN car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me with BOOTP/DHCP to dynamically assign IP addres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ta Compres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p to 4X better throughput (200-300Kbp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5021-9995-4635-8E7B-BD2F51FD5FA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What does ISDN cost?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sidential BR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stall ~$15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nthly ~$34.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B usage charge same as POTS phone li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Band” (8 miles) “Nickel zone” call .05  untim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 Band,” “C Band” calls tim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2F77-E345-418F-B299-3DEBE19A9FF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How to order ISDN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ll 1-800-TEAM-DATA (Business orders from CBS, EBS, or SBS. See phone bill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rder National ISDN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witched Voice/Data on BOTH B channe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hone numbers on BOTH B channe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dicate equipment vend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SDN Provisioning center will FAX order confirmation with SPI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1657-610A-40D6-83CD-05F10953E0D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Choosing ISDN equipment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hoose built-in NT (Network Terminato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ok for unit with one or two POTS jacks for analog phone and FAX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ok for EZ setu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891D-5957-4507-9E61-BAA95782836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Configuring ISDN device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witch type: National ISDN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nter SPIDs, LDN (phone number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DN1: 847936121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ID1: 8479361212011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DN2: 847936121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ID2: 8479361213011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179D-65AC-48D9-A7A6-C9AABFA5C5C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Serial is a Killer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24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SYNCH port ships 10 bits for 8-bit byte of data, a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20% overhea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24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38,400bps, 57,600bps, 115,200bps (not as fast as raw 128Kbps 2B ISDN!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24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quires 16550 or 16650 UART with FIFO buff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24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PC / Windows cannot service serial port interrupts fast enough, losing dat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Lowering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the port speed may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improve throughput performance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! (check PPP stat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0323-79AC-4B15-838B-E0E489F95EF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Network Protocols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755640" y="3467160"/>
          <a:ext cx="7931160" cy="19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467160"/>
                    <a:ext cx="793116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B6BD-852E-446B-AF4F-C24BF961660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Network Protocols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CP/I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PX/SPX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tBEUI (NetBIO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450720" y="3619440"/>
          <a:ext cx="7931160" cy="19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720" y="3619440"/>
                    <a:ext cx="793116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0643-0373-4C4B-B4D8-DE69D168DEC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Introduction 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day’s Applications require live, “real time” acces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mai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9E06-69C1-4D0F-AA8F-B959A3FF50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TCP/IP 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niversal DOD protocol of the Intern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quires unique network address (or NAT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outable - choice of routing protocols, typically RI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calable packet siz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mmonly used to carry (tunnel) other protocols like IPX, NetBEUI, SN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9E05-0E92-467D-BC02-2AB10724E23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Remote TCP/IP Network Planning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ith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ard code Client IP addres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r node identification, DNS rev, Secur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ssign IP addresses during PPP negoti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rver has IP address poo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323D-615E-4B5D-8F67-42F14C1DD2B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Remote TCP/IP Network Planning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Eithe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eat remote nodes as separate advertised  subn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e existing subnet with proxy ARP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ame DNS, WWW, Email, etc. server addres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B09B-751C-49BF-B616-EC2667FA278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Remote TCP/IP Network Planning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ame DNS, WWW, Email, etc. server IP addres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52E8-B9D7-4F5D-975F-2D4137DF3A9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VPN - Secure TCP/IP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Network Layer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tscape  (Applicatio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TTP (Presentation/Sessio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CP (Transpor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P (Network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33"/>
                </a:solidFill>
                <a:latin typeface="Arial"/>
              </a:rPr>
              <a:t>ENCRYP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PP (Data Link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rial Modem (Physical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2B86-6ABE-4360-93C2-76E8E802487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VPN - Secure TCP/IP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ure link from node to firewall, even across unsecure networks, i.e.. the Interne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PSe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rt of IETF IPv6 (but v6 not required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iple DES encryp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ven IP address encryp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55F7-6634-42FE-9847-5B8FFD08476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IPX / SPX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ovell Netware / IntraNetWa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ypical 128Kbyte (small) packet siz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imarily File or Print servi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roadcast to locate serv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AP service broadcas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IP routing upda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D1E1-6CE5-4FBC-88C1-D0AB2A0D5B5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Remote IPX Network Planning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w arbitrary IPX networ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PX network-node address during PPP negoti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rver has IPX network address for remote nod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mote client generates node addr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e outbound SAP filters (unless server is remot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D58D-C8ED-46F5-B743-D949F13F4E0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NetBEUI</a:t>
            </a:r>
            <a:br>
              <a:rPr sz="4200"/>
            </a:b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ff0066"/>
                </a:solidFill>
                <a:latin typeface="Times New Roman"/>
              </a:rPr>
              <a:t>Net BOO! Hiss!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tension of NetBIO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veloped by IBM as basic LAN protoco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mulates BIOS file ac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ter by Microsoft LAN Manag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Everything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is a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broadca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Not rout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ed by WFW, Win95, NT Network choos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ECCF-8166-4BB2-A50A-47560D4ABF8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NetBEUI Network Planning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ed it to make access friendl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est to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tunnel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it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tBEUI&lt;---&gt;WINS &lt;---&gt; TCP/IP &lt;---&gt; WINS &lt;---&gt;NetBEU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tBEUI &lt;---&gt; IPX &lt;---&gt; NetBEU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r use NBCP in PPP link (like RAS serv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r… use local LMHOSTS fi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F960-BF5F-48CE-95B4-37D51116F51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Summary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to provide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transparen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remote access to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all service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on multiprotocol LAN serv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to maximize performa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to maintain secur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figure Windows 95 / NT 4.0 cli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figure Access Server / Rout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DC91-BD1A-464F-9FCC-30EB8447DE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ff00"/>
                </a:solidFill>
                <a:latin typeface="Times New Roman"/>
              </a:rPr>
              <a:t>On the client side</a:t>
            </a:r>
            <a:endParaRPr b="0" lang="en-US" sz="6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9324-66B4-428E-B3A9-5FBCAD009AC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Windows 3.1, 3.11</a:t>
            </a:r>
            <a:br>
              <a:rPr sz="4200"/>
            </a:b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(Windows for Workgroups)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commend Stampede Remote Office Gol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ww.stampede.c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0119-3B99-4FE1-956D-E3C3FBE8E38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Windows 95/NT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al-up” network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Control Panel or Accessor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stall from CD as “Communication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imary logon --&gt; Windows logon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nter node “username”, password. Click on “Save password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0EB8-82AF-4597-9664-E8449ED7105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Resist the urge to tinker!</a:t>
            </a:r>
            <a:endParaRPr b="0" lang="en-US" sz="5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icrosoft talks funny.  Some options have strange behavior. 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The defaults are usually correct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0586-BF15-4DF3-A7C0-3266A51867D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ff00"/>
                </a:solidFill>
                <a:latin typeface="Times New Roman"/>
              </a:rPr>
              <a:t>On the server side</a:t>
            </a:r>
            <a:endParaRPr b="0" lang="en-US" sz="69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65E3-7AC7-4998-8884-6DE14AC3A86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1603080" y="228600"/>
            <a:ext cx="65995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234db"/>
                </a:solidFill>
                <a:latin typeface="Times New Roman"/>
              </a:rPr>
              <a:t>Primary Rate Interface (PRI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8960" y="1279440"/>
            <a:ext cx="32374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PRI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ited States: 23 B+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urope/Asia: 30/31 B+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00040" y="2743200"/>
            <a:ext cx="2294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67900"/>
                </a:solidFill>
                <a:latin typeface="Arial"/>
              </a:rPr>
              <a:t>B Channels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Voice,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age, S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3359160" y="5029200"/>
            <a:ext cx="5168880" cy="368280"/>
            <a:chOff x="3359160" y="5029200"/>
            <a:chExt cx="5168880" cy="368280"/>
          </a:xfrm>
        </p:grpSpPr>
        <p:sp>
          <p:nvSpPr>
            <p:cNvPr id="598" name=""/>
            <p:cNvSpPr/>
            <p:nvPr/>
          </p:nvSpPr>
          <p:spPr>
            <a:xfrm>
              <a:off x="3452760" y="5029200"/>
              <a:ext cx="4921200" cy="368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359160" y="5029200"/>
              <a:ext cx="139680" cy="36828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353440" y="5029200"/>
              <a:ext cx="174600" cy="36828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459360" y="4282920"/>
            <a:ext cx="21326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93192"/>
                </a:solidFill>
                <a:latin typeface="Arial"/>
              </a:rPr>
              <a:t>D Channels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 Signaling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-up, Us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cket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783680" y="3809880"/>
            <a:ext cx="198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23 B Chann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861080" y="5692680"/>
            <a:ext cx="2597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64 Kbps D Chan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3790800" y="1676520"/>
            <a:ext cx="4973760" cy="1946160"/>
            <a:chOff x="3790800" y="1676520"/>
            <a:chExt cx="4973760" cy="1946160"/>
          </a:xfrm>
        </p:grpSpPr>
        <p:grpSp>
          <p:nvGrpSpPr>
            <p:cNvPr id="605" name=""/>
            <p:cNvGrpSpPr/>
            <p:nvPr/>
          </p:nvGrpSpPr>
          <p:grpSpPr>
            <a:xfrm>
              <a:off x="3790800" y="2521080"/>
              <a:ext cx="4127760" cy="901440"/>
              <a:chOff x="3790800" y="2521080"/>
              <a:chExt cx="4127760" cy="901440"/>
            </a:xfrm>
          </p:grpSpPr>
          <p:grpSp>
            <p:nvGrpSpPr>
              <p:cNvPr id="606" name=""/>
              <p:cNvGrpSpPr/>
              <p:nvPr/>
            </p:nvGrpSpPr>
            <p:grpSpPr>
              <a:xfrm>
                <a:off x="3790800" y="2521080"/>
                <a:ext cx="3670560" cy="444240"/>
                <a:chOff x="3790800" y="2521080"/>
                <a:chExt cx="3670560" cy="44424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3857760" y="2521080"/>
                  <a:ext cx="3493800" cy="44424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790800" y="2521080"/>
                  <a:ext cx="96840" cy="44424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7340760" y="2521080"/>
                  <a:ext cx="120600" cy="44424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3943440" y="2673360"/>
                <a:ext cx="3670200" cy="444600"/>
                <a:chOff x="3943440" y="2673360"/>
                <a:chExt cx="3670200" cy="44460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4010040" y="2673360"/>
                  <a:ext cx="3494160" cy="44460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3943440" y="2673360"/>
                  <a:ext cx="96840" cy="44460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7493040" y="2673360"/>
                  <a:ext cx="120600" cy="44460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4095720" y="2825640"/>
                <a:ext cx="3670200" cy="444600"/>
                <a:chOff x="4095720" y="2825640"/>
                <a:chExt cx="3670200" cy="44460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4162320" y="2825640"/>
                  <a:ext cx="3494160" cy="44460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4095720" y="2825640"/>
                  <a:ext cx="96840" cy="44460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7645320" y="2825640"/>
                  <a:ext cx="120600" cy="44460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4248000" y="2978280"/>
                <a:ext cx="3670560" cy="444240"/>
                <a:chOff x="4248000" y="2978280"/>
                <a:chExt cx="3670560" cy="44424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4314960" y="2978280"/>
                  <a:ext cx="3493800" cy="444240"/>
                </a:xfrm>
                <a:prstGeom prst="rect">
                  <a:avLst/>
                </a:prstGeom>
                <a:solidFill>
                  <a:srgbClr val="cecece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4248000" y="2978280"/>
                  <a:ext cx="96840" cy="44424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7797960" y="2978280"/>
                  <a:ext cx="120600" cy="444240"/>
                </a:xfrm>
                <a:prstGeom prst="ellipse">
                  <a:avLst/>
                </a:prstGeom>
                <a:solidFill>
                  <a:srgbClr val="cecece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2" name=""/>
            <p:cNvSpPr/>
            <p:nvPr/>
          </p:nvSpPr>
          <p:spPr>
            <a:xfrm rot="16080000">
              <a:off x="5591160" y="2368800"/>
              <a:ext cx="1844640" cy="62208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4425840" y="2368440"/>
              <a:ext cx="4025880" cy="444600"/>
              <a:chOff x="4425840" y="2368440"/>
              <a:chExt cx="4025880" cy="444600"/>
            </a:xfrm>
          </p:grpSpPr>
          <p:sp>
            <p:nvSpPr>
              <p:cNvPr id="624" name=""/>
              <p:cNvSpPr/>
              <p:nvPr/>
            </p:nvSpPr>
            <p:spPr>
              <a:xfrm>
                <a:off x="4498920" y="2368440"/>
                <a:ext cx="3832200" cy="44460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425840" y="2368440"/>
                <a:ext cx="106560" cy="44460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318520" y="2368440"/>
                <a:ext cx="133200" cy="44460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4273560" y="2216160"/>
              <a:ext cx="4025880" cy="444600"/>
              <a:chOff x="4273560" y="2216160"/>
              <a:chExt cx="4025880" cy="444600"/>
            </a:xfrm>
          </p:grpSpPr>
          <p:sp>
            <p:nvSpPr>
              <p:cNvPr id="628" name=""/>
              <p:cNvSpPr/>
              <p:nvPr/>
            </p:nvSpPr>
            <p:spPr>
              <a:xfrm>
                <a:off x="4346640" y="2216160"/>
                <a:ext cx="3832200" cy="44460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273560" y="2216160"/>
                <a:ext cx="106200" cy="44460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8166240" y="2216160"/>
                <a:ext cx="133200" cy="44460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4427640" y="2521080"/>
              <a:ext cx="3490920" cy="444240"/>
              <a:chOff x="4427640" y="2521080"/>
              <a:chExt cx="3490920" cy="444240"/>
            </a:xfrm>
          </p:grpSpPr>
          <p:sp>
            <p:nvSpPr>
              <p:cNvPr id="632" name=""/>
              <p:cNvSpPr/>
              <p:nvPr/>
            </p:nvSpPr>
            <p:spPr>
              <a:xfrm>
                <a:off x="4491000" y="2521080"/>
                <a:ext cx="3324240" cy="4442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427640" y="2521080"/>
                <a:ext cx="90360" cy="44424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805880" y="2521080"/>
                <a:ext cx="112680" cy="44424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4579920" y="2673360"/>
              <a:ext cx="3490920" cy="444600"/>
              <a:chOff x="4579920" y="2673360"/>
              <a:chExt cx="3490920" cy="444600"/>
            </a:xfrm>
          </p:grpSpPr>
          <p:sp>
            <p:nvSpPr>
              <p:cNvPr id="636" name=""/>
              <p:cNvSpPr/>
              <p:nvPr/>
            </p:nvSpPr>
            <p:spPr>
              <a:xfrm>
                <a:off x="4643280" y="2673360"/>
                <a:ext cx="3324240" cy="44460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579920" y="2673360"/>
                <a:ext cx="90360" cy="44460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958160" y="2673360"/>
                <a:ext cx="112680" cy="44460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4781520" y="2825640"/>
              <a:ext cx="3670200" cy="444600"/>
              <a:chOff x="4781520" y="2825640"/>
              <a:chExt cx="3670200" cy="444600"/>
            </a:xfrm>
          </p:grpSpPr>
          <p:sp>
            <p:nvSpPr>
              <p:cNvPr id="640" name=""/>
              <p:cNvSpPr/>
              <p:nvPr/>
            </p:nvSpPr>
            <p:spPr>
              <a:xfrm>
                <a:off x="4848120" y="2825640"/>
                <a:ext cx="3494160" cy="44460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781520" y="2825640"/>
                <a:ext cx="96840" cy="44460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331120" y="2825640"/>
                <a:ext cx="120600" cy="44460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4605480" y="1835280"/>
              <a:ext cx="3313080" cy="444240"/>
              <a:chOff x="4605480" y="1835280"/>
              <a:chExt cx="3313080" cy="444240"/>
            </a:xfrm>
          </p:grpSpPr>
          <p:sp>
            <p:nvSpPr>
              <p:cNvPr id="644" name=""/>
              <p:cNvSpPr/>
              <p:nvPr/>
            </p:nvSpPr>
            <p:spPr>
              <a:xfrm>
                <a:off x="4665600" y="1835280"/>
                <a:ext cx="3154320" cy="4442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605480" y="1835280"/>
                <a:ext cx="85680" cy="44424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810560" y="1835280"/>
                <a:ext cx="108000" cy="44424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4121280" y="2063880"/>
              <a:ext cx="4025880" cy="444240"/>
              <a:chOff x="4121280" y="2063880"/>
              <a:chExt cx="4025880" cy="444240"/>
            </a:xfrm>
          </p:grpSpPr>
          <p:sp>
            <p:nvSpPr>
              <p:cNvPr id="648" name=""/>
              <p:cNvSpPr/>
              <p:nvPr/>
            </p:nvSpPr>
            <p:spPr>
              <a:xfrm>
                <a:off x="4194000" y="2063880"/>
                <a:ext cx="3832560" cy="4442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121280" y="2063880"/>
                <a:ext cx="106200" cy="44424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8013600" y="2063880"/>
                <a:ext cx="133560" cy="44424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4757760" y="1987560"/>
              <a:ext cx="3313080" cy="444600"/>
              <a:chOff x="4757760" y="1987560"/>
              <a:chExt cx="3313080" cy="444600"/>
            </a:xfrm>
          </p:grpSpPr>
          <p:sp>
            <p:nvSpPr>
              <p:cNvPr id="652" name=""/>
              <p:cNvSpPr/>
              <p:nvPr/>
            </p:nvSpPr>
            <p:spPr>
              <a:xfrm>
                <a:off x="4818240" y="1987560"/>
                <a:ext cx="3154320" cy="44460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757760" y="1987560"/>
                <a:ext cx="85680" cy="44460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962840" y="1987560"/>
                <a:ext cx="108000" cy="44460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4910040" y="2139840"/>
              <a:ext cx="3313080" cy="444600"/>
              <a:chOff x="4910040" y="2139840"/>
              <a:chExt cx="3313080" cy="444600"/>
            </a:xfrm>
          </p:grpSpPr>
          <p:sp>
            <p:nvSpPr>
              <p:cNvPr id="656" name=""/>
              <p:cNvSpPr/>
              <p:nvPr/>
            </p:nvSpPr>
            <p:spPr>
              <a:xfrm>
                <a:off x="4970520" y="2139840"/>
                <a:ext cx="3154320" cy="44460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910040" y="2139840"/>
                <a:ext cx="85680" cy="44460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115480" y="2139840"/>
                <a:ext cx="107640" cy="44460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5062680" y="2292480"/>
              <a:ext cx="3313080" cy="444240"/>
              <a:chOff x="5062680" y="2292480"/>
              <a:chExt cx="3313080" cy="444240"/>
            </a:xfrm>
          </p:grpSpPr>
          <p:sp>
            <p:nvSpPr>
              <p:cNvPr id="660" name=""/>
              <p:cNvSpPr/>
              <p:nvPr/>
            </p:nvSpPr>
            <p:spPr>
              <a:xfrm>
                <a:off x="5122800" y="2292480"/>
                <a:ext cx="3154320" cy="4442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062680" y="2292480"/>
                <a:ext cx="85680" cy="44424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267760" y="2292480"/>
                <a:ext cx="108000" cy="44424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5097600" y="2521080"/>
              <a:ext cx="2896920" cy="352440"/>
              <a:chOff x="5097600" y="2521080"/>
              <a:chExt cx="2896920" cy="352440"/>
            </a:xfrm>
          </p:grpSpPr>
          <p:sp>
            <p:nvSpPr>
              <p:cNvPr id="664" name=""/>
              <p:cNvSpPr/>
              <p:nvPr/>
            </p:nvSpPr>
            <p:spPr>
              <a:xfrm>
                <a:off x="5151600" y="2521080"/>
                <a:ext cx="2755800" cy="3524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097600" y="2521080"/>
                <a:ext cx="72720" cy="35244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902720" y="2521080"/>
                <a:ext cx="91800" cy="35244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5216400" y="2673360"/>
              <a:ext cx="2778120" cy="352440"/>
              <a:chOff x="5216400" y="2673360"/>
              <a:chExt cx="2778120" cy="352440"/>
            </a:xfrm>
          </p:grpSpPr>
          <p:sp>
            <p:nvSpPr>
              <p:cNvPr id="668" name=""/>
              <p:cNvSpPr/>
              <p:nvPr/>
            </p:nvSpPr>
            <p:spPr>
              <a:xfrm>
                <a:off x="5267160" y="2673360"/>
                <a:ext cx="2644920" cy="3524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216400" y="2673360"/>
                <a:ext cx="68400" cy="35244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907400" y="2673360"/>
                <a:ext cx="87120" cy="35244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4933800" y="2978280"/>
              <a:ext cx="3670560" cy="444240"/>
              <a:chOff x="4933800" y="2978280"/>
              <a:chExt cx="3670560" cy="444240"/>
            </a:xfrm>
          </p:grpSpPr>
          <p:sp>
            <p:nvSpPr>
              <p:cNvPr id="672" name=""/>
              <p:cNvSpPr/>
              <p:nvPr/>
            </p:nvSpPr>
            <p:spPr>
              <a:xfrm>
                <a:off x="5000760" y="2978280"/>
                <a:ext cx="3493800" cy="4442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933800" y="2978280"/>
                <a:ext cx="96840" cy="44424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483760" y="2978280"/>
                <a:ext cx="120600" cy="44424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>
              <a:off x="6396120" y="1676520"/>
              <a:ext cx="2368440" cy="1946160"/>
            </a:xfrm>
            <a:custGeom>
              <a:avLst/>
              <a:gdLst/>
              <a:ahLst/>
              <a:rect l="l" t="t" r="r" b="b"/>
              <a:pathLst>
                <a:path w="1492" h="1226">
                  <a:moveTo>
                    <a:pt x="38" y="1225"/>
                  </a:moveTo>
                  <a:lnTo>
                    <a:pt x="1341" y="1177"/>
                  </a:lnTo>
                  <a:lnTo>
                    <a:pt x="1361" y="1167"/>
                  </a:lnTo>
                  <a:lnTo>
                    <a:pt x="1379" y="1152"/>
                  </a:lnTo>
                  <a:lnTo>
                    <a:pt x="1398" y="1134"/>
                  </a:lnTo>
                  <a:lnTo>
                    <a:pt x="1415" y="1109"/>
                  </a:lnTo>
                  <a:lnTo>
                    <a:pt x="1439" y="1070"/>
                  </a:lnTo>
                  <a:lnTo>
                    <a:pt x="1455" y="1019"/>
                  </a:lnTo>
                  <a:lnTo>
                    <a:pt x="1467" y="961"/>
                  </a:lnTo>
                  <a:lnTo>
                    <a:pt x="1479" y="886"/>
                  </a:lnTo>
                  <a:lnTo>
                    <a:pt x="1488" y="809"/>
                  </a:lnTo>
                  <a:lnTo>
                    <a:pt x="1491" y="734"/>
                  </a:lnTo>
                  <a:lnTo>
                    <a:pt x="1490" y="651"/>
                  </a:lnTo>
                  <a:lnTo>
                    <a:pt x="1488" y="585"/>
                  </a:lnTo>
                  <a:lnTo>
                    <a:pt x="1483" y="484"/>
                  </a:lnTo>
                  <a:lnTo>
                    <a:pt x="1478" y="412"/>
                  </a:lnTo>
                  <a:lnTo>
                    <a:pt x="1468" y="348"/>
                  </a:lnTo>
                  <a:lnTo>
                    <a:pt x="1461" y="292"/>
                  </a:lnTo>
                  <a:lnTo>
                    <a:pt x="1444" y="221"/>
                  </a:lnTo>
                  <a:lnTo>
                    <a:pt x="1423" y="158"/>
                  </a:lnTo>
                  <a:lnTo>
                    <a:pt x="1405" y="105"/>
                  </a:lnTo>
                  <a:lnTo>
                    <a:pt x="1381" y="59"/>
                  </a:lnTo>
                  <a:lnTo>
                    <a:pt x="1358" y="36"/>
                  </a:lnTo>
                  <a:lnTo>
                    <a:pt x="1339" y="14"/>
                  </a:lnTo>
                  <a:lnTo>
                    <a:pt x="1320" y="4"/>
                  </a:lnTo>
                  <a:lnTo>
                    <a:pt x="1301" y="0"/>
                  </a:lnTo>
                  <a:lnTo>
                    <a:pt x="0" y="48"/>
                  </a:lnTo>
                  <a:lnTo>
                    <a:pt x="34" y="62"/>
                  </a:lnTo>
                  <a:lnTo>
                    <a:pt x="66" y="88"/>
                  </a:lnTo>
                  <a:lnTo>
                    <a:pt x="83" y="109"/>
                  </a:lnTo>
                  <a:lnTo>
                    <a:pt x="106" y="153"/>
                  </a:lnTo>
                  <a:lnTo>
                    <a:pt x="125" y="211"/>
                  </a:lnTo>
                  <a:lnTo>
                    <a:pt x="141" y="264"/>
                  </a:lnTo>
                  <a:lnTo>
                    <a:pt x="155" y="329"/>
                  </a:lnTo>
                  <a:lnTo>
                    <a:pt x="165" y="392"/>
                  </a:lnTo>
                  <a:lnTo>
                    <a:pt x="174" y="454"/>
                  </a:lnTo>
                  <a:lnTo>
                    <a:pt x="180" y="517"/>
                  </a:lnTo>
                  <a:lnTo>
                    <a:pt x="193" y="602"/>
                  </a:lnTo>
                  <a:lnTo>
                    <a:pt x="195" y="686"/>
                  </a:lnTo>
                  <a:lnTo>
                    <a:pt x="189" y="786"/>
                  </a:lnTo>
                  <a:lnTo>
                    <a:pt x="180" y="885"/>
                  </a:lnTo>
                  <a:lnTo>
                    <a:pt x="171" y="954"/>
                  </a:lnTo>
                  <a:lnTo>
                    <a:pt x="161" y="1020"/>
                  </a:lnTo>
                  <a:lnTo>
                    <a:pt x="145" y="1086"/>
                  </a:lnTo>
                  <a:lnTo>
                    <a:pt x="125" y="1137"/>
                  </a:lnTo>
                  <a:lnTo>
                    <a:pt x="111" y="1163"/>
                  </a:lnTo>
                  <a:lnTo>
                    <a:pt x="91" y="1189"/>
                  </a:lnTo>
                  <a:lnTo>
                    <a:pt x="69" y="1205"/>
                  </a:lnTo>
                  <a:lnTo>
                    <a:pt x="38" y="1225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8D4E-8967-4C3C-9893-587E1AB27A2A}" type="slidenum">
              <a:t>5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PRI, the </a:t>
            </a:r>
            <a:r>
              <a:rPr b="0" lang="en-US" sz="4200" spc="-1" strike="noStrike" u="sng">
                <a:solidFill>
                  <a:srgbClr val="ffff00"/>
                </a:solidFill>
                <a:uFillTx/>
                <a:latin typeface="Times New Roman"/>
              </a:rPr>
              <a:t>Hot Setup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3 channels (lines) serve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both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analog modem and digital ISDN us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gital “further in” gives clearer l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 channel indicates voice call ---&gt; software modem “emulator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 channel indicates digital call ---&gt; digital “all the way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D719-EECD-4483-B8AF-18FEE1A29C3A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PRI, the </a:t>
            </a:r>
            <a:r>
              <a:rPr b="0" lang="en-US" sz="4200" spc="-1" strike="noStrike" u="sng">
                <a:solidFill>
                  <a:srgbClr val="ffff00"/>
                </a:solidFill>
                <a:uFillTx/>
                <a:latin typeface="Times New Roman"/>
              </a:rPr>
              <a:t>Hot Setup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pports “Caller ID” for logging, secur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3 lines on one port for high dens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p to 268 lines in one 19” rack device (Bay Networks)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tup used by large ISPs (i.e.. AO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7BDE-DCC0-4792-A80E-A1511911ACA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Resist the urge to tinker!</a:t>
            </a:r>
            <a:endParaRPr b="0" lang="en-US" sz="5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"/>
              </a:rPr>
              <a:t>The defaults are usually correct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676B-666E-4E4D-9A13-BC697652DBD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Where to get more information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an Kegel’s ISDN page - http://alumni.caltech.edu:80/~dank/isd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endo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ascend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adtran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baynetworks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cisco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microsoft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shiva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CC55-790A-44C5-B31A-E1355A0EFD6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Summary (cont.)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toc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CP/IP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ternet / Intran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icrosoft 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P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vell NetWare / IntraNetWa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icrosoft 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TBEUI (NETBIO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indows for Workgroup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indows 9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icrosoft 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1AA7-B032-4B08-B096-62803E0D62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User database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oc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y be limit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FTP, DNS serv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ata may be expos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uthentication database serv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ACACS, TACAS+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isc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di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ffff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th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55C9-4BC7-41DF-9C90-92F2594DA0A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Activity logging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YSLO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NMP Trap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uthentication database serv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ACA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di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rse logs with Perl to do reports, bill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6A5A-8A55-475B-AC66-6CCEA190835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Where to get more information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senet Newsgroups                         (or… use http://www.dejanews.com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.protocols.tcp-i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.protocols.pp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.dcom.isd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.dcom.mode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.dcom.serv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.dcom.mode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54D1-7D02-4731-94FB-2D1F3A3C0E5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Where to get more information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Network Computing Magazin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http://techweb.cmp.com/nc/doc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ISDN Literacy Book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      Gerald L. Hopkins,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ddison-Wesley Pub. Co. ISBN#0201629798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591B-9C48-4517-9525-A1E0DB5CD1B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What remote access are you  using now?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types of servers do you hav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re you using or planning on using NT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kind of remote users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easy for users to dial in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usable is the access speed?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kind of security is in plac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ken authent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P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4AE1-FBBB-496B-8E47-4510774C8F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Agenda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a little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heory on Communications technolog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urity metho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twork plann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indows 95 configur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General) Access server configur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D370-DF0C-40BF-B3AD-9A9D39F5088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Up and Down the stack 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Network Layers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(again???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sentation/Ses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ata Lin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5403960" y="1746360"/>
          <a:ext cx="3651120" cy="31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03960" y="1746360"/>
                    <a:ext cx="3651120" cy="31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ke Andrew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2A8C-7405-40DF-9BAB-E1826C03802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27/97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Mike Andrews</dc:creator>
  <dc:description/>
  <dc:language>en-US</dc:language>
  <cp:lastModifiedBy>PSA</cp:lastModifiedBy>
  <dcterms:modified xsi:type="dcterms:W3CDTF">1998-08-27T01:23:12Z</dcterms:modified>
  <cp:revision>23</cp:revision>
  <dc:subject/>
  <dc:title>Tra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olltech.com</vt:lpwstr>
  </property>
  <property fmtid="{D5CDD505-2E9C-101B-9397-08002B2CF9AE}" pid="9" name="LinkColor">
    <vt:r8>16711782</vt:r8>
  </property>
  <property fmtid="{D5CDD505-2E9C-101B-9397-08002B2CF9AE}" pid="10" name="MailAddress">
    <vt:lpwstr>davidy@colltech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TMP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